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9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68B-14D2-4C98-B019-C7A65504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A0F-346B-42D3-B251-BDFFEA08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5BF-84BE-4673-B70D-FE2B3023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BED-52C7-4DF4-BDBC-13F03711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04A-8F9B-4BE4-9F40-C1DFB639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13A3-5640-4B60-BE1B-D36063AE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9FFC-7A75-4836-8138-5073FD6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FC7-F7E4-4909-B578-69EA02CD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C0E-B46C-47C6-92C6-CEC9F76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85A-F938-4D16-B327-7B697AE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98B6-0CF4-4139-8FF8-F7C4D264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5D8-65F7-4542-B65F-6A0D2632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58A8-15E2-4166-A6E1-97D6EF4F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6DE-0B75-4166-9F9E-B25FD62C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2726-7AC6-425F-BED1-3599CE19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B5D-CC5C-4E63-801D-B5DEA221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B32-FC83-40D6-A6DD-4174092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85EB0-C5B3-489C-8D3A-AB61051D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AEAAD-2F48-49F2-9D03-C6F33162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6349F-5CF5-4201-993D-C21A448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1C16F-6B6A-41EB-89D3-3A9E2A5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AC342-75CC-4C29-9962-A40AA408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29F-4767-4A77-A12E-DD86122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1E20F-4546-4F54-B791-29D1B1C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DE2F2-4080-495F-AF45-3D714F2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5003D-FB5B-46CE-85E0-7AEEA4A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7EC7D-6418-490A-8FF7-0DDBC2B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923B6-84AE-4C27-9362-57FEB133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BAD58-F5E4-462B-A3A0-5BA00D80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B9958-9E5C-4680-8CCE-F3E8584E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4104-05A4-4660-8FD2-C773FEA0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BC095-2111-44C5-8397-6714893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62E9-E840-480C-9562-ABC33D36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3C3-6D34-4954-9AAF-0CFEE36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468C-04AB-4D05-87D3-8EBDCCB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1612-DD2F-4B89-A85D-0FC2CFC0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DFE7-AC0D-4C45-9201-A4D3F45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28F9-E2E8-4D18-B5D3-2E8176D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308E-0F04-41D0-AA64-DB128F8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C3B6-2856-4C14-A69E-3ACEBBA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C5A3-8306-4B47-BF5D-7F340EC7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D2E4-12D1-4FD6-A422-AE66C3DB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CCBD-869A-492F-870D-598DD070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A4D1-5D4A-4873-A180-02AD0171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B54-57BF-405F-8BF3-B394C54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D0C9-94B7-48FB-B40B-B1574CB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BAD8A-C697-49BD-998B-686C3575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4497D-4A26-4C67-9F8B-A1616C15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AC56-741F-44DE-B878-BF942BD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8813-EA28-43E5-9D89-0E98A65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6FC9-38C2-4EEC-BB2D-3805D962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D137-9486-40F1-8BF1-7DE46376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8CEA-808A-4D7B-8B4A-34932423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98F13-032C-45C2-B2E5-818601E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6F64-CAF7-491B-944E-4AE0E5D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35F-73D3-4632-A0FB-44F4931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E991-4CC8-4927-8AE2-03D40326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7CF9-7D7E-470D-9113-918F3522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4D90-7747-482A-8980-9EE54357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1B869-CBF9-430E-B17A-336485EB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6445A-9C6A-4687-9598-738C36E0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C2F9-F1ED-4432-B82A-42E486D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66BF0-61D8-4E80-891B-7DFEA23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FD90D-5923-4678-96E7-B405D4A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31AA0-2045-4AB6-AD94-E28140C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88BB2-849D-45D4-949C-A34F288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89B-D7F5-4B64-9ADD-C0FC6BCC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245D-9114-4932-942D-0F3C717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7FA7-F1D4-498D-89FA-E9EFD628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78BA-C6D8-43CA-9182-F937B2E8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E8BE1-370E-462A-852D-E465BCF2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0FF21-15E3-44BB-A869-5AAF8A93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1D9C6-E317-4B5B-A2FF-274A6B4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E3AA-6A2D-4D0B-A2D1-DE33DAC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B2691-EED2-4130-A083-C4D311B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A325-CF03-4FA5-A7D1-6E7B1012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F8EAA-A049-488E-9554-A1ECD7B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798-BFF7-4355-90F0-AF5442C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61E2-8003-474F-B94B-696E94E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F0CB4-4D6D-46B6-AB9B-26382D6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2835-5FE3-4796-BC32-F857104F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355F-E92D-4E9E-888B-FCA3542D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D23A-C887-4F60-ABC7-FD085357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9E4-80A7-4A8A-A855-B5F2D4A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BE3-5944-445B-A789-D41D5B375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ADD3-F77F-44C7-B8FC-786F687D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82EA-5B5F-4201-8FBF-BEC353C9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5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9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4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5F3-CB10-41A6-A395-0F305BFE3D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4AC2-B539-457D-954D-83F3776212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8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8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8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9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0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0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7C4F-AD71-4F22-89FE-8B88B3AE1E1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36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36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7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8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8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9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9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0BD-5E41-49BB-8883-A4B3CD37D3B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ns.sitecity.ru/users/r/roksisheyn/storage/ltext_1205192139.p_3007130108.35.jpg&amp;pageurl=http://roksisheyn.sitecity.ru%2Fltext_1205192139.phtml%3Fp_ident%3Dltext_1205192139.p_3007130108&amp;id=3210582&amp;iid=0&amp;imgwidth=352&amp;imgheight=288&amp;imgsize=18837&amp;images_links=b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hyperlink" Target="http://shop.arctica.uxoft.ru/pics/2/6/2/0/9/i/000086009_000088092_sizus600.jpg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hyperlink" Target="http://shop.arctica.uxoft.ru/pics/2/6/2/0/9/i/000086009_000088092_sizus600.jpg" TargetMode="External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утешествие на остров «Сокровищ» с друзь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706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89000"/>
            <a:ext cx="3311280" cy="27018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932360" cy="40053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50920" y="26028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Очень страшная беда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удет вам, ребята, 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Если в классе ябеда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Появится когда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27680" y="4325400"/>
            <a:ext cx="421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Чтоб такого не случилось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Не постигла, чтоб бе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ерегите вы друг друг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Будьте чуткими…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77640" y="143208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й 100 руб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19840" y="2440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Человек без друз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76920" y="3448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Нет друга- ищ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60" y="429264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Дерево живёт корням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2000" y="51814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Дружба не гр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24800" y="11970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человек друз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33240" y="297180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есу не найдё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29080" y="2085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имей 100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4640" y="400536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дерево без кор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13080" y="51814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нашёл – бер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 rot="19927800">
            <a:off x="7451280" y="0"/>
            <a:ext cx="1214640" cy="1222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516720" y="260280"/>
            <a:ext cx="1871640" cy="863640"/>
          </a:xfrm>
          <a:prstGeom prst="cloudCallout">
            <a:avLst>
              <a:gd name="adj1" fmla="val -97583"/>
              <a:gd name="adj2" fmla="val 7849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260280"/>
            <a:ext cx="2735280" cy="792360"/>
          </a:xfrm>
          <a:prstGeom prst="cloudCallout">
            <a:avLst>
              <a:gd name="adj1" fmla="val 41236"/>
              <a:gd name="adj2" fmla="val 10210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13 -0.01873 L -0.25937 -0.09202 E">
                                      <p:cBhvr>
                                        <p:cTn id="117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892 -0.00185 L -0.17968 -0.2326 E">
                                      <p:cBhvr>
                                        <p:cTn id="121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29 -0.00786 L -0.26094 -0.24925 E">
                                      <p:cBhvr>
                                        <p:cTn id="125" dur="2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52 -0.02289 L -0.12952 0.44902 E">
                                      <p:cBhvr>
                                        <p:cTn id="129" dur="2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01 -0.00856 L -0.28264 0.33688 E">
                                      <p:cBhvr>
                                        <p:cTn id="133" dur="2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203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7596360" cy="5950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Картинка 38 из 26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565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140360" y="260280"/>
            <a:ext cx="4681440" cy="4032360"/>
          </a:xfrm>
          <a:custGeom>
            <a:avLst/>
            <a:gdLst>
              <a:gd name="textAreaLeft" fmla="*/ 1100160 w 4681440"/>
              <a:gd name="textAreaRight" fmla="*/ 3578040 w 4681440"/>
              <a:gd name="textAreaTop" fmla="*/ 474120 h 4032360"/>
              <a:gd name="textAreaBottom" fmla="*/ 2529360 h 403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ши сокровищ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ашем серд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7596360" cy="5950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Картинка 38 из 2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4005360"/>
            <a:ext cx="3673440" cy="29527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067280" y="2825640"/>
            <a:ext cx="4681440" cy="4032360"/>
            <a:chOff x="4067280" y="2825640"/>
            <a:chExt cx="4681440" cy="4032360"/>
          </a:xfrm>
        </p:grpSpPr>
        <p:grpSp>
          <p:nvGrpSpPr>
            <p:cNvPr id="501" name=""/>
            <p:cNvGrpSpPr/>
            <p:nvPr/>
          </p:nvGrpSpPr>
          <p:grpSpPr>
            <a:xfrm>
              <a:off x="4067280" y="2825640"/>
              <a:ext cx="4681440" cy="4032360"/>
              <a:chOff x="4067280" y="2825640"/>
              <a:chExt cx="4681440" cy="4032360"/>
            </a:xfrm>
          </p:grpSpPr>
          <p:sp>
            <p:nvSpPr>
              <p:cNvPr id="502" name=""/>
              <p:cNvSpPr/>
              <p:nvPr/>
            </p:nvSpPr>
            <p:spPr>
              <a:xfrm>
                <a:off x="4067280" y="2825640"/>
                <a:ext cx="4681440" cy="4032360"/>
              </a:xfrm>
              <a:custGeom>
                <a:avLst/>
                <a:gdLst>
                  <a:gd name="textAreaLeft" fmla="*/ 1100160 w 4681440"/>
                  <a:gd name="textAreaRight" fmla="*/ 3578040 w 4681440"/>
                  <a:gd name="textAreaTop" fmla="*/ 474120 h 4032360"/>
                  <a:gd name="textAreaBottom" fmla="*/ 2529360 h 40323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59280" y="3429000"/>
                <a:ext cx="28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добро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6443640" y="3429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д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9280" y="40053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88000" y="40053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руж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19640" y="458136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чес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6000" y="51577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ним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804000" y="450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ер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68360" y="333360"/>
            <a:ext cx="7056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проси у жизни строгой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кой идти дорогой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да по свету белому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тправиться с ут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 за солнцем сл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ть этот путь нев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, мой друг, всегда ид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рогою добра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 за солнцем сл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Хоть этот путь неведом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Иди, мой друг, всегда иди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орогою доб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Озорное солнышко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31100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7956720" y="2781360"/>
            <a:ext cx="1187280" cy="36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5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715920"/>
            <a:ext cx="8291520" cy="23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Иди, мой друг, всегда иди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Дорогою добра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" descr="Озорное солнышко"/>
          <p:cNvPicPr/>
          <p:nvPr/>
        </p:nvPicPr>
        <p:blipFill>
          <a:blip r:embed="rId2"/>
          <a:stretch/>
        </p:blipFill>
        <p:spPr>
          <a:xfrm>
            <a:off x="5148360" y="404640"/>
            <a:ext cx="3456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Иг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466560" y="1773360"/>
            <a:ext cx="820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Здравствуй, друг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рукопожат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Я пришел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обнимаетес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ак дела?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развести руки в сторо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Хорошо!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большой палец поднять вверх, сжать кула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Игра «Круг дружбы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19480" y="1773360"/>
            <a:ext cx="4503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958040" y="13500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кторина «Кто с кем дружи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3419640" y="1052640"/>
            <a:ext cx="2734920" cy="223812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664000" cy="19940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5"/>
          <a:stretch/>
        </p:blipFill>
        <p:spPr>
          <a:xfrm>
            <a:off x="3348000" y="3933720"/>
            <a:ext cx="2664000" cy="2001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2" name="" descr=""/>
          <p:cNvPicPr/>
          <p:nvPr/>
        </p:nvPicPr>
        <p:blipFill>
          <a:blip r:embed="rId6"/>
          <a:srcRect l="12857" t="0" r="17440" b="0"/>
          <a:stretch/>
        </p:blipFill>
        <p:spPr>
          <a:xfrm>
            <a:off x="6480000" y="3860640"/>
            <a:ext cx="2664000" cy="213696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  <p:pic>
        <p:nvPicPr>
          <p:cNvPr id="453" name="" descr=""/>
          <p:cNvPicPr/>
          <p:nvPr/>
        </p:nvPicPr>
        <p:blipFill>
          <a:blip r:embed="rId7"/>
          <a:srcRect l="6640" t="0" r="10902" b="0"/>
          <a:stretch/>
        </p:blipFill>
        <p:spPr>
          <a:xfrm>
            <a:off x="6624720" y="1052640"/>
            <a:ext cx="2519280" cy="2179440"/>
          </a:xfrm>
          <a:prstGeom prst="rect">
            <a:avLst/>
          </a:prstGeom>
          <a:ln w="2844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8244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7110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79640" y="274320"/>
            <a:ext cx="5113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Если добрым вырос ты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Злыднем быть не пробуй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Не стесняйся доброты,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А стесняйся злоб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35299" t="45227" r="0" b="0"/>
          <a:stretch/>
        </p:blipFill>
        <p:spPr>
          <a:xfrm>
            <a:off x="250920" y="1125360"/>
            <a:ext cx="3708360" cy="5516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rcRect l="0" t="43034" r="0" b="0"/>
          <a:stretch/>
        </p:blipFill>
        <p:spPr>
          <a:xfrm>
            <a:off x="4140360" y="2452680"/>
            <a:ext cx="5003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01400" y="550080"/>
            <a:ext cx="808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жба кpепкая не сломается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Hе pасклеится от дождей и вьюг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г в беде не бpосит, лишнего не спpосит -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т что значит настоящий веpный дpyг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pyг в беде не бpосит, лишнего не спpосит -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т что значит настоящий веpный дpyг!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PubOvalCallout"/>
          <p:cNvSpPr/>
          <p:nvPr/>
        </p:nvSpPr>
        <p:spPr>
          <a:xfrm>
            <a:off x="3657600" y="476280"/>
            <a:ext cx="4875120" cy="3753000"/>
          </a:xfrm>
          <a:custGeom>
            <a:avLst/>
            <a:gdLst>
              <a:gd name="textAreaLeft" fmla="*/ 713880 w 4875120"/>
              <a:gd name="textAreaRight" fmla="*/ 4161240 w 4875120"/>
              <a:gd name="textAreaTop" fmla="*/ 412200 h 3753000"/>
              <a:gd name="textAreaBottom" fmla="*/ 2404080 h 37530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3168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286000" cy="20476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1692360" y="3429000"/>
            <a:ext cx="2190600" cy="16956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1461960" cy="2924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6659640" y="4824360"/>
            <a:ext cx="2484360" cy="2033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348000" cy="26478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3635280" y="141300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4211640" y="5078520"/>
            <a:ext cx="2414520" cy="17794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24360" y="260280"/>
            <a:ext cx="2592360" cy="865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7280" y="40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тров яб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1:48:19Z</dcterms:created>
  <dc:creator>Admin</dc:creator>
  <dc:description/>
  <dc:language>en-US</dc:language>
  <cp:lastModifiedBy>Admin</cp:lastModifiedBy>
  <dcterms:modified xsi:type="dcterms:W3CDTF">2012-11-01T15:02:26Z</dcterms:modified>
  <cp:revision>56</cp:revision>
  <dc:subject/>
  <dc:title/>
</cp:coreProperties>
</file>