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9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C51-9D63-4A23-BB52-0CA29C7D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073-18ED-44B5-9886-AC8CE5A5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AA8-8F61-4871-AE10-C2D140AD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3AC-6EFB-4BA8-9A3F-843352EE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D7A1-0F86-46BD-9DCB-C06F846E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FA66-2AB5-4F5E-AD84-783C533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5F29-B7DA-4220-8BF3-4EBDD0F9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29F0-E9AF-477E-A8C9-960A4144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11FE-90F3-4F62-87F2-D79D72B0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61ED-931B-4A77-912C-F7DE7C8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A5B4-8949-461B-8682-7B2814E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C6C-A721-4F2E-A1ED-4EAA8672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2A9-FBEC-4BDE-A9B4-BB8D0F2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2B3D-31D9-4703-AB63-536E3E7B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3689-A5A8-4269-B93B-9F0CBAD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B1C6-FC4B-461B-ADBF-1E4A2C6E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698F-6E06-40D8-8F95-19C9A66E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8D6A5-3903-4EDE-B786-94CA2E6C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6C5B0-C024-4A32-B101-1E51F5E6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FFD07-42BA-4690-BA7A-B8D4D897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C51CC-431F-4555-AD1C-5E9AA27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33A38-E8F3-495C-81BE-3120B48B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819-BCDE-4A28-AC07-EB86A198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9DC99-732E-4087-89B9-0349184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54B9A-A333-4835-8D12-F32963F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8D5B9-0893-4AC0-A70F-2F652C11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A99C0-2555-4490-8623-645A0F07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0DAE9-95E1-429E-98A5-0162F19A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9EA2D-9BA4-4642-B31C-903DECCC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04BEE-DFA1-433D-81EC-E7A06BAA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AE27-07B6-4A3A-9C51-2F5E70F3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E7739-096D-48A7-9A2C-EFCC0C85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CF35-4127-4979-9DF2-171A952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CF5-17E0-4661-9071-135EFA75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1D707-07F8-4B90-AE03-4281AADF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EE19-5906-46B4-9F6D-45B34C45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AF57-F3B5-4A80-A5D0-5BDD5161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0CE0E-8707-4B34-A938-39832C5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6D1CA-A8DA-4408-9F34-54617CB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7135B-259A-4370-B7AB-2045558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442C-B3CC-4F24-8BE3-FB3BB17A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A3E9-3944-4591-914E-234ABAC0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6FD1-C918-4B12-B35C-53877BB6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D0EE-03CA-495D-B60F-E8484A84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EC47-CB28-422E-99C9-ECEEC4B0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BB8E8-94B0-4C72-9F07-B5905260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E7B81-C2EA-467E-952D-F50CE79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2019-A2D9-49F7-9861-E8D7C027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1304-ADB2-471D-8F74-421201BD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32E96-836D-45AE-A9AE-52E4093E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9D7CB-7096-4ABA-99ED-9CA41A0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653F-2618-4BE5-B580-EC58A5E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367CE-8B85-4FE4-9749-FF84534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558B-2865-432C-9A11-81DED3DC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C6BDF-D811-47CF-9C29-2E9534C1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759-7C9D-4F2F-A5B7-3D789754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5FBB0-0CC0-4558-9427-730CBF3B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B8275-87F4-4E6C-B40E-3ECB9EB1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C3D5-5EF9-4075-BB0B-56352A79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63BCB-885B-4DFC-A891-2778F602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4192E-A17A-45D3-AC64-25C8B81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7B10C-4BBC-4A19-94F0-79F33A4F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B5983-C2EE-4FB4-8E27-588D4035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F7576-4819-4A51-AA2B-8A1320E6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8E463-3D9D-4123-AF33-83C7D3A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7700-B4DE-42CB-B29E-F0B2339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037-C1BC-427D-B3AA-EA042C92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622A7-69D4-40DC-82C1-45C5DF91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4E472-1238-4086-AB4E-11C5FFD8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F4723-AF31-42DB-9B8F-2CE128B2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B8CA-6AA5-4AC0-B0BC-DE850C5E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6D74C-2E17-42FB-8D90-2BB38A14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61F3B-A68F-40B8-AE98-5213087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88C9-FC62-4592-8279-E44D30B8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B080F-4CF0-4A49-AB65-B2E234F9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2604B-5CFC-4B97-B61B-D1B67632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1B4C6-7BC3-4119-A403-9A1A805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B8E-0E10-4100-9CB4-5799EF95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859A-4330-495D-9EA1-C82572B3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18FCB-50B7-47AF-9799-71BAF9B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CCBA1-C318-41EC-B918-C685F056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4CF43-FB6D-4B5D-A625-67AC0783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3CB9-6F5F-40A8-86E3-2A21EF69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287-91B9-40B6-A530-779CBB3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94F-4188-4590-89A9-F61B5B265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BB2E-41A2-4A19-94A5-02D570B5C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0A5-F413-4CC0-A684-52C6BCB91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E616-0694-485E-B28E-A40C875E7D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FA3-E103-411F-B6D4-EFA9B52B71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80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82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87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93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97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01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05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0032-7761-420C-829E-317848C332C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64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65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79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83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87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91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95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E54-956C-4ABC-9479-BC195FE1545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ns.sitecity.ru/users/r/roksisheyn/storage/ltext_1205192139.p_3007130108.35.jpg&amp;pageurl=http://roksisheyn.sitecity.ru%2Fltext_1205192139.phtml%3Fp_ident%3Dltext_1205192139.p_3007130108&amp;id=3210582&amp;iid=0&amp;imgwidth=352&amp;imgheight=288&amp;imgsize=18837&amp;images_links=b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hyperlink" Target="http://shop.arctica.uxoft.ru/pics/2/6/2/0/9/i/000086009_000088092_sizus600.jpg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hyperlink" Target="http://shop.arctica.uxoft.ru/pics/2/6/2/0/9/i/000086009_000088092_sizus600.jpg" TargetMode="External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утешествие на остров «Сокровищ» с друзь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706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89000"/>
            <a:ext cx="3311280" cy="27018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4932360" cy="4005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50920" y="26028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Очень страшная беда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Будет вам, ребята, 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Если в классе ябеда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Появится когда-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27680" y="4325400"/>
            <a:ext cx="42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Чтоб такого не случилось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Не постигла, чтоб беда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Берегите вы друг друга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Будьте чуткими… 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77640" y="143208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й 100 руб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9840" y="24400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Человек без друз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6920" y="344808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Нет друга- ищ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60" y="4292640"/>
            <a:ext cx="40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Дерево живёт корням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2000" y="51814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Дружба не гр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24800" y="11970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человек друз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33240" y="29718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есу не найдё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29080" y="20858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имей 100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44640" y="400536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рево без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13080" y="51814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нашёл – бер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 rot="19927800">
            <a:off x="7451280" y="0"/>
            <a:ext cx="1214640" cy="12222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516720" y="260280"/>
            <a:ext cx="1871640" cy="863640"/>
          </a:xfrm>
          <a:prstGeom prst="cloudCallout">
            <a:avLst>
              <a:gd name="adj1" fmla="val -97583"/>
              <a:gd name="adj2" fmla="val 7849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260280"/>
            <a:ext cx="2735280" cy="792360"/>
          </a:xfrm>
          <a:prstGeom prst="cloudCallout">
            <a:avLst>
              <a:gd name="adj1" fmla="val 41236"/>
              <a:gd name="adj2" fmla="val 10210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13 -0.01873 L -0.25937 -0.09202 E">
                                      <p:cBhvr>
                                        <p:cTn id="117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892 -0.00185 L -0.17968 -0.2326 E">
                                      <p:cBhvr>
                                        <p:cTn id="121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29 -0.00786 L -0.26094 -0.24925 E">
                                      <p:cBhvr>
                                        <p:cTn id="125" dur="2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52 -0.02289 L -0.12952 0.44902 E">
                                      <p:cBhvr>
                                        <p:cTn id="129" dur="2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01 -0.00856 L -0.28264 0.33688 E">
                                      <p:cBhvr>
                                        <p:cTn id="133" dur="2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2036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7596360" cy="5950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Картинка 38 из 26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565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4140360" y="260280"/>
            <a:ext cx="4681440" cy="4032360"/>
          </a:xfrm>
          <a:custGeom>
            <a:avLst/>
            <a:gdLst>
              <a:gd name="textAreaLeft" fmla="*/ 1100160 w 4681440"/>
              <a:gd name="textAreaRight" fmla="*/ 3578040 w 4681440"/>
              <a:gd name="textAreaTop" fmla="*/ 474120 h 4032360"/>
              <a:gd name="textAreaBottom" fmla="*/ 2529360 h 403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аши сокровищ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вашем серд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7596360" cy="59500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Картинка 38 из 2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005360"/>
            <a:ext cx="3673440" cy="29527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4067280" y="2825640"/>
            <a:ext cx="4681440" cy="4032360"/>
            <a:chOff x="4067280" y="2825640"/>
            <a:chExt cx="4681440" cy="4032360"/>
          </a:xfrm>
        </p:grpSpPr>
        <p:grpSp>
          <p:nvGrpSpPr>
            <p:cNvPr id="501" name=""/>
            <p:cNvGrpSpPr/>
            <p:nvPr/>
          </p:nvGrpSpPr>
          <p:grpSpPr>
            <a:xfrm>
              <a:off x="4067280" y="2825640"/>
              <a:ext cx="4681440" cy="4032360"/>
              <a:chOff x="4067280" y="2825640"/>
              <a:chExt cx="4681440" cy="4032360"/>
            </a:xfrm>
          </p:grpSpPr>
          <p:sp>
            <p:nvSpPr>
              <p:cNvPr id="502" name=""/>
              <p:cNvSpPr/>
              <p:nvPr/>
            </p:nvSpPr>
            <p:spPr>
              <a:xfrm>
                <a:off x="4067280" y="2825640"/>
                <a:ext cx="4681440" cy="4032360"/>
              </a:xfrm>
              <a:custGeom>
                <a:avLst/>
                <a:gdLst>
                  <a:gd name="textAreaLeft" fmla="*/ 1100160 w 4681440"/>
                  <a:gd name="textAreaRight" fmla="*/ 3578040 w 4681440"/>
                  <a:gd name="textAreaTop" fmla="*/ 474120 h 4032360"/>
                  <a:gd name="textAreaBottom" fmla="*/ 2529360 h 40323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59280" y="3429000"/>
                <a:ext cx="28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добро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6443640" y="3429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д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59280" y="40053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юбо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88000" y="4005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ружб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19640" y="458136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с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96000" y="51577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ним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04000" y="4508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ер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68360" y="333360"/>
            <a:ext cx="7056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проси у жизни строгой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кой идти дорогой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да по свету белому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тправиться с ут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ди за солнцем следом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оть этот путь неведом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ди, мой друг, всегда иди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орогою добра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ди за солнцем следом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оть этот путь неведом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ди, мой друг, всегда иди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орогою доб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Озорное солнышко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31100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956720" y="2781360"/>
            <a:ext cx="1187280" cy="36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715920"/>
            <a:ext cx="829152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Иди, мой друг, всегда иди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Дорогою добра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Озорное солнышко"/>
          <p:cNvPicPr/>
          <p:nvPr/>
        </p:nvPicPr>
        <p:blipFill>
          <a:blip r:embed="rId2"/>
          <a:stretch/>
        </p:blipFill>
        <p:spPr>
          <a:xfrm>
            <a:off x="5148360" y="404640"/>
            <a:ext cx="3456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Иг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466560" y="1773360"/>
            <a:ext cx="820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Здравствуй, друг!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рукопожат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Я пришел!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обнимаетес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ак дела?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развести руки в сторо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Хорошо!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большой палец поднять вверх, сжать кула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Игра «Круг дружбы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319480" y="1773360"/>
            <a:ext cx="4503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958040" y="13500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кторина «Кто с кем дружи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419640" y="1052640"/>
            <a:ext cx="2734920" cy="22381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664000" cy="19940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3348000" y="3933720"/>
            <a:ext cx="2664000" cy="20019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52" name="" descr=""/>
          <p:cNvPicPr/>
          <p:nvPr/>
        </p:nvPicPr>
        <p:blipFill>
          <a:blip r:embed="rId6"/>
          <a:srcRect l="12857" t="0" r="17440" b="0"/>
          <a:stretch/>
        </p:blipFill>
        <p:spPr>
          <a:xfrm>
            <a:off x="6480000" y="3860640"/>
            <a:ext cx="2664000" cy="21369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53" name="" descr=""/>
          <p:cNvPicPr/>
          <p:nvPr/>
        </p:nvPicPr>
        <p:blipFill>
          <a:blip r:embed="rId7"/>
          <a:srcRect l="6640" t="0" r="10902" b="0"/>
          <a:stretch/>
        </p:blipFill>
        <p:spPr>
          <a:xfrm>
            <a:off x="6624720" y="1052640"/>
            <a:ext cx="2519280" cy="21794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824400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77110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779640" y="274320"/>
            <a:ext cx="5113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Если добрым вырос ты,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Злыднем быть не пробуй,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Не стесняйся доброты,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А стесняйся злоб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rcRect l="35299" t="45227" r="0" b="0"/>
          <a:stretch/>
        </p:blipFill>
        <p:spPr>
          <a:xfrm>
            <a:off x="250920" y="1125360"/>
            <a:ext cx="3708360" cy="55166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rcRect l="0" t="43034" r="0" b="0"/>
          <a:stretch/>
        </p:blipFill>
        <p:spPr>
          <a:xfrm>
            <a:off x="4140360" y="2452680"/>
            <a:ext cx="50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01400" y="550080"/>
            <a:ext cx="808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pyжба кpепкая не сломается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Hе pасклеится от дождей и вьюг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pyг в беде не бpосит, лишнего не спpосит -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т что значит настоящий веpный дpyг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pyг в беде не бpосит, лишнего не спpосит -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т что значит настоящий веpный дpyг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PubOvalCallout"/>
          <p:cNvSpPr/>
          <p:nvPr/>
        </p:nvSpPr>
        <p:spPr>
          <a:xfrm>
            <a:off x="3657600" y="476280"/>
            <a:ext cx="4875120" cy="3753000"/>
          </a:xfrm>
          <a:custGeom>
            <a:avLst/>
            <a:gdLst>
              <a:gd name="textAreaLeft" fmla="*/ 713880 w 4875120"/>
              <a:gd name="textAreaRight" fmla="*/ 4161240 w 4875120"/>
              <a:gd name="textAreaTop" fmla="*/ 412200 h 3753000"/>
              <a:gd name="textAreaBottom" fmla="*/ 2404080 h 37530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31683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286000" cy="20476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1692360" y="3429000"/>
            <a:ext cx="2190600" cy="16956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1461960" cy="2924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6659640" y="4824360"/>
            <a:ext cx="2484360" cy="20336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348000" cy="26478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3635280" y="141300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4211640" y="5078520"/>
            <a:ext cx="2414520" cy="17794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924360" y="260280"/>
            <a:ext cx="2592360" cy="865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7280" y="40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тров яб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1:48:19Z</dcterms:created>
  <dc:creator>Admin</dc:creator>
  <dc:description/>
  <dc:language>en-US</dc:language>
  <cp:lastModifiedBy>Admin</cp:lastModifiedBy>
  <dcterms:modified xsi:type="dcterms:W3CDTF">2012-11-01T15:02:26Z</dcterms:modified>
  <cp:revision>56</cp:revision>
  <dc:subject/>
  <dc:title/>
</cp:coreProperties>
</file>