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B31-009A-48B1-A7C3-08D5E20A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912-9469-4A9F-9056-665B7138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1BF-7C7C-4CAE-B79C-3216FA1E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1F3-F65B-4339-9793-D2720F5B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450-CFAE-4987-B67E-14F59B7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082-5EE4-4D44-AE9A-7C07A140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C75-02C5-4A89-91C8-3F823EA2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F38-B3A9-44E4-AD4E-EC872EFE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F95-F82B-413C-BA64-6448104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8A9-E9FB-4CEF-80D1-5622A48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044-BD9D-4A62-A87A-41BCC8F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AEC-7816-445A-875B-32B3022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092-60FB-4CE2-9328-9CE10B2A8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76919298bf5188532b17cba7627152a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Реактивное движе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14440" y="59436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а 9а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анова Арт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pace_shuttle"/>
          <p:cNvPicPr/>
          <p:nvPr/>
        </p:nvPicPr>
        <p:blipFill>
          <a:blip r:embed="rId2"/>
          <a:stretch/>
        </p:blipFill>
        <p:spPr>
          <a:xfrm>
            <a:off x="685800" y="3276720"/>
            <a:ext cx="297180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380880"/>
            <a:ext cx="3962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Для возвращения космического корабля на Землю, или посадки его на другую планету, одну ступень оставляют. Она используется для торможения корабля перед посад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lang="en-GB" sz="2000" spc="-1" strike="noStrike">
                <a:solidFill>
                  <a:srgbClr val="5e11a6"/>
                </a:solidFill>
                <a:latin typeface="Arial"/>
              </a:rPr>
              <a:t>ракету разворачивают на 180 градусо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чтобы сопло оказалось впереди.Тогда вырывающийся из ракеты газ сообщает </a:t>
            </a:r>
            <a:r>
              <a:rPr b="1" lang="en-GB" sz="2000" spc="-1" strike="noStrike">
                <a:solidFill>
                  <a:srgbClr val="5e11a6"/>
                </a:solidFill>
                <a:latin typeface="Arial"/>
              </a:rPr>
              <a:t>ей импульс, направленный против скорости ее движе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что приводит к уменьшению скорости и дает возможность осуществить поса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1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4652 C -0.00191 0.43607 0.0033 0.42682 0.00486 0.38474 C 0.00677 0.32856 0.00729 0.23908 0.05851 0.22197 C 0.06927 0.22266 0.07986 0.22243 0.09045 0.22405 C 0.09479 0.22474 0.09861 0.22913 0.10312 0.23052 C 0.11354 0.23376 0.1243 0.23653 0.13472 0.23884 C 0.15538 0.24832 0.13212 0.23815 0.16667 0.24948 C 0.19097 0.25757 0.21562 0.26751 0.23976 0.27699 C 0.24896 0.28069 0.26024 0.28925 0.26823 0.29387 C 0.27274 0.29642 0.27795 0.29642 0.28264 0.29803 C 0.28837 0.29988 0.28993 0.30358 0.2967 0.30451 C 0.30538 0.3059 0.35555 0.3096 0.37135 0.31075 C 0.40191 0.30751 0.43125 0.30405 0.4618 0.30243 C 0.50243 0.29503 0.52535 0.28786 0.56354 0.26428 C 0.56684 0.2622 0.57049 0.26127 0.57309 0.25803 C 0.58594 0.24231 0.59097 0.23792 0.59983 0.22197 C 0.60555 0.21225 0.61597 0.19237 0.61597 0.19237 C 0.61892 0.18035 0.62153 0.16532 0.62865 0.15653 C 0.63854 0.11653 0.61476 0.06266 0.58733 0.04439 C 0.57795 0.03815 0.57569 0.03977 0.56354 0.03815 C 0.51371 0.04139 0.46823 0.06382 0.41892 0.06775 C 0.37031 0.07168 0.2559 0.07168 0.23646 0.07191 C 0.2099 0.06913 0.1724 0.06844 0.1493 0.04439 C 0.14236 0.03746 0.1368 0.02844 0.13021 0.02127 C 0.12795 0.01295 0.12396 0.00717 0.12049 -4.50867E-006 C 0.11632 -0.02798 0.11996 -0.04208 0.12865 -0.06543 C 0.13264 -0.07653 0.13663 -0.08925 0.14601 -0.09503 C 0.15278 -0.09919 0.15937 -0.10127 0.16667 -0.10358 C 0.17448 -0.10983 0.17969 -0.11815 0.18733 -0.12462 C 0.19983 -0.13526 0.21528 -0.14728 0.22865 -0.1563 C 0.24965 -0.1704 0.28021 -0.17457 0.30312 -0.17549 C 0.33594 -0.17665 0.36858 -0.17688 0.40139 -0.17757 C 0.41788 -0.18104 0.43437 -0.18405 0.45069 -0.1859 C 0.47396 -0.19607 0.53472 -0.18497 0.56198 -0.18381 C 0.57153 -0.1785 0.58055 -0.1748 0.58889 -0.16694 C 0.60399 -0.15283 0.58993 -0.16069 0.61424 -0.14358 C 0.61701 -0.1415 0.62083 -0.14173 0.62361 -0.13942 C 0.6342 -0.1311 0.64462 -0.12208 0.65382 -0.11191 C 0.65712 -0.10844 0.66007 -0.10451 0.66354 -0.1015 C 0.67708 -0.08902 0.69115 -0.07746 0.70486 -0.06543 C 0.72969 -0.0437 0.70295 -0.06474 0.71892 -0.04647 C 0.72517 -0.03954 0.73194 -0.03422 0.73802 -0.02751 C 0.75312 -0.01087 0.76441 0.00902 0.77621 0.0296 C 0.77778 0.03607 0.77917 0.04231 0.7809 0.04879 C 0.78351 0.06035 0.76875 0.13965 0.76649 0.15006 C 0.75799 0.19029 0.74826 0.22636 0.7349 0.26428 C 0.71233 0.32809 0.68871 0.3889 0.64288 0.42705 C 0.62517 0.44162 0.60955 0.45734 0.58889 0.46081 C 0.54965 0.4541 0.53351 0.44994 0.49826 0.43121 C 0.48663 0.42497 0.47465 0.42058 0.46354 0.41225 C 0.45278 0.40416 0.43871 0.39422 0.42865 0.38266 C 0.41389 0.36578 0.3974 0.34266 0.3776 0.33619 C 0.35694 0.32208 0.34184 0.30705 0.32361 0.28763 C 0.31493 0.27838 0.29444 0.25156 0.28264 0.24532 C 0.28003 0.24393 0.27708 0.24301 0.27465 0.24116 C 0.27222 0.23954 0.27066 0.2363 0.26823 0.23468 C 0.25955 0.22913 0.25017 0.22474 0.24132 0.21988 C 0.22257 0.20971 0.20451 0.19468 0.18559 0.18405 C 0.1743 0.17734 0.16146 0.17595 0.1493 0.17133 C 0.13351 0.15931 0.11684 0.15746 0.1 0.15006 C 0.08264 0.14243 0.07101 0.13434 0.05399 0.1311 C 0.04653 0.13249 0.03871 0.13156 0.03177 0.13526 C 0.02865 0.13688 0.02743 0.1422 0.02535 0.1459 C 0.02153 0.15283 0.01424 0.16717 0.01424 0.16717 C 0.01111 0.17988 0.00555 0.19098 0.00139 0.20301 C -0.01458 0.25179 0.00139 0.2104 -0.00799 0.23468 C -0.00851 0.23954 -0.00972 0.24439 -0.00972 0.24948 C -0.00972 0.3422 -0.01215 0.32416 2.77778E-007 0.38474 C 0.00399 0.40439 0.00885 0.4289 0.02222 0.44185 C 0.04653 0.46543 0.07969 0.46358 0.10799 0.4652 C 0.12257 0.47006 0.1368 0.47029 0.15243 0.47145 C 0.22413 0.46682 0.22812 0.46913 0.27934 0.46081 C 0.32361 0.45364 0.36649 0.44162 0.41111 0.43769 C 0.42014 0.43514 0.42847 0.43399 0.43628 0.42705 C 0.45104 0.41434 0.46007 0.3933 0.46979 0.37434 C 0.47014 0.37156 0.47049 0.36856 0.47153 0.36578 C 0.47378 0.35931 0.47778 0.35376 0.47917 0.34682 C 0.48125 0.33803 0.48264 0.31931 0.48264 0.31931 C 0.48177 0.31237 0.47865 0.27514 0.47621 0.26428 C 0.475 0.26035 0.47257 0.25734 0.47153 0.25364 C 0.46927 0.24624 0.46875 0.23792 0.46649 0.23052 C 0.45903 0.20624 0.45087 0.17988 0.44132 0.15653 C 0.42951 0.12856 0.41493 0.10428 0.40139 0.07838 C 0.39878 0.06751 0.39549 0.05988 0.39375 0.04879 C 0.39427 0.04023 0.39375 0.03168 0.39514 0.02335 C 0.3993 0.00069 0.39878 0.01156 0.40642 0.00208 C 0.4434 -0.04393 0.40712 -0.00486 0.44427 -0.04 C 0.46128 -0.05595 0.47934 -0.06913 0.4967 -0.08439 C 0.50694 -0.09318 0.51406 -0.09087 0.52378 -0.09503 C 0.5474 -0.10566 0.57205 -0.1163 0.59687 -0.12046 C 0.60833 -0.11977 0.62014 -0.11954 0.63177 -0.11838 C 0.63715 -0.11792 0.64219 -0.11168 0.6474 -0.10983 C 0.65069 -0.10636 0.65434 -0.10335 0.65712 -0.09919 C 0.68507 -0.05642 0.6599 -0.08879 0.67135 -0.07399 C 0.67969 -0.05133 0.68264 -0.03538 0.68576 -0.0104 C 0.68472 0.02636 0.68316 0.05549 0.6776 0.09087 C 0.6783 0.11769 0.67778 0.14451 0.67934 0.17133 C 0.67969 0.18197 0.68507 0.19514 0.68733 0.20509 C 0.69132 0.22335 0.69462 0.24185 0.69844 0.26012 C 0.70226 0.27908 0.70469 0.30173 0.71111 0.31931 C 0.71302 0.33665 0.71597 0.36093 0.71597 0.3785 C 0.71597 0.38636 0.71371 0.39399 0.7125 0.40162 C 0.70538 0.45387 0.67691 0.49873 0.64132 0.52231 C 0.62101 0.53595 0.59219 0.53873 0.56979 0.54127 C 0.5441 0.54821 0.51354 0.54775 0.48733 0.5496 C 0.45833 0.55561 0.42882 0.55561 0.4 0.56231 C 0.38646 0.56532 0.37378 0.56994 0.36024 0.57295 C 0.34045 0.58266 0.32031 0.5896 0.29983 0.5963 C 0.28472 0.60139 0.27569 0.61064 0.26198 0.61526 C 0.25052 0.62728 0.23906 0.63815 0.22535 0.64486 C 0.22118 0.64694 0.21267 0.6511 0.21267 0.6511 C 0.2026 0.6615 0.19149 0.66081 0.17917 0.6659 C 0.15746 0.66428 0.14201 0.66428 0.12222 0.65549 C 0.10833 0.64948 0.09687 0.63306 0.08559 0.6215 C 0.0724 0.60763 0.0559 0.59908 0.04132 0.58775 C 0.02986 0.57896 0.01892 0.56578 0.00781 0.55607 C -0.00208 0.54705 -0.01563 0.54058 -0.02379 0.52856 C -0.02778 0.52254 -0.0309 0.51561 -0.0349 0.5096 C -0.04045 0.5015 -0.05243 0.48624 -0.05243 0.48624 C -0.05712 0.47399 -0.06441 0.47191 -0.07292 0.46312 C -0.07917 0.45665 -0.08663 0.44902 -0.09201 0.44185 C -0.09844 0.4333 -0.10295 0.41711 -0.10625 0.40601 C -0.10833 0.39121 -0.10833 0.37619 -0.11111 0.36162 C -0.11059 0.34335 -0.11111 0.32486 -0.10955 0.30659 C -0.10799 0.28902 -0.10104 0.27884 -0.09514 0.26428 C -0.09375 0.26081 -0.09358 0.25665 -0.09201 0.25364 C -0.08611 0.24254 -0.07292 0.22197 -0.07292 0.22197 C -0.06545 0.19723 -0.0467 0.1815 -0.0349 0.16069 C -0.02778 0.14798 -0.01754 0.1385 -0.00799 0.12902 C 0.0151 0.10543 0.03767 0.08509 0.06667 0.07838 C 0.07691 0.07607 0.08767 0.07538 0.09844 0.07399 C 0.13767 0.0763 0.18229 0.07514 0.22222 0.08254 C 0.26094 0.08185 0.29948 0.08231 0.33819 0.08046 C 0.35486 0.07977 0.37344 0.07353 0.39028 0.07191 C 0.40226 0.06751 0.41562 0.06266 0.42691 0.05711 C 0.43125 0.05503 0.43542 0.05156 0.43976 0.04879 C 0.44392 0.04601 0.45243 0.04023 0.45243 0.04023 C 0.46302 0.02081 0.46528 0.01803 0.46979 -0.00624 C 0.46719 -0.02358 0.46111 -0.03699 0.45399 -0.05064 C 0.45052 -0.05734 0.44844 -0.06543 0.44427 -0.07191 C 0.425 -0.10289 0.40538 -0.11445 0.37621 -0.11838 C 0.32847 -0.1163 0.28125 -0.1089 0.23333 -0.10566 C 0.20399 -0.09803 0.17344 -0.09803 0.14427 -0.08879 C 0.12014 -0.08116 0.09809 -0.07006 0.07309 -0.06751 C 0.05347 -0.06127 0.08055 -0.06936 0.03333 -0.06335 C 0.02378 -0.0622 0.01441 -0.05873 0.00486 -0.05711 C -0.01458 -0.04647 -0.03177 -0.05827 -0.0507 -0.06335 C -0.05382 -0.06266 -0.05729 -0.06312 -0.06024 -0.06127 C -0.06858 -0.05572 -0.06563 -0.05133 -0.06979 -0.04231 C -0.07101 -0.03977 -0.07344 -0.03838 -0.07465 -0.03584 C -0.0776 -0.02983 -0.07934 -0.02289 -0.08247 -0.01688 C -0.0842 -0.01364 -0.08715 -0.01156 -0.08889 -0.00832 C -0.09722 0.00717 -0.10174 0.02451 -0.10625 0.04231 C -0.10781 0.05503 -0.1092 0.06243 -0.11267 0.07399 C -0.11389 0.08462 -0.11545 0.09318 -0.11736 0.10358 C -0.1184 0.11422 -0.12101 0.12462 -0.12066 0.13526 C -0.11945 0.18335 -0.11458 0.25688 -0.06979 0.26844 C -0.03976 0.29087 -0.00191 0.29434 0.03177 0.29595 C 0.04549 0.29341 0.05937 0.29295 0.07309 0.28971 C 0.08281 0.2874 0.09305 0.28023 0.10312 0.27699 C 0.1099 0.27145 0.11684 0.26566 0.12361 0.26012 C 0.12587 0.24231 0.12899 0.2252 0.12361 0.20717 C 0.11719 0.18474 0.10278 0.16647 0.09045 0.15006 C 0.08177 0.13873 0.07517 0.12324 0.0651 0.11422 C 0.0618 0.11145 0.05851 0.1089 0.05555 0.10566 C 0.05156 0.10104 0.04757 0.09642 0.04444 0.09087 C 0.04288 0.08809 0.04167 0.08509 0.03976 0.08254 C 0.02934 0.0689 0.01458 0.05665 0.00625 0.04023 C 0.00555 0.0333 0.00555 0.02751 0.00295 0.02127 C 0.00226 0.01896 0.00017 0.01734 2.77778E-007 0.0148 C -0.00087 0.00994 2.77778E-007 0.00486 2.77778E-007 -4.50867E-006 E">
                                      <p:cBhvr>
                                        <p:cTn id="15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476919298bf5188532b17cba7627152a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ывод формулы скорости ракеты при взл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но третьему закону Ньют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ила, с которой ракета действует на раскаленные газы, 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ила, с которой газы отталкивают от себя рак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и этих сил равны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си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ется реактивной силой. Рассчитаем скорость, которую может приобрести рак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импульс выброшенных газов раве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импульс ракет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по закону сохранения импульса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•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 скорость рак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orma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онстантин Эдуардович 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дея использования ракет для космических полетов была выдвинута в начале 20 – го века русским ученым, изобретателем и учителем</a:t>
            </a:r>
            <a:r>
              <a:rPr b="1" lang="en-GB" sz="2400" spc="-1" strike="noStrike">
                <a:solidFill>
                  <a:srgbClr val="5e11a6"/>
                </a:solidFill>
                <a:latin typeface="Arial"/>
              </a:rPr>
              <a:t> Константином Эдуардовичем Циалков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иалковский разработал теорию движения ракет, вывел формулу для расчета их скорости, был первым, кто предложил использовать многоступенчатые ра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4878360" y="1676520"/>
            <a:ext cx="4265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orma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вый космонавт планеты и главный конструктор отечественной ракетно-космической тех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ргей Павлович Королё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оветский ученый и конструктор, руководитель всех космических полетов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Юрий Алексеевич Гага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ервый космонавт, совершил облет Земли 12 апреля 1961 г. за 1 час 48 минут на корабле «Вост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mgB"/>
          <p:cNvPicPr/>
          <p:nvPr/>
        </p:nvPicPr>
        <p:blipFill>
          <a:blip r:embed="rId2"/>
          <a:stretch/>
        </p:blipFill>
        <p:spPr>
          <a:xfrm>
            <a:off x="4876920" y="19810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активн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ктивное движение происходит за счёт того, что от тела отделяется и движется какая-то его часть, в результате чего само тело приобретает противоположно направленный импуль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space_shuttle"/>
          <p:cNvPicPr/>
          <p:nvPr/>
        </p:nvPicPr>
        <p:blipFill>
          <a:blip r:embed="rId2"/>
          <a:stretch/>
        </p:blipFill>
        <p:spPr>
          <a:xfrm>
            <a:off x="4267080" y="1219320"/>
            <a:ext cx="4876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43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85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1240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реактивного движения находит широкое практическое применение в авиации и космонав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смическом пространстве нет среды, с которой тело могло бы взаимодействовать и тем самым изменять направление и модуль своей скорости. Поэтому для космических полётов могут быть использованы только реактивные летательные аппараты, т.е.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Наглядная схема устройства одноступенчатой ракеты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любой ракете независимо от ее конструкции всегда имеетс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болочк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опливо с окисл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а рисунке изображена ракета в разрезе. Мы видим, что оболочка ракеты включает в себя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лезный гру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космический корабль), приборный отсек и двигатель (камера сгорания, насосы и п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9360" y="1371600"/>
            <a:ext cx="44546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310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ногоступенчатые раке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рактике космических полетов обычно используют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ногоступенчаты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ракеты, развивающие гораздо большие скорости и предназначеные для более дальних п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На рисунке показана схема такой ракеты. После того как топливо и окислитель первой ступени будут израсходованы, эта ступень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втоматически отбрасываетс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и в действие вступает двигатель второй ступени и т.д. Уменьшение общей массы ракеты путем отбрасывания уже ненужной ступени позволяет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экономить топлив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и окислитель 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величить скорость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р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43280" y="378000"/>
            <a:ext cx="4500720" cy="648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06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5600"/>
                <a:tab algn="l" pos="6288120"/>
                <a:tab algn="l" pos="6737400"/>
                <a:tab algn="l" pos="7184880"/>
                <a:tab algn="l" pos="7632720"/>
                <a:tab algn="l" pos="8085240"/>
                <a:tab algn="l" pos="853452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рак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464832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5T04:13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