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391-9F50-484B-ADAD-4F3B9F88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17F-7C3B-426D-96E9-335CF3C2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7E2-0D6D-475A-A703-C9342472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7F4-7D7E-4FA3-8D25-2A7E8837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4217-FA34-4742-9024-B3A3CDC0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88F5-8052-4CA2-9D23-F9B64C0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A3BF-D3C3-402B-8F03-11DCDE45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417D-870D-4B0C-833B-C0F4610C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F34A-A3F7-45BB-BB23-C5CD2864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8955-7B06-4C32-8B2A-64DD5C4E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D35A-3DBC-421C-A525-9CDD6CF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899-DF69-423A-A071-3BAB9941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A7AF-6159-42B1-A2A7-2117362F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0F4E-F873-46C2-B1AC-721D8D7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4137-9DA4-4477-AC5E-4387EA70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8263-BA9E-4F78-8919-A1F333F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34BD-6C9B-49B0-863D-222E6356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7D1-EFCA-433C-B8B2-86A829A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1B1-5EAF-4557-A1C4-67E3257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D3C-5E63-46B8-8B4E-3F8EB846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7A5-6BE1-4009-8AFF-C5E0929A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BFE-0B8C-475A-A4E4-172C1064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245-8A56-4D7D-A856-B186FE80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F74-DF3D-4725-ACE4-D8E2AE9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9FA4-BB7E-4E3F-8D29-47CE9A86670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EBCF-DDE4-42A0-8719-A6511A9BA9A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1977840"/>
            <a:ext cx="9375840" cy="3813120"/>
            <a:chOff x="0" y="1977840"/>
            <a:chExt cx="9375840" cy="3813120"/>
          </a:xfrm>
        </p:grpSpPr>
        <p:cxnSp>
          <p:nvCxnSpPr>
            <p:cNvPr id="212" name="_s21508"/>
            <p:cNvCxnSpPr>
              <a:stCxn id="213" idx="0"/>
              <a:endCxn id="214" idx="2"/>
            </p:cNvCxnSpPr>
            <p:nvPr/>
          </p:nvCxnSpPr>
          <p:spPr>
            <a:xfrm flipV="1" rot="16200000">
              <a:off x="5148360" y="3871440"/>
              <a:ext cx="447840" cy="1600560"/>
            </a:xfrm>
            <a:prstGeom prst="bentConnector3">
              <a:avLst>
                <a:gd name="adj1" fmla="val 500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1509"/>
            <p:cNvCxnSpPr>
              <a:stCxn id="216" idx="0"/>
              <a:endCxn id="214" idx="2"/>
            </p:cNvCxnSpPr>
            <p:nvPr/>
          </p:nvCxnSpPr>
          <p:spPr>
            <a:xfrm flipH="1" flipV="1" rot="5400000">
              <a:off x="3547800" y="3871800"/>
              <a:ext cx="447840" cy="1600560"/>
            </a:xfrm>
            <a:prstGeom prst="bentConnector3">
              <a:avLst>
                <a:gd name="adj1" fmla="val 500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1510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948280" y="1728720"/>
              <a:ext cx="448200" cy="3200760"/>
            </a:xfrm>
            <a:prstGeom prst="bentConnector5">
              <a:avLst>
                <a:gd name="adj1" fmla="val 51768"/>
                <a:gd name="adj2" fmla="val -50101"/>
                <a:gd name="adj3" fmla="val -2531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1511"/>
            <p:cNvCxnSpPr>
              <a:stCxn id="214" idx="0"/>
              <a:endCxn id="219" idx="2"/>
            </p:cNvCxnSpPr>
            <p:nvPr/>
          </p:nvCxnSpPr>
          <p:spPr>
            <a:xfrm rot="16200000">
              <a:off x="4348080" y="3328920"/>
              <a:ext cx="4482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1512"/>
            <p:cNvCxnSpPr>
              <a:stCxn id="222" idx="0"/>
              <a:endCxn id="219" idx="2"/>
            </p:cNvCxnSpPr>
            <p:nvPr/>
          </p:nvCxnSpPr>
          <p:spPr>
            <a:xfrm flipH="1" flipV="1" rot="5400000">
              <a:off x="2747880" y="1728720"/>
              <a:ext cx="448200" cy="3200760"/>
            </a:xfrm>
            <a:prstGeom prst="bentConnector5">
              <a:avLst>
                <a:gd name="adj1" fmla="val 351688"/>
                <a:gd name="adj2" fmla="val 150101"/>
                <a:gd name="adj3" fmla="val 20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21513"/>
            <p:cNvSpPr/>
            <p:nvPr/>
          </p:nvSpPr>
          <p:spPr>
            <a:xfrm>
              <a:off x="3200400" y="220968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1c1c1c"/>
                  </a:solidFill>
                  <a:latin typeface="Times New Roman"/>
                </a:rPr>
                <a:t>НАПРАВЛЕНИЯ РАБОТЫ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1c1c1c"/>
                  </a:solidFill>
                  <a:latin typeface="Times New Roman"/>
                </a:rPr>
                <a:t>классного  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1c1c1c"/>
                  </a:solidFill>
                  <a:latin typeface="Times New Roman"/>
                </a:rPr>
                <a:t>руководител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Times New Roman"/>
                </a:rPr>
                <a:t>                       </a:t>
              </a:r>
              <a:endParaRPr b="0" lang="en-US" sz="1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_s21514"/>
            <p:cNvSpPr/>
            <p:nvPr/>
          </p:nvSpPr>
          <p:spPr>
            <a:xfrm>
              <a:off x="0" y="35528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АБОТА С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ОДИТЕЛЯМИ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_s21515"/>
            <p:cNvSpPr/>
            <p:nvPr/>
          </p:nvSpPr>
          <p:spPr>
            <a:xfrm>
              <a:off x="3200400" y="35528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АБОТА С АКТИВОМ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КЛАССА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_s21516"/>
            <p:cNvSpPr/>
            <p:nvPr/>
          </p:nvSpPr>
          <p:spPr>
            <a:xfrm>
              <a:off x="6400800" y="35528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РАБОТА С УЧИТЕЛЯМИ-  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ПРЕДМЕТНИКАМИ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_s21517"/>
            <p:cNvSpPr/>
            <p:nvPr/>
          </p:nvSpPr>
          <p:spPr>
            <a:xfrm>
              <a:off x="1600200" y="48956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УЧАСТИЕ В ОБЩЕСТВЕННЫХ ДЕЛАХ  ШКОЛЫ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_s21518"/>
            <p:cNvSpPr/>
            <p:nvPr/>
          </p:nvSpPr>
          <p:spPr>
            <a:xfrm>
              <a:off x="4800600" y="4895640"/>
              <a:ext cx="2743200" cy="895320"/>
            </a:xfrm>
            <a:prstGeom prst="roundRect">
              <a:avLst>
                <a:gd name="adj" fmla="val 16667"/>
              </a:avLst>
            </a:prstGeom>
            <a:solidFill>
              <a:srgbClr val="99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МЕРОПРИЯТИЯ В   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                    </a:t>
              </a:r>
              <a:r>
                <a:rPr b="0" lang="en-US" sz="1500" spc="-1" strike="noStrike">
                  <a:solidFill>
                    <a:srgbClr val="eaeaea"/>
                  </a:solidFill>
                  <a:latin typeface="Times New Roman"/>
                </a:rPr>
                <a:t>КЛАССЕ</a:t>
              </a:r>
              <a:endParaRPr b="0" lang="en-US" sz="15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762120" y="380880"/>
            <a:ext cx="7391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Модель воспитательной системы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в 5 "Д" классе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38280" y="1447920"/>
            <a:ext cx="44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говорить нельзя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66680" y="2819520"/>
            <a:ext cx="6981840" cy="36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Отстан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Не меша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Вот всегда ты так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Тебя не спрашивают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Вечно у тебя всё из рук валит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У всех дети как дети, а ты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"/>
              </a:rPr>
              <a:t>Ну что опять?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361960" y="2286000"/>
            <a:ext cx="68580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09680" y="3352680"/>
            <a:ext cx="152640" cy="12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3352680"/>
            <a:ext cx="121896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66880" y="396252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276720" y="2590920"/>
            <a:ext cx="914400" cy="304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295280" y="403848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5334120"/>
            <a:ext cx="312408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орошее настро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505320" y="441972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-разно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62520" y="3124080"/>
            <a:ext cx="3057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 очень хороше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09680" y="1295280"/>
            <a:ext cx="4972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 моего настрое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361960" y="2286000"/>
            <a:ext cx="685800" cy="1066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209680" y="3352680"/>
            <a:ext cx="152640" cy="12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362320" y="3123720"/>
            <a:ext cx="11430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396252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276720" y="2590920"/>
            <a:ext cx="914400" cy="304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295280" y="403848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600" y="5334120"/>
            <a:ext cx="312408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редняя ступен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505320" y="441972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чти верхня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343400" y="2819520"/>
            <a:ext cx="305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рхняя ступень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666880" y="1295280"/>
            <a:ext cx="4695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стница   достижени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361960" y="2286000"/>
            <a:ext cx="685800" cy="10666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276720"/>
            <a:ext cx="457200" cy="13716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362320" y="3123720"/>
            <a:ext cx="1143000" cy="2286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8120" y="365760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2590920"/>
            <a:ext cx="914400" cy="304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752480" y="419112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28600" y="53341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бр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сёл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6200" y="3809880"/>
            <a:ext cx="3809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койн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внодушн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419720" y="236232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рдитый, недовольн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90920" y="114300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ние  в  семь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971800"/>
            <a:ext cx="685800" cy="83808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6858000" y="1143000"/>
            <a:ext cx="762120" cy="9907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90720"/>
              <a:gd name="textAreaBottom" fmla="*/ 941400 h 990720"/>
            </a:gdLst>
            <a:ahLst/>
            <a:rect l="textAreaLeft" t="textAreaTop" r="textAreaRight" b="textAreaBottom"/>
            <a:pathLst>
              <a:path w="21600" h="28076">
                <a:moveTo>
                  <a:pt x="0" y="0"/>
                </a:moveTo>
                <a:lnTo>
                  <a:pt x="21600" y="0"/>
                </a:lnTo>
                <a:lnTo>
                  <a:pt x="21600" y="28076"/>
                </a:lnTo>
                <a:lnTo>
                  <a:pt x="0" y="28076"/>
                </a:lnTo>
                <a:close/>
              </a:path>
              <a:path fill="lightenLess" w="21600" h="28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6">
                <a:moveTo>
                  <a:pt x="21600" y="0"/>
                </a:moveTo>
                <a:lnTo>
                  <a:pt x="21600" y="28076"/>
                </a:lnTo>
                <a:lnTo>
                  <a:pt x="20200" y="26676"/>
                </a:lnTo>
                <a:lnTo>
                  <a:pt x="20200" y="1400"/>
                </a:lnTo>
                <a:close/>
              </a:path>
              <a:path fill="darkenLess" w="21600" h="28076">
                <a:moveTo>
                  <a:pt x="21600" y="28076"/>
                </a:moveTo>
                <a:lnTo>
                  <a:pt x="0" y="28076"/>
                </a:lnTo>
                <a:lnTo>
                  <a:pt x="1400" y="26676"/>
                </a:lnTo>
                <a:lnTo>
                  <a:pt x="20200" y="26676"/>
                </a:lnTo>
                <a:close/>
              </a:path>
              <a:path fill="lighten" w="21600" h="28076">
                <a:moveTo>
                  <a:pt x="0" y="28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6"/>
                </a:lnTo>
                <a:close/>
              </a:path>
              <a:path fill="darken" w="21600" h="28076">
                <a:moveTo>
                  <a:pt x="10800" y="7075"/>
                </a:moveTo>
                <a:lnTo>
                  <a:pt x="13376" y="9686"/>
                </a:ln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lnTo>
                  <a:pt x="17763" y="14038"/>
                </a:lnTo>
                <a:lnTo>
                  <a:pt x="16109" y="14038"/>
                </a:lnTo>
                <a:lnTo>
                  <a:pt x="16109" y="21227"/>
                </a:lnTo>
                <a:lnTo>
                  <a:pt x="5491" y="21227"/>
                </a:lnTo>
                <a:lnTo>
                  <a:pt x="5491" y="14038"/>
                </a:lnTo>
                <a:lnTo>
                  <a:pt x="3837" y="14038"/>
                </a:lnTo>
                <a:close/>
              </a:path>
              <a:path fill="darkenLess" w="21600" h="28076">
                <a:moveTo>
                  <a:pt x="13376" y="9686"/>
                </a:move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close/>
              </a:path>
              <a:path fill="darkenLess" w="21600" h="28076">
                <a:moveTo>
                  <a:pt x="9877" y="17537"/>
                </a:moveTo>
                <a:lnTo>
                  <a:pt x="11723" y="17537"/>
                </a:lnTo>
                <a:lnTo>
                  <a:pt x="11723" y="21227"/>
                </a:lnTo>
                <a:lnTo>
                  <a:pt x="16109" y="21227"/>
                </a:lnTo>
                <a:lnTo>
                  <a:pt x="16109" y="14038"/>
                </a:lnTo>
                <a:lnTo>
                  <a:pt x="5491" y="14038"/>
                </a:lnTo>
                <a:lnTo>
                  <a:pt x="5491" y="21227"/>
                </a:lnTo>
                <a:lnTo>
                  <a:pt x="9877" y="21227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001000" y="144792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066680" y="533520"/>
            <a:ext cx="702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обследования по класс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2057400"/>
            <a:ext cx="2438280" cy="2590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361960" y="2895480"/>
            <a:ext cx="1143000" cy="4572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3352680"/>
            <a:ext cx="1218960" cy="60984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3429000"/>
            <a:ext cx="68580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752480" y="4191120"/>
            <a:ext cx="45720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8600" y="53341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бр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есёл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6200" y="3809880"/>
            <a:ext cx="3809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окойный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внодушны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90920" y="114300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ние  в  семь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971800"/>
            <a:ext cx="685800" cy="838080"/>
          </a:xfrm>
          <a:prstGeom prst="smileyFace">
            <a:avLst>
              <a:gd name="adj" fmla="val 928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firstslide"/>
          </p:cNvPr>
          <p:cNvSpPr/>
          <p:nvPr/>
        </p:nvSpPr>
        <p:spPr>
          <a:xfrm>
            <a:off x="7010280" y="1295280"/>
            <a:ext cx="762120" cy="9907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90720"/>
              <a:gd name="textAreaBottom" fmla="*/ 941400 h 990720"/>
            </a:gdLst>
            <a:ahLst/>
            <a:rect l="textAreaLeft" t="textAreaTop" r="textAreaRight" b="textAreaBottom"/>
            <a:pathLst>
              <a:path w="21600" h="28076">
                <a:moveTo>
                  <a:pt x="0" y="0"/>
                </a:moveTo>
                <a:lnTo>
                  <a:pt x="21600" y="0"/>
                </a:lnTo>
                <a:lnTo>
                  <a:pt x="21600" y="28076"/>
                </a:lnTo>
                <a:lnTo>
                  <a:pt x="0" y="28076"/>
                </a:lnTo>
                <a:close/>
              </a:path>
              <a:path fill="lightenLess" w="21600" h="28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76">
                <a:moveTo>
                  <a:pt x="21600" y="0"/>
                </a:moveTo>
                <a:lnTo>
                  <a:pt x="21600" y="28076"/>
                </a:lnTo>
                <a:lnTo>
                  <a:pt x="20200" y="26676"/>
                </a:lnTo>
                <a:lnTo>
                  <a:pt x="20200" y="1400"/>
                </a:lnTo>
                <a:close/>
              </a:path>
              <a:path fill="darkenLess" w="21600" h="28076">
                <a:moveTo>
                  <a:pt x="21600" y="28076"/>
                </a:moveTo>
                <a:lnTo>
                  <a:pt x="0" y="28076"/>
                </a:lnTo>
                <a:lnTo>
                  <a:pt x="1400" y="26676"/>
                </a:lnTo>
                <a:lnTo>
                  <a:pt x="20200" y="26676"/>
                </a:lnTo>
                <a:close/>
              </a:path>
              <a:path fill="lighten" w="21600" h="28076">
                <a:moveTo>
                  <a:pt x="0" y="28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76"/>
                </a:lnTo>
                <a:close/>
              </a:path>
              <a:path fill="darken" w="21600" h="28076">
                <a:moveTo>
                  <a:pt x="10800" y="7075"/>
                </a:moveTo>
                <a:lnTo>
                  <a:pt x="13376" y="9686"/>
                </a:ln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lnTo>
                  <a:pt x="17763" y="14038"/>
                </a:lnTo>
                <a:lnTo>
                  <a:pt x="16109" y="14038"/>
                </a:lnTo>
                <a:lnTo>
                  <a:pt x="16109" y="21227"/>
                </a:lnTo>
                <a:lnTo>
                  <a:pt x="5491" y="21227"/>
                </a:lnTo>
                <a:lnTo>
                  <a:pt x="5491" y="14038"/>
                </a:lnTo>
                <a:lnTo>
                  <a:pt x="3837" y="14038"/>
                </a:lnTo>
                <a:close/>
              </a:path>
              <a:path fill="darkenLess" w="21600" h="28076">
                <a:moveTo>
                  <a:pt x="13376" y="9686"/>
                </a:moveTo>
                <a:lnTo>
                  <a:pt x="13376" y="7945"/>
                </a:lnTo>
                <a:lnTo>
                  <a:pt x="15152" y="7945"/>
                </a:lnTo>
                <a:lnTo>
                  <a:pt x="15152" y="11462"/>
                </a:lnTo>
                <a:close/>
              </a:path>
              <a:path fill="darkenLess" w="21600" h="28076">
                <a:moveTo>
                  <a:pt x="9877" y="17537"/>
                </a:moveTo>
                <a:lnTo>
                  <a:pt x="11723" y="17537"/>
                </a:lnTo>
                <a:lnTo>
                  <a:pt x="11723" y="21227"/>
                </a:lnTo>
                <a:lnTo>
                  <a:pt x="16109" y="21227"/>
                </a:lnTo>
                <a:lnTo>
                  <a:pt x="16109" y="14038"/>
                </a:lnTo>
                <a:lnTo>
                  <a:pt x="5491" y="14038"/>
                </a:lnTo>
                <a:lnTo>
                  <a:pt x="5491" y="21227"/>
                </a:lnTo>
                <a:lnTo>
                  <a:pt x="9877" y="21227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267080" y="236232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дител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-306360" y="-67680"/>
            <a:ext cx="94503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Есл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181080" algn="ctr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Ребенка постоянно критикуют, он учится ненавиде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181080" algn="ctr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2. Ребенка высмеивают, он становится замкнут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3. Ребенка хвалят, он учится быть благородн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. Ребенка поддерживают, он учится ценить себ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5. Ребенок растет в упреках, он учится жить с чувством ви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6. Ребенок растет в атмосфере терпимости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b2ff"/>
                </a:solidFill>
                <a:latin typeface="Arial"/>
              </a:rPr>
              <a:t>он учится понимать друг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7. Ребенок растет в честности, он учится быть справедлив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533520"/>
            <a:ext cx="815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8. Ребенок растет в безопасности, он учится верить в люд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9. Ребенок живет во вражде, он учится быть агрессивны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b2ff"/>
                </a:solidFill>
                <a:latin typeface="Arial"/>
              </a:rPr>
              <a:t>10. Ребенок живет в понимании и дружелюбии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5b2ff"/>
                </a:solidFill>
                <a:latin typeface="Arial"/>
              </a:rPr>
              <a:t>он учится находить людей в этом мир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514600" y="5181480"/>
            <a:ext cx="4276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Не забывайте эти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десять "ЕСЛИ"!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1066680"/>
            <a:ext cx="7410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варительные итоги  четв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2743200"/>
            <a:ext cx="4114800" cy="3657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971800"/>
            <a:ext cx="914400" cy="160020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200400" y="3581280"/>
            <a:ext cx="1752480" cy="99072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133720" y="4876920"/>
            <a:ext cx="236196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дар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932400" y="176040"/>
            <a:ext cx="7354440" cy="6680880"/>
            <a:chOff x="932400" y="176040"/>
            <a:chExt cx="7354440" cy="6680880"/>
          </a:xfrm>
        </p:grpSpPr>
        <p:sp>
          <p:nvSpPr>
            <p:cNvPr id="225" name="_s22532"/>
            <p:cNvSpPr/>
            <p:nvPr/>
          </p:nvSpPr>
          <p:spPr>
            <a:xfrm flipH="1" flipV="1">
              <a:off x="2839320" y="267984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22533"/>
            <p:cNvSpPr/>
            <p:nvPr/>
          </p:nvSpPr>
          <p:spPr>
            <a:xfrm>
              <a:off x="932400" y="142704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Здоровье-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сберегающ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22534"/>
            <p:cNvSpPr/>
            <p:nvPr/>
          </p:nvSpPr>
          <p:spPr>
            <a:xfrm flipH="1">
              <a:off x="2839320" y="393300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22535"/>
            <p:cNvSpPr/>
            <p:nvPr/>
          </p:nvSpPr>
          <p:spPr>
            <a:xfrm>
              <a:off x="932400" y="393300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правов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_s22536"/>
            <p:cNvSpPr/>
            <p:nvPr/>
          </p:nvSpPr>
          <p:spPr>
            <a:xfrm>
              <a:off x="4609800" y="4350960"/>
              <a:ext cx="0" cy="835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_s22537"/>
            <p:cNvSpPr/>
            <p:nvPr/>
          </p:nvSpPr>
          <p:spPr>
            <a:xfrm>
              <a:off x="3587400" y="518616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умственн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_s22538"/>
            <p:cNvSpPr/>
            <p:nvPr/>
          </p:nvSpPr>
          <p:spPr>
            <a:xfrm>
              <a:off x="5494680" y="393300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_s22539"/>
            <p:cNvSpPr/>
            <p:nvPr/>
          </p:nvSpPr>
          <p:spPr>
            <a:xfrm>
              <a:off x="6242400" y="393300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эстетическ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_s22540"/>
            <p:cNvSpPr/>
            <p:nvPr/>
          </p:nvSpPr>
          <p:spPr>
            <a:xfrm flipV="1">
              <a:off x="5494680" y="2682360"/>
              <a:ext cx="885240" cy="417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_s22541"/>
            <p:cNvSpPr/>
            <p:nvPr/>
          </p:nvSpPr>
          <p:spPr>
            <a:xfrm>
              <a:off x="6242400" y="142920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трудов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_s22542"/>
            <p:cNvSpPr/>
            <p:nvPr/>
          </p:nvSpPr>
          <p:spPr>
            <a:xfrm flipV="1">
              <a:off x="4609800" y="1846800"/>
              <a:ext cx="0" cy="8352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_s22543"/>
            <p:cNvSpPr/>
            <p:nvPr/>
          </p:nvSpPr>
          <p:spPr>
            <a:xfrm>
              <a:off x="3587400" y="17604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нравственная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_s22544"/>
            <p:cNvSpPr/>
            <p:nvPr/>
          </p:nvSpPr>
          <p:spPr>
            <a:xfrm>
              <a:off x="3587400" y="2682360"/>
              <a:ext cx="2044440" cy="167076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aeaea"/>
                  </a:solidFill>
                  <a:latin typeface="Arial"/>
                </a:rPr>
                <a:t>Работа с</a:t>
              </a:r>
              <a:endParaRPr b="0" lang="en-US" sz="2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2700" spc="-1" strike="noStrike">
                  <a:solidFill>
                    <a:srgbClr val="eaeaea"/>
                  </a:solidFill>
                  <a:latin typeface="Arial"/>
                </a:rPr>
                <a:t>детьми</a:t>
              </a:r>
              <a:endParaRPr b="0" lang="en-US" sz="27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371600" y="685800"/>
            <a:ext cx="6324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ткуда берё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школьная тревожнос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3352680"/>
            <a:ext cx="7943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ь школьного образования-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здание и поддержание 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х условий, обеспечивающих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рмоничное развитие каждого ребёнка.</a:t>
            </a:r>
            <a:endParaRPr b="0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914400" y="533520"/>
            <a:ext cx="67438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евожность-ответная реакция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рессовую ситуацию.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2209680"/>
            <a:ext cx="8362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Arial"/>
              </a:rPr>
              <a:t>Повышенный уровень тревожности характерен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eaeaea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eaeaea"/>
                </a:solidFill>
                <a:latin typeface="Arial"/>
              </a:rPr>
              <a:t>для учащихся 5-х классов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eaeaea"/>
              </a:solidFill>
              <a:latin typeface="Arial"/>
              <a:ea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4038480"/>
            <a:ext cx="8610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равило, повторная диагностика через 2-3 месяца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казывает значительное улучшение.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09480" y="685800"/>
            <a:ext cx="8258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ментарии специалистов: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рмальная тревожность мобилизует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ическую деятельность, повышенная-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ывает противоположное воздействие,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пятствуя нормальному обучению </a:t>
            </a:r>
            <a:endParaRPr b="0" lang="en-US" sz="1800" spc="1" strike="noStrike">
              <a:ln w="9360">
                <a:solidFill>
                  <a:srgbClr val="eaeaea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33520" y="533520"/>
            <a:ext cx="81532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спресс-метод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последнее врем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я быстро ус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думаю, что у меня дела лучш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м у некоторых реб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я чувствую себя свобод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у меня появились головокруже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бость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198108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066680" y="228600"/>
            <a:ext cx="7162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мне не хватает уверенности в се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. я чувствую себя в безопас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. я избегаю трудн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. я могу легко расстрои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даже заплак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. у меня стало больше конфлик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3429000"/>
            <a:ext cx="8610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. Д/з  стали интересн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. я хуже понимаю объяснения учител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3. я долго переживаю неприят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4. я не высыпаю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5. хочу,чтобы в 5-м клас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ыли прошлогодние учи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219320" y="609480"/>
            <a:ext cx="5914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чи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жим дн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н         ПК      прогул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121932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057040" y="2666880"/>
            <a:ext cx="160020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2743200"/>
            <a:ext cx="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743200"/>
            <a:ext cx="1219320" cy="6858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57400" y="5105520"/>
            <a:ext cx="411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оки            круж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6520" y="44197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4419720"/>
            <a:ext cx="53352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914400" y="228600"/>
            <a:ext cx="6705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ими должны быть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дительские установки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 период адаптац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71600" y="2514600"/>
            <a:ext cx="59529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Всё будет хорошо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Как здорово у тебя получилось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Ты справишься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У тебя золотые руки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Ты-настоящий помощник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Без тебя как без рук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У тебя всё получится!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33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Я тебе обязательно помогу...</a:t>
            </a:r>
            <a:endParaRPr b="0" lang="en-US" sz="1800" spc="1" strike="noStrike">
              <a:ln w="9360">
                <a:solidFill>
                  <a:srgbClr val="ff9933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1-10-16T13:39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