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822-5BB9-4451-8854-609F6206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9AE-84FD-4279-BD15-5A7FA0A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019-7AEA-4D2D-AFEC-BA889103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708-EE48-4DFF-9C51-68564BB0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2577-0324-46D2-A8F8-137A0456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F05-776E-4117-AE7B-7F9E844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CABE-1218-431D-99D6-B4BD7052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4E84-BEB4-4F9F-99FB-F31BC90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07B1-97DE-4867-89FC-A076984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2431-0F4B-4363-84F0-15FEA4EF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E1C9-9AE2-4868-8365-2AC19EE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ABC-E00E-4C50-8C0C-91AE73D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FAC3-D54B-4335-9D74-3FBADD6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A7AA-CAC0-4ED6-981C-55B0238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B111-4F2F-4EA3-85B6-0303F7C1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79E8-33C7-4495-9AFD-81C3D3BD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85D9-3C8D-49FE-A60C-9CAB95A0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59C-AEFB-4B95-B24F-7747D2A5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921-39E9-44E0-AABB-75785CE1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218-DB8D-4443-BC0B-EA14D74E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698-9C54-4320-BD3C-3C181E7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C58-E6EF-4661-9BEB-4E55645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3A5-72CF-409D-8F1E-352B50A3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DBD-A6C1-4D7E-9081-47F6862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6C59-2E5B-4C27-B001-9A3826749D8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040D-61B1-4968-B175-7B4A1D3B82A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1977840"/>
            <a:ext cx="9375840" cy="3813120"/>
            <a:chOff x="0" y="1977840"/>
            <a:chExt cx="9375840" cy="3813120"/>
          </a:xfrm>
        </p:grpSpPr>
        <p:cxnSp>
          <p:nvCxnSpPr>
            <p:cNvPr id="212" name="_s21508"/>
            <p:cNvCxnSpPr>
              <a:stCxn id="213" idx="0"/>
              <a:endCxn id="214" idx="2"/>
            </p:cNvCxnSpPr>
            <p:nvPr/>
          </p:nvCxnSpPr>
          <p:spPr>
            <a:xfrm flipV="1" rot="16200000">
              <a:off x="5148360" y="3871440"/>
              <a:ext cx="447840" cy="1600560"/>
            </a:xfrm>
            <a:prstGeom prst="bentConnector3">
              <a:avLst>
                <a:gd name="adj1" fmla="val 500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1509"/>
            <p:cNvCxnSpPr>
              <a:stCxn id="216" idx="0"/>
              <a:endCxn id="214" idx="2"/>
            </p:cNvCxnSpPr>
            <p:nvPr/>
          </p:nvCxnSpPr>
          <p:spPr>
            <a:xfrm flipH="1" flipV="1" rot="5400000">
              <a:off x="3547800" y="3871800"/>
              <a:ext cx="447840" cy="1600560"/>
            </a:xfrm>
            <a:prstGeom prst="bentConnector3">
              <a:avLst>
                <a:gd name="adj1" fmla="val 500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1510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948280" y="1728720"/>
              <a:ext cx="448200" cy="3200760"/>
            </a:xfrm>
            <a:prstGeom prst="bentConnector5">
              <a:avLst>
                <a:gd name="adj1" fmla="val 51768"/>
                <a:gd name="adj2" fmla="val -50101"/>
                <a:gd name="adj3" fmla="val -2531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21511"/>
            <p:cNvCxnSpPr>
              <a:stCxn id="214" idx="0"/>
              <a:endCxn id="219" idx="2"/>
            </p:cNvCxnSpPr>
            <p:nvPr/>
          </p:nvCxnSpPr>
          <p:spPr>
            <a:xfrm rot="16200000">
              <a:off x="4348080" y="3328920"/>
              <a:ext cx="4482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1512"/>
            <p:cNvCxnSpPr>
              <a:stCxn id="222" idx="0"/>
              <a:endCxn id="219" idx="2"/>
            </p:cNvCxnSpPr>
            <p:nvPr/>
          </p:nvCxnSpPr>
          <p:spPr>
            <a:xfrm flipH="1" flipV="1" rot="5400000">
              <a:off x="2747880" y="1728720"/>
              <a:ext cx="448200" cy="3200760"/>
            </a:xfrm>
            <a:prstGeom prst="bentConnector5">
              <a:avLst>
                <a:gd name="adj1" fmla="val 351688"/>
                <a:gd name="adj2" fmla="val 150101"/>
                <a:gd name="adj3" fmla="val 20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9" name="_s21513"/>
            <p:cNvSpPr/>
            <p:nvPr/>
          </p:nvSpPr>
          <p:spPr>
            <a:xfrm>
              <a:off x="3200400" y="220968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1c1c1c"/>
                  </a:solidFill>
                  <a:latin typeface="Times New Roman"/>
                </a:rPr>
                <a:t>НАПРАВЛЕНИЯ РАБОТЫ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1c1c1c"/>
                  </a:solidFill>
                  <a:latin typeface="Times New Roman"/>
                </a:rPr>
                <a:t>классного  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1c1c1c"/>
                  </a:solidFill>
                  <a:latin typeface="Times New Roman"/>
                </a:rPr>
                <a:t>руководител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Times New Roman"/>
                </a:rPr>
                <a:t>                       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_s21514"/>
            <p:cNvSpPr/>
            <p:nvPr/>
          </p:nvSpPr>
          <p:spPr>
            <a:xfrm>
              <a:off x="0" y="35528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РАБОТА С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РОДИТЕЛЯМИ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_s21515"/>
            <p:cNvSpPr/>
            <p:nvPr/>
          </p:nvSpPr>
          <p:spPr>
            <a:xfrm>
              <a:off x="3200400" y="35528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РАБОТА С АКТИВОМ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КЛАССА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_s21516"/>
            <p:cNvSpPr/>
            <p:nvPr/>
          </p:nvSpPr>
          <p:spPr>
            <a:xfrm>
              <a:off x="6400800" y="35528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РАБОТА С УЧИТЕЛЯМИ-  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ПРЕДМЕТНИКАМИ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_s21517"/>
            <p:cNvSpPr/>
            <p:nvPr/>
          </p:nvSpPr>
          <p:spPr>
            <a:xfrm>
              <a:off x="1600200" y="48956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УЧАСТИЕ В ОБЩЕСТВЕННЫХ ДЕЛАХ  ШКОЛЫ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_s21518"/>
            <p:cNvSpPr/>
            <p:nvPr/>
          </p:nvSpPr>
          <p:spPr>
            <a:xfrm>
              <a:off x="4800600" y="48956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МЕРОПРИЯТИЯ В 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КЛАССЕ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762120" y="380880"/>
            <a:ext cx="7391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Модель воспитательной системы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в 5 "Д" классе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38280" y="1447920"/>
            <a:ext cx="44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говорить нельзя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66680" y="2819520"/>
            <a:ext cx="698184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Отстан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Не меша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Вот всегда ты так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Тебя не спрашивают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Вечно у тебя всё из рук валитс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У всех дети как дети, а ты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Ну что опять?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066680" y="533520"/>
            <a:ext cx="702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обследования по класс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057400"/>
            <a:ext cx="2438280" cy="2590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361960" y="2286000"/>
            <a:ext cx="68580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209680" y="3352680"/>
            <a:ext cx="152640" cy="12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3352680"/>
            <a:ext cx="121896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3962520"/>
            <a:ext cx="6858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276720" y="2590920"/>
            <a:ext cx="914400" cy="304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295280" y="4038480"/>
            <a:ext cx="4572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5334120"/>
            <a:ext cx="312408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орошее настро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505320" y="441972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-разном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62520" y="3124080"/>
            <a:ext cx="3057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 очень хороше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09680" y="1295280"/>
            <a:ext cx="4972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 моего настро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066680" y="533520"/>
            <a:ext cx="702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обследования по класс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057400"/>
            <a:ext cx="2438280" cy="2590920"/>
          </a:xfrm>
          <a:prstGeom prst="ellipse">
            <a:avLst/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361960" y="2286000"/>
            <a:ext cx="68580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209680" y="3352680"/>
            <a:ext cx="152640" cy="12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362320" y="3123720"/>
            <a:ext cx="11430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3962520"/>
            <a:ext cx="6858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276720" y="2590920"/>
            <a:ext cx="914400" cy="304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295280" y="4038480"/>
            <a:ext cx="4572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28600" y="5334120"/>
            <a:ext cx="312408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редняя ступен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505320" y="441972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чти верхня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343400" y="2819520"/>
            <a:ext cx="305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рхняя ступень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666880" y="1295280"/>
            <a:ext cx="4695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стница   достижени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66680" y="533520"/>
            <a:ext cx="702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обследования по класс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2057400"/>
            <a:ext cx="2438280" cy="2590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361960" y="2286000"/>
            <a:ext cx="685800" cy="10666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3276720"/>
            <a:ext cx="457200" cy="137160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362320" y="3123720"/>
            <a:ext cx="1143000" cy="22860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8120" y="3657600"/>
            <a:ext cx="6858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2590920"/>
            <a:ext cx="914400" cy="304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752480" y="4191120"/>
            <a:ext cx="4572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8600" y="53341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бр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сёл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6200" y="3809880"/>
            <a:ext cx="3809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окойн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внодушн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419720" y="236232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рдитый, недовольн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90920" y="1143000"/>
            <a:ext cx="39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ние  в  семь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971800"/>
            <a:ext cx="685800" cy="83808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6858000" y="1143000"/>
            <a:ext cx="762120" cy="9907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90720"/>
              <a:gd name="textAreaBottom" fmla="*/ 941400 h 990720"/>
            </a:gdLst>
            <a:ahLst/>
            <a:rect l="textAreaLeft" t="textAreaTop" r="textAreaRight" b="textAreaBottom"/>
            <a:pathLst>
              <a:path w="21600" h="28076">
                <a:moveTo>
                  <a:pt x="0" y="0"/>
                </a:moveTo>
                <a:lnTo>
                  <a:pt x="21600" y="0"/>
                </a:lnTo>
                <a:lnTo>
                  <a:pt x="21600" y="28076"/>
                </a:lnTo>
                <a:lnTo>
                  <a:pt x="0" y="28076"/>
                </a:lnTo>
                <a:close/>
              </a:path>
              <a:path fill="lightenLess" w="21600" h="28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6">
                <a:moveTo>
                  <a:pt x="21600" y="0"/>
                </a:moveTo>
                <a:lnTo>
                  <a:pt x="21600" y="28076"/>
                </a:lnTo>
                <a:lnTo>
                  <a:pt x="20200" y="26676"/>
                </a:lnTo>
                <a:lnTo>
                  <a:pt x="20200" y="1400"/>
                </a:lnTo>
                <a:close/>
              </a:path>
              <a:path fill="darkenLess" w="21600" h="28076">
                <a:moveTo>
                  <a:pt x="21600" y="28076"/>
                </a:moveTo>
                <a:lnTo>
                  <a:pt x="0" y="28076"/>
                </a:lnTo>
                <a:lnTo>
                  <a:pt x="1400" y="26676"/>
                </a:lnTo>
                <a:lnTo>
                  <a:pt x="20200" y="26676"/>
                </a:lnTo>
                <a:close/>
              </a:path>
              <a:path fill="lighten" w="21600" h="28076">
                <a:moveTo>
                  <a:pt x="0" y="28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6"/>
                </a:lnTo>
                <a:close/>
              </a:path>
              <a:path fill="darken" w="21600" h="28076">
                <a:moveTo>
                  <a:pt x="10800" y="7075"/>
                </a:moveTo>
                <a:lnTo>
                  <a:pt x="13376" y="9686"/>
                </a:lnTo>
                <a:lnTo>
                  <a:pt x="13376" y="7945"/>
                </a:lnTo>
                <a:lnTo>
                  <a:pt x="15152" y="7945"/>
                </a:lnTo>
                <a:lnTo>
                  <a:pt x="15152" y="11462"/>
                </a:lnTo>
                <a:lnTo>
                  <a:pt x="17763" y="14038"/>
                </a:lnTo>
                <a:lnTo>
                  <a:pt x="16109" y="14038"/>
                </a:lnTo>
                <a:lnTo>
                  <a:pt x="16109" y="21227"/>
                </a:lnTo>
                <a:lnTo>
                  <a:pt x="5491" y="21227"/>
                </a:lnTo>
                <a:lnTo>
                  <a:pt x="5491" y="14038"/>
                </a:lnTo>
                <a:lnTo>
                  <a:pt x="3837" y="14038"/>
                </a:lnTo>
                <a:close/>
              </a:path>
              <a:path fill="darkenLess" w="21600" h="28076">
                <a:moveTo>
                  <a:pt x="13376" y="9686"/>
                </a:moveTo>
                <a:lnTo>
                  <a:pt x="13376" y="7945"/>
                </a:lnTo>
                <a:lnTo>
                  <a:pt x="15152" y="7945"/>
                </a:lnTo>
                <a:lnTo>
                  <a:pt x="15152" y="11462"/>
                </a:lnTo>
                <a:close/>
              </a:path>
              <a:path fill="darkenLess" w="21600" h="28076">
                <a:moveTo>
                  <a:pt x="9877" y="17537"/>
                </a:moveTo>
                <a:lnTo>
                  <a:pt x="11723" y="17537"/>
                </a:lnTo>
                <a:lnTo>
                  <a:pt x="11723" y="21227"/>
                </a:lnTo>
                <a:lnTo>
                  <a:pt x="16109" y="21227"/>
                </a:lnTo>
                <a:lnTo>
                  <a:pt x="16109" y="14038"/>
                </a:lnTo>
                <a:lnTo>
                  <a:pt x="5491" y="14038"/>
                </a:lnTo>
                <a:lnTo>
                  <a:pt x="5491" y="21227"/>
                </a:lnTo>
                <a:lnTo>
                  <a:pt x="9877" y="21227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001000" y="144792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066680" y="533520"/>
            <a:ext cx="702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обследования по класс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2057400"/>
            <a:ext cx="2438280" cy="2590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361960" y="2895480"/>
            <a:ext cx="1143000" cy="45720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3352680"/>
            <a:ext cx="1218960" cy="60984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3429000"/>
            <a:ext cx="6858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752480" y="4191120"/>
            <a:ext cx="4572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8600" y="53341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бр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сёл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6200" y="3809880"/>
            <a:ext cx="3809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окойн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внодушн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90920" y="1143000"/>
            <a:ext cx="39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ние  в  семь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971800"/>
            <a:ext cx="685800" cy="83808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firstslide"/>
          </p:cNvPr>
          <p:cNvSpPr/>
          <p:nvPr/>
        </p:nvSpPr>
        <p:spPr>
          <a:xfrm>
            <a:off x="7010280" y="1295280"/>
            <a:ext cx="762120" cy="9907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90720"/>
              <a:gd name="textAreaBottom" fmla="*/ 941400 h 990720"/>
            </a:gdLst>
            <a:ahLst/>
            <a:rect l="textAreaLeft" t="textAreaTop" r="textAreaRight" b="textAreaBottom"/>
            <a:pathLst>
              <a:path w="21600" h="28076">
                <a:moveTo>
                  <a:pt x="0" y="0"/>
                </a:moveTo>
                <a:lnTo>
                  <a:pt x="21600" y="0"/>
                </a:lnTo>
                <a:lnTo>
                  <a:pt x="21600" y="28076"/>
                </a:lnTo>
                <a:lnTo>
                  <a:pt x="0" y="28076"/>
                </a:lnTo>
                <a:close/>
              </a:path>
              <a:path fill="lightenLess" w="21600" h="28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6">
                <a:moveTo>
                  <a:pt x="21600" y="0"/>
                </a:moveTo>
                <a:lnTo>
                  <a:pt x="21600" y="28076"/>
                </a:lnTo>
                <a:lnTo>
                  <a:pt x="20200" y="26676"/>
                </a:lnTo>
                <a:lnTo>
                  <a:pt x="20200" y="1400"/>
                </a:lnTo>
                <a:close/>
              </a:path>
              <a:path fill="darkenLess" w="21600" h="28076">
                <a:moveTo>
                  <a:pt x="21600" y="28076"/>
                </a:moveTo>
                <a:lnTo>
                  <a:pt x="0" y="28076"/>
                </a:lnTo>
                <a:lnTo>
                  <a:pt x="1400" y="26676"/>
                </a:lnTo>
                <a:lnTo>
                  <a:pt x="20200" y="26676"/>
                </a:lnTo>
                <a:close/>
              </a:path>
              <a:path fill="lighten" w="21600" h="28076">
                <a:moveTo>
                  <a:pt x="0" y="28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6"/>
                </a:lnTo>
                <a:close/>
              </a:path>
              <a:path fill="darken" w="21600" h="28076">
                <a:moveTo>
                  <a:pt x="10800" y="7075"/>
                </a:moveTo>
                <a:lnTo>
                  <a:pt x="13376" y="9686"/>
                </a:lnTo>
                <a:lnTo>
                  <a:pt x="13376" y="7945"/>
                </a:lnTo>
                <a:lnTo>
                  <a:pt x="15152" y="7945"/>
                </a:lnTo>
                <a:lnTo>
                  <a:pt x="15152" y="11462"/>
                </a:lnTo>
                <a:lnTo>
                  <a:pt x="17763" y="14038"/>
                </a:lnTo>
                <a:lnTo>
                  <a:pt x="16109" y="14038"/>
                </a:lnTo>
                <a:lnTo>
                  <a:pt x="16109" y="21227"/>
                </a:lnTo>
                <a:lnTo>
                  <a:pt x="5491" y="21227"/>
                </a:lnTo>
                <a:lnTo>
                  <a:pt x="5491" y="14038"/>
                </a:lnTo>
                <a:lnTo>
                  <a:pt x="3837" y="14038"/>
                </a:lnTo>
                <a:close/>
              </a:path>
              <a:path fill="darkenLess" w="21600" h="28076">
                <a:moveTo>
                  <a:pt x="13376" y="9686"/>
                </a:moveTo>
                <a:lnTo>
                  <a:pt x="13376" y="7945"/>
                </a:lnTo>
                <a:lnTo>
                  <a:pt x="15152" y="7945"/>
                </a:lnTo>
                <a:lnTo>
                  <a:pt x="15152" y="11462"/>
                </a:lnTo>
                <a:close/>
              </a:path>
              <a:path fill="darkenLess" w="21600" h="28076">
                <a:moveTo>
                  <a:pt x="9877" y="17537"/>
                </a:moveTo>
                <a:lnTo>
                  <a:pt x="11723" y="17537"/>
                </a:lnTo>
                <a:lnTo>
                  <a:pt x="11723" y="21227"/>
                </a:lnTo>
                <a:lnTo>
                  <a:pt x="16109" y="21227"/>
                </a:lnTo>
                <a:lnTo>
                  <a:pt x="16109" y="14038"/>
                </a:lnTo>
                <a:lnTo>
                  <a:pt x="5491" y="14038"/>
                </a:lnTo>
                <a:lnTo>
                  <a:pt x="5491" y="21227"/>
                </a:lnTo>
                <a:lnTo>
                  <a:pt x="9877" y="21227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267080" y="2362320"/>
            <a:ext cx="22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ител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-306360" y="-67680"/>
            <a:ext cx="94503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Есл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181080" algn="ctr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Ребенка постоянно критикуют, он учится ненавиде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181080" algn="ctr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2. Ребенка высмеивают, он становится замкнут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3. Ребенка хвалят, он учится быть благородн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. Ребенка поддерживают, он учится ценить себ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5. Ребенок растет в упреках, он учится жить с чувством ви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6. Ребенок растет в атмосфере терпимости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он учится понимать други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7. Ребенок растет в честности, он учится быть справедлив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533520"/>
            <a:ext cx="815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8. Ребенок растет в безопасности, он учится верить в люд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9. Ребенок живет во вражде, он учится быть агрессивн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b2ff"/>
                </a:solidFill>
                <a:latin typeface="Arial"/>
              </a:rPr>
              <a:t>10. Ребенок живет в понимании и дружелюбии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b2ff"/>
                </a:solidFill>
                <a:latin typeface="Arial"/>
              </a:rPr>
              <a:t>он учится находить людей в этом мир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514600" y="5181480"/>
            <a:ext cx="4276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Не забывайте эти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десять "ЕСЛИ"!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1066680"/>
            <a:ext cx="7410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варительные итоги  четв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2743200"/>
            <a:ext cx="4114800" cy="3657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971800"/>
            <a:ext cx="914400" cy="160020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200400" y="3581280"/>
            <a:ext cx="1752480" cy="99072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133720" y="4876920"/>
            <a:ext cx="236196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дар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932400" y="176040"/>
            <a:ext cx="7354440" cy="6680880"/>
            <a:chOff x="932400" y="176040"/>
            <a:chExt cx="7354440" cy="6680880"/>
          </a:xfrm>
        </p:grpSpPr>
        <p:sp>
          <p:nvSpPr>
            <p:cNvPr id="225" name="_s22532"/>
            <p:cNvSpPr/>
            <p:nvPr/>
          </p:nvSpPr>
          <p:spPr>
            <a:xfrm flipH="1" flipV="1">
              <a:off x="2839320" y="2679840"/>
              <a:ext cx="885240" cy="417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22533"/>
            <p:cNvSpPr/>
            <p:nvPr/>
          </p:nvSpPr>
          <p:spPr>
            <a:xfrm>
              <a:off x="932400" y="142704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Здоровье-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сберегающ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22534"/>
            <p:cNvSpPr/>
            <p:nvPr/>
          </p:nvSpPr>
          <p:spPr>
            <a:xfrm flipH="1">
              <a:off x="2839320" y="3933000"/>
              <a:ext cx="885240" cy="417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22535"/>
            <p:cNvSpPr/>
            <p:nvPr/>
          </p:nvSpPr>
          <p:spPr>
            <a:xfrm>
              <a:off x="932400" y="393300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правов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_s22536"/>
            <p:cNvSpPr/>
            <p:nvPr/>
          </p:nvSpPr>
          <p:spPr>
            <a:xfrm>
              <a:off x="4609800" y="4350960"/>
              <a:ext cx="0" cy="835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_s22537"/>
            <p:cNvSpPr/>
            <p:nvPr/>
          </p:nvSpPr>
          <p:spPr>
            <a:xfrm>
              <a:off x="3587400" y="518616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умственн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_s22538"/>
            <p:cNvSpPr/>
            <p:nvPr/>
          </p:nvSpPr>
          <p:spPr>
            <a:xfrm>
              <a:off x="5494680" y="3933000"/>
              <a:ext cx="885240" cy="417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_s22539"/>
            <p:cNvSpPr/>
            <p:nvPr/>
          </p:nvSpPr>
          <p:spPr>
            <a:xfrm>
              <a:off x="6242400" y="393300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эстетическ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_s22540"/>
            <p:cNvSpPr/>
            <p:nvPr/>
          </p:nvSpPr>
          <p:spPr>
            <a:xfrm flipV="1">
              <a:off x="5494680" y="2682360"/>
              <a:ext cx="885240" cy="417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_s22541"/>
            <p:cNvSpPr/>
            <p:nvPr/>
          </p:nvSpPr>
          <p:spPr>
            <a:xfrm>
              <a:off x="6242400" y="142920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трудов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_s22542"/>
            <p:cNvSpPr/>
            <p:nvPr/>
          </p:nvSpPr>
          <p:spPr>
            <a:xfrm flipV="1">
              <a:off x="4609800" y="1846800"/>
              <a:ext cx="0" cy="835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_s22543"/>
            <p:cNvSpPr/>
            <p:nvPr/>
          </p:nvSpPr>
          <p:spPr>
            <a:xfrm>
              <a:off x="3587400" y="17604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нравственн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_s22544"/>
            <p:cNvSpPr/>
            <p:nvPr/>
          </p:nvSpPr>
          <p:spPr>
            <a:xfrm>
              <a:off x="3587400" y="268236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aeaea"/>
                  </a:solidFill>
                  <a:latin typeface="Arial"/>
                </a:rPr>
                <a:t>Работа с</a:t>
              </a:r>
              <a:endParaRPr b="0" lang="en-US" sz="2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eaeaea"/>
                  </a:solidFill>
                  <a:latin typeface="Arial"/>
                </a:rPr>
                <a:t>детьми</a:t>
              </a:r>
              <a:endParaRPr b="0" lang="en-US" sz="27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371600" y="685800"/>
            <a:ext cx="6324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куда берё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школьная тревожнос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3352680"/>
            <a:ext cx="79437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ль школьного образования-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здание и поддержание 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ологических условий, обеспечивающих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рмоничное развитие каждого ребёнка.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14400" y="533520"/>
            <a:ext cx="67438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вожность-ответная реакция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рессовую ситуацию.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2209680"/>
            <a:ext cx="8362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Arial"/>
              </a:rPr>
              <a:t>Повышенный уровень тревожности характерен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eaeae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Arial"/>
              </a:rPr>
              <a:t>для учащихся 5-х классов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eaeaea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403848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равило, повторная диагностика через 2-3 месяца 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казывает значительное улучшение.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09480" y="685800"/>
            <a:ext cx="8258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ментарии специалистов: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рмальная тревожность мобилизует 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ическую деятельность, повышенная- 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ывает противоположное воздействие,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пятствуя нормальному обучению 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33520" y="533520"/>
            <a:ext cx="81532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спресс-метод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последнее врем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я быстро ус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думаю, что у меня дела лучш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м у некоторых реб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я чувствую себя свобод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у меня появились головокружен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абость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198108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066680" y="228600"/>
            <a:ext cx="7162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мне не хватает уверенности в се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. я чувствую себя в безопас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. я избегаю трудн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. я могу легко расстрои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даже заплак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. у меня стало больше конфлик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3429000"/>
            <a:ext cx="8610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. Д/з  стали интерес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. я хуже понимаю объяснения учите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. я долго переживаю неприят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4. я не высыпаю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. хочу,чтобы в 5-м клас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ыли прошлогодние учи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219320" y="609480"/>
            <a:ext cx="5914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чи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жим дн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н         ПК      прогул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121932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057040" y="2666880"/>
            <a:ext cx="1600200" cy="914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274320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2743200"/>
            <a:ext cx="121932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57400" y="510552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оки            круж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6520" y="44197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4419720"/>
            <a:ext cx="53352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14400" y="228600"/>
            <a:ext cx="6705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ими должны быть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дительские установки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ериод адаптац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71600" y="2514600"/>
            <a:ext cx="59529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Всё будет хорошо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Как здорово у тебя получилось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Ты справишься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У тебя золотые руки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Ты-настоящий помощник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Без тебя как без рук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У тебя всё получится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Я тебе обязательно помогу...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1-10-16T13:39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