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8A5-D139-40DC-8A95-BEBDEACC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0D5-799C-4AA8-85D9-B692DB24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D46-1A77-4F51-A979-58BB344B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90D-B913-45A2-B1F6-D638C511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FDE-9850-48C9-91C1-1C9250C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0F4-CBC6-4ED8-8366-CF181F06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01C-1019-42AD-B25E-DE725822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7D7-C832-4D92-BC3E-BF44EA5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7B8-89B7-433F-93F8-51C096D7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CCF-D7BD-4335-AD22-DD0BADA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886-8729-4025-A0BB-1A16A4D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EF8-AAB5-406B-902A-7A581EE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9FE5-4F48-4FF3-BD41-0E0BA1817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99"/>
                </a:solidFill>
                <a:latin typeface="Freestyle Script"/>
              </a:rPr>
              <a:t>Роль искусства в сближении на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Calligraphy"/>
              </a:rPr>
              <a:t>           </a:t>
            </a: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В  2000  г.  телеканалом  «Культура»  был  создан  уникальный проект  –  Международный  телевизионный  конкурс  юных музыкантов  «Щелкунчик».  Это единственный  детский  конкурс  в  области академической  музыки,  который  дает возможность  одаренным  детям  выступить  перед  многомиллионной  аудиторией  и  сделать  первый  серьезный шаг к  профессиональному  успеху  и  признанию.  Многие  лауреаты  конкурса «Щелкунчик»  становятся  впоследств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i="1" lang="en-US" sz="2100" spc="-1" strike="noStrike">
                <a:solidFill>
                  <a:srgbClr val="000000"/>
                </a:solidFill>
                <a:latin typeface="Lucida Calligraphy"/>
              </a:rPr>
              <a:t>победителями  и  других  престижных  музыкальных  состязаний.</a:t>
            </a:r>
            <a:r>
              <a:rPr b="0" lang="en-US" sz="21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478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56000" y="62028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Широкая  панорама  детских  международных конкурсов — фестиваль-конкурс  детского  и  юношеского  творчества  «Открытая  Европа»,  конкурс  «Молодой  балет  мира»,  конкурс  хореографических  коллективов  «Петербург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етелица»,  конкурс  детских  рисунков, всемирные  Дельфийские  игры,  конкурс  исполнителей  популярной  песни «Детская  новая  волна»  и  др.  —  свидетельствует  о  большом  внимании  к  вы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явлению  творческих  даровани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3057480" cy="381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48690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музык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курсе «Щелку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3811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Распространение  в  современном искусстве  получают  международ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проекты,  в  которых  объединяют  свои усилия  творческие  личности  разных стран  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К  такого  рода  проектам  можно  отнести  известные  на  весь  мир  выступления  трех  великих  теноров  («Три  тенора»):  итальянца  Лучано  Паваротти, испанцев —  Пласидо  Доминго  и  Х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Каррераса,  в  исполнении  которых звучала  как  классическая  музыка, 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и  обработки  произведений  популярной  современной 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494160" cy="3256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56000" y="436572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Домин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. Каррера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. Паварот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7960" y="476280"/>
            <a:ext cx="38113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Интересным  явлением  в  мире  современной  эстрады  стал  вокальный     квартет  «Il  Divo»  («Диво»),  который исполняет  как  популярные  хиты,  так и  оперные  арии,  хорошо  зна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широкой  пуб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Большой  популярностью  среди  молодежи  пользуется  конкурс  певцов «Евровид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259160" cy="322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6880" y="443700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El Divo». Квар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Наглядным  подтверждением  художественного  общения,  интернациональности  языка  искусства,  который понятен без перевода, являются музеи, международные  выставки  изобразительного  искусства,  разнообразные конкурсы  (литературные,  музыкальные,  артистов  балета,  театральные, джазовые),  фестивали  искус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Lucida Calligraphy"/>
              </a:rPr>
              <a:t>Благодаря  общению  людей  с  выдающимися  творениями  мирового искусства  прошлого  и  настоящего времени  становится  возможным  диалог  культур.  По  мнению  академика Д. Лихачева,  исследователя  древнерусской  литературы,  «культура  объединяет все  стороны  человеческой  личности.  Нельзя быть  культурным  в  одной  области  и  оставаться  невежественным  в  другой.  Чем больше  человек  окружен  духовной  культурой, погружен  в  нее,  тем  ему  интереснее  жить, жизнь  приобретает  для  него  содержательность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7960" y="475920"/>
            <a:ext cx="39560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ранилищами художественных шедевров  являются  музеи.  Во  всем  мире известны  такие  музеи,  как  Третьяковская  галерея, Музей   изобраз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усств  им.  А. С.  Пушкина  (Москва), Эрмитаж,  Русский  музей  (Санкт-Петербург),  Лувр,  Музей  соврем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скусства  (Париж,  Франция),  музей Прадо  (Мадрид,  Испания),  Национальная  картинная  галерея  (Дрезден, Германия),  Британский  музей  (Лондон,  Англия)  и 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4091040" cy="251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3440" y="299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увр.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91176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5800" y="6093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рмитаж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65080" y="1268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до. Мад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041720" cy="265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4091040" cy="2706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79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циональная карти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ерея.  Дрез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Freestyle Script"/>
              </a:rPr>
              <a:t>Музей</a:t>
            </a:r>
            <a:r>
              <a:rPr b="1" i="1" lang="ru-RU" sz="3200" spc="-1" strike="noStrike">
                <a:solidFill>
                  <a:srgbClr val="000000"/>
                </a:solidFill>
                <a:latin typeface="Freestyle Script"/>
              </a:rPr>
              <a:t>  (греч.  museion  —  храм, музей)  —  учреждение,  собирающее и  выставляющее  для  всеобщего обозрения  произведения  искусства, предметы истории, науки, быта,    которые  располагаются  в  экспозиции по  определенной  сис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В  2008  г.  в  Сеуле  (Южная  Корея)  на  основе  компьютерных  технологий  была  создана виртуальная  галерея  шедевров  в  стиле  хай-тек  (англ.  high  technology,  high  tech,  hi-tech). Этот  стиль,  в  котором  используются  новые материалы  и  композиции,  возник  в  архитектуре  и  дизайне  в  80-е  гг.  XX  в.  Позднее  его черты  стали  проявляться  и  в  других  направлениях  художественного 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Lucida Calligraphy"/>
              </a:rPr>
              <a:t>В  этой  галерее  зрители  могут  общаться  с персонажами  более  чем  20  картин  и  скульптур,  среди  которых  «Тайная  вечеря»,  «Мона Лиза»  Леонардо  да  Винчи,  «Гибель  Помпеи» К. Брюллова,  «Дискобол»  Мирона  и  др. Зрители  могут  задать  им  вопросы,  увидеть, что  делали  они  за  миг  до  того,  как  их  изобразил  художник  или  скульптор,  наблюдать их  передвижения  в 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16240" y="333360"/>
            <a:ext cx="2708280" cy="6191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еждународные конкурсы, фестивали, проект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являются важным  средством  коммуникации.  Концерты  выдающихся исполнителей  (инструменталистов, оркестров,  дирижеров, вокалистов),  фестивали  фольклорных,  эстрадных,  джазовых, рок-ансамблей  часто  становятся  культурными  событиями  в жизни  стран  и  нар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от  уже  более  50  лет  (с  1957  г.)  приковывает  к  себе  внимание  всего  художественного мира Международный  конкурс имени  П. И. Чайковского,  который  собирает  сотни  молодых музыкантов различных национальностей. Среди победителей конкурса  и  русские,  и  американцы,  и  англичане,  и  китайцы, и  японцы,  и  французы.  А  слушательская  аудитория  охватывает  практически  все  национальности  и  культуры 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ступления  конкурсантов  слушают  в  концертном  зале,  их транслируют  по  радио,  телевидению,  Интернету.  Все  это  наглядное  проявление  универсальности  языка  музыкального общения,  который  приобрел  интернациональное 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Freestyle Script"/>
              </a:rPr>
              <a:t>В  каждой  номинации  конкурса  для  исполнения  предлагается  обязательное  сочинение  П. Чайковского,  которое играют  музыканты,  допущенные  к  участию  в  третьем,  заключительном  туре.  К  таким  произведениям  относится  и знаменитый  Концерт №1  для  фортепиано  с  оркестром.  Эта музыка —  своеобразная  визитная  карточка  конкурса.  Ее жизнеутверждающая  сила  словно  убеждает  всех  людей,  что  подлинное  искусство  вечно.  Лауреатом  Первого  конкурса  им. П. И. Чайковского  стал  молодой  американский  пианист  Ван Клибер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524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40000" y="691920"/>
            <a:ext cx="4546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Lucida Calligraphy"/>
              </a:rPr>
              <a:t>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Союзом  театральных  деятелей  в  конце  прошлого  века (1994  г.)  были  учреждены  театральный  фестиваль  и  национальная  премия  «Золотая  маска».  Первая  «Золотая  Маска»      вручалась  за  достижения  только  в  области  драматического театра.  Позже  эта  премия  стала  присуждаться  и  в  области  музыкального  театра.  Ее  лауреатом  в  этой  номинации стал  дирижер  и  руководитель  театра  «Новая  опера»  Евгений Колобов.  Первая  «Золотая  Маска»  в  номинации  «За  честь  и      достоинство» была присуждена легендарной балерине Галине Улан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595680" cy="301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47973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блема теат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стива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олотая ма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57:10Z</dcterms:created>
  <dc:creator>User</dc:creator>
  <dc:description/>
  <dc:language>en-US</dc:language>
  <cp:lastModifiedBy>Admin</cp:lastModifiedBy>
  <dcterms:modified xsi:type="dcterms:W3CDTF">2013-04-01T08:51:28Z</dcterms:modified>
  <cp:revision>3</cp:revision>
  <dc:subject/>
  <dc:title>Роль искусства в сближении народов</dc:title>
</cp:coreProperties>
</file>