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50D-25BB-4A4C-8744-136F38AB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B4B-41F6-4644-BFC9-FB2F791F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9E9-AC81-4850-A729-B0C486BD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21A-C1D5-4DD6-B3C2-E18CEC29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243-21D8-41E5-B481-41789A5A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919-0192-44B7-9BD4-30C99A7E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1C2-D1CB-492B-ACE2-034899D9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8D1-C5E8-4E10-B787-E490D80F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CF4-E445-45F3-A83B-76AAF5B9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CDD-E42D-443E-BC86-F12218A3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01E-AB66-40E3-BF32-A5B6A6C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4FA-8CAE-4F5A-93BB-52AF296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566F-594E-4DA7-A5E3-273BE459F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ateevo.ru/userfiles/image/Sobitiya/021008/kds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papers.ru/wallpapers/5e5ce026cdfdc14a7d0b0962ad0bbc07/2176_10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keep4u.ru/imgs/b/2009/06/11/9b/9b2cd8fee621182a1d2d6d540db1b4bb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11 из 3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ССИЯ – РОДИНА МО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0560" y="1699920"/>
            <a:ext cx="7093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мышляевской СОШ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р. Волжский Самарской обла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кина С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ждый герб – это целая пове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б – это условное изображение, являющееся символом и отличительным знаком не только государства, но и города, а в старину – рода или отдельного лица. Он отражает исторические традиции владельца. Очень красочны и ярки цвета русских гербов. Голубые, как небо, означают красоту и величие, ярко-зеленые – изобилие, красные, как пламя, - мужество, храбр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-main-pic" descr="Картинка 2 из 52"/>
          <p:cNvPicPr/>
          <p:nvPr/>
        </p:nvPicPr>
        <p:blipFill>
          <a:blip r:embed="rId1"/>
          <a:stretch/>
        </p:blipFill>
        <p:spPr>
          <a:xfrm>
            <a:off x="1835280" y="2781360"/>
            <a:ext cx="5127480" cy="3422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аг Самары с герб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б и флаг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ниципального района Волжск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-main-pic" descr="Картинка 1 из 52"/>
          <p:cNvPicPr/>
          <p:nvPr/>
        </p:nvPicPr>
        <p:blipFill>
          <a:blip r:embed="rId1"/>
          <a:stretch/>
        </p:blipFill>
        <p:spPr>
          <a:xfrm>
            <a:off x="423720" y="2997360"/>
            <a:ext cx="289260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i-main-pic" descr="Картинка 14 из 52"/>
          <p:cNvPicPr/>
          <p:nvPr/>
        </p:nvPicPr>
        <p:blipFill>
          <a:blip r:embed="rId2"/>
          <a:stretch/>
        </p:blipFill>
        <p:spPr>
          <a:xfrm>
            <a:off x="3924360" y="3068640"/>
            <a:ext cx="4824360" cy="3201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258920" y="2205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581800" y="22766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469160" y="1459080"/>
            <a:ext cx="68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находится городское поселение Смышляе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Картинка 11 из 1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74170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-main-pic" descr="Картинка 2 из 10809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5248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-main-pic" descr="Картинка 13 из 10809"/>
          <p:cNvPicPr/>
          <p:nvPr/>
        </p:nvPicPr>
        <p:blipFill>
          <a:blip r:embed="rId1"/>
          <a:stretch/>
        </p:blipFill>
        <p:spPr>
          <a:xfrm>
            <a:off x="971640" y="1628640"/>
            <a:ext cx="7343640" cy="4891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Москва Храм Василия Блаженного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-main-pic" descr="Картинка 3 из 1554"/>
          <p:cNvPicPr/>
          <p:nvPr/>
        </p:nvPicPr>
        <p:blipFill>
          <a:blip r:embed="rId1"/>
          <a:stretch/>
        </p:blipFill>
        <p:spPr>
          <a:xfrm>
            <a:off x="2484360" y="1268280"/>
            <a:ext cx="4319640" cy="532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а 12 из 87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484280"/>
            <a:ext cx="6413400" cy="5130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Картинка 13 из 228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484280"/>
            <a:ext cx="6413760" cy="5130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волы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-main-pic" descr="Картинка 46 из 30920"/>
          <p:cNvPicPr/>
          <p:nvPr/>
        </p:nvPicPr>
        <p:blipFill>
          <a:blip r:embed="rId1"/>
          <a:stretch/>
        </p:blipFill>
        <p:spPr>
          <a:xfrm>
            <a:off x="755640" y="2276640"/>
            <a:ext cx="7850160" cy="4929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611280" y="1413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, ГЕРБ, ФЛА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Картинка 22 из 8762"/>
          <p:cNvPicPr/>
          <p:nvPr/>
        </p:nvPicPr>
        <p:blipFill>
          <a:blip r:embed="rId1"/>
          <a:stretch/>
        </p:blipFill>
        <p:spPr>
          <a:xfrm>
            <a:off x="2268360" y="1484280"/>
            <a:ext cx="4464360" cy="5073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Картинка 28 из 8762"/>
          <p:cNvPicPr/>
          <p:nvPr/>
        </p:nvPicPr>
        <p:blipFill>
          <a:blip r:embed="rId1"/>
          <a:stretch/>
        </p:blipFill>
        <p:spPr>
          <a:xfrm>
            <a:off x="1042920" y="1628640"/>
            <a:ext cx="7110360" cy="4908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артинка 24 из 22877"/>
          <p:cNvPicPr/>
          <p:nvPr/>
        </p:nvPicPr>
        <p:blipFill>
          <a:blip r:embed="rId1"/>
          <a:stretch/>
        </p:blipFill>
        <p:spPr>
          <a:xfrm>
            <a:off x="1332000" y="1557360"/>
            <a:ext cx="6767280" cy="5078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Картинка 7 из 5560"/>
          <p:cNvPicPr/>
          <p:nvPr/>
        </p:nvPicPr>
        <p:blipFill>
          <a:blip r:embed="rId1"/>
          <a:stretch/>
        </p:blipFill>
        <p:spPr>
          <a:xfrm>
            <a:off x="1619280" y="1628640"/>
            <a:ext cx="5772240" cy="4902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Картинка 9 из 9631"/>
          <p:cNvPicPr/>
          <p:nvPr/>
        </p:nvPicPr>
        <p:blipFill>
          <a:blip r:embed="rId1"/>
          <a:stretch/>
        </p:blipFill>
        <p:spPr>
          <a:xfrm>
            <a:off x="1403280" y="1773360"/>
            <a:ext cx="6408720" cy="4806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Картинка 64 из 336"/>
          <p:cNvPicPr/>
          <p:nvPr/>
        </p:nvPicPr>
        <p:blipFill>
          <a:blip r:embed="rId1"/>
          <a:stretch/>
        </p:blipFill>
        <p:spPr>
          <a:xfrm>
            <a:off x="2124000" y="1557360"/>
            <a:ext cx="4951440" cy="5000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артинка 6 из 6925"/>
          <p:cNvPicPr/>
          <p:nvPr/>
        </p:nvPicPr>
        <p:blipFill>
          <a:blip r:embed="rId1"/>
          <a:stretch/>
        </p:blipFill>
        <p:spPr>
          <a:xfrm>
            <a:off x="1619280" y="1557360"/>
            <a:ext cx="6192720" cy="4940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Картинка 8 из 1530"/>
          <p:cNvPicPr/>
          <p:nvPr/>
        </p:nvPicPr>
        <p:blipFill>
          <a:blip r:embed="rId1"/>
          <a:stretch/>
        </p:blipFill>
        <p:spPr>
          <a:xfrm>
            <a:off x="900000" y="1844640"/>
            <a:ext cx="7345440" cy="4700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-main-pic" descr="Картинка 11 из 294286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689280" y="60404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gazmanov_oleg_-_moskva.mp3" descr=""/>
          <p:cNvPicPr/>
          <p:nvPr/>
        </p:nvPicPr>
        <p:blipFill>
          <a:blip r:embed="rId2"/>
          <a:stretch/>
        </p:blipFill>
        <p:spPr>
          <a:xfrm>
            <a:off x="6948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6834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zastavka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1560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1476360" y="335772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-main-pic" descr="Картинка 2 из 13834"/>
          <p:cNvPicPr/>
          <p:nvPr/>
        </p:nvPicPr>
        <p:blipFill>
          <a:blip r:embed="rId2"/>
          <a:stretch/>
        </p:blipFill>
        <p:spPr>
          <a:xfrm>
            <a:off x="3924360" y="4581360"/>
            <a:ext cx="1170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103 из 30920"/>
          <p:cNvPicPr/>
          <p:nvPr/>
        </p:nvPicPr>
        <p:blipFill>
          <a:blip r:embed="rId1"/>
          <a:stretch/>
        </p:blipFill>
        <p:spPr>
          <a:xfrm>
            <a:off x="1258920" y="1844640"/>
            <a:ext cx="696132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флаг РФ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ется во время торжественных мероприятий и приспускается во время траурных церем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-main-pic" descr="Картинка 69 из 30920"/>
          <p:cNvPicPr/>
          <p:nvPr/>
        </p:nvPicPr>
        <p:blipFill>
          <a:blip r:embed="rId1"/>
          <a:stretch/>
        </p:blipFill>
        <p:spPr>
          <a:xfrm>
            <a:off x="1042920" y="1484280"/>
            <a:ext cx="6875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б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-main-pic" descr="Картинка 2 из 13834"/>
          <p:cNvPicPr/>
          <p:nvPr/>
        </p:nvPicPr>
        <p:blipFill>
          <a:blip r:embed="rId1"/>
          <a:stretch/>
        </p:blipFill>
        <p:spPr>
          <a:xfrm>
            <a:off x="588960" y="1600200"/>
            <a:ext cx="377352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главый орёл – историческая эмблема нашей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имвол вечности Росси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герба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й двуглавый орёл с поднявшими   вверх    распущенными крыльями увенчан тремя коронами, символизирующими    триединство восточных славян. Скипетр и держава в когтях орла – образное   выражение государственных    устоев  нашего Отечества. На груди орла – щит с изображением Георгия Победоносца, особо почитаемого на Руси свят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2 из 13834"/>
          <p:cNvPicPr/>
          <p:nvPr/>
        </p:nvPicPr>
        <p:blipFill>
          <a:blip r:embed="rId1"/>
          <a:stretch/>
        </p:blipFill>
        <p:spPr>
          <a:xfrm>
            <a:off x="1222200" y="1268280"/>
            <a:ext cx="117000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мн – музыкально-поэтическое произведение. Исполняется во многих торжественных случаях, ежедневно транслируется по телевидению и радио перед началом и по окончании вещания, в новогоднюю ночь - после боя часов на Спасской башне Московского Кремля в 24 ча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надо зн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фициальном исполнении Государственного гимна РФ присутствующие слушают его стоя, мужчины – без головных уб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дновременно поднимается Государственный флаг РФ, присутствующие поворачиваются к нему ли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main-pic" descr="Картинка 15 из 31322"/>
          <p:cNvPicPr/>
          <p:nvPr/>
        </p:nvPicPr>
        <p:blipFill>
          <a:blip r:embed="rId1"/>
          <a:stretch/>
        </p:blipFill>
        <p:spPr>
          <a:xfrm>
            <a:off x="-541440" y="0"/>
            <a:ext cx="10477440" cy="7174080"/>
          </a:xfrm>
          <a:prstGeom prst="rect">
            <a:avLst/>
          </a:prstGeom>
          <a:ln w="0">
            <a:noFill/>
          </a:ln>
        </p:spPr>
      </p:pic>
      <p:pic>
        <p:nvPicPr>
          <p:cNvPr id="63" name="gimn_-_gimn_rossiiso_slovami.mp3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43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8:14:44Z</dcterms:created>
  <dc:creator>*</dc:creator>
  <dc:description/>
  <dc:language>en-US</dc:language>
  <cp:lastModifiedBy>Admin</cp:lastModifiedBy>
  <dcterms:modified xsi:type="dcterms:W3CDTF">2013-02-10T17:00:22Z</dcterms:modified>
  <cp:revision>6</cp:revision>
  <dc:subject/>
  <dc:title>РОССИЯ – РОДИНА МОЯ!</dc:title>
</cp:coreProperties>
</file>