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0B3-6DA4-4BB6-8770-880186E0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048E-798F-4C73-B0E7-F0C01D3F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59A8-A61B-4ED8-9E98-DFEB6D82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FB85-4D72-4697-855C-A9E0CDB3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77E1-5F11-4B2A-AF5D-0FBF5D94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A1AD-ECEA-4808-A6C0-44892A98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B8CE-DB70-4569-A912-0455386A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C664-B122-4F66-A599-EA273016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7C78-71FA-4C70-829A-DB41E51F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E649-3ACC-412B-A96F-9F312D36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8BC7-CECB-4BB5-BD10-0E0C551A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8CF-D540-48D1-9230-82196622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8823-D4B2-46CB-BBCA-77A1DF46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D4ED-3104-440C-AA67-DE5DDB1F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AA3B-A003-4C70-A304-041F5873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5A08-6BD4-4B68-AE5A-91E8DBB7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CA33-87E2-451A-BCA6-DA6F0A90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D409-9709-4839-8D21-E3E94F15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A093-05B8-4F9A-BDFE-342C5153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10A-65B3-46DC-8C36-B170BC3B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36E-FB35-47ED-BE8B-9A90E337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C04-C63F-4706-85E9-AB2CBFAB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4FF3-9874-4B38-B0E3-95EA40E4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E39-8D7A-4A38-9C27-55DEE32D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A1B0-DDF7-4D06-AEC8-166E39953A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4FFC-076E-4664-9C08-A88963478A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емья и бы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мья и ее фун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мья в современном ми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а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овые отно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C:\Users\тв\Desktop\i т.jpeg"/>
          <p:cNvPicPr/>
          <p:nvPr/>
        </p:nvPicPr>
        <p:blipFill>
          <a:blip r:embed="rId1"/>
          <a:stretch/>
        </p:blipFill>
        <p:spPr>
          <a:xfrm>
            <a:off x="5435640" y="407664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ания для прекращения бра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6565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ерть одного из супруг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заявлению одного или обоих супруг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заявлению опекуна супруга, признанного судо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дееспособ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C:\Users\тв\Desktop\1323952602_razvod.jpeg"/>
          <p:cNvPicPr/>
          <p:nvPr/>
        </p:nvPicPr>
        <p:blipFill>
          <a:blip r:embed="rId1"/>
          <a:stretch/>
        </p:blipFill>
        <p:spPr>
          <a:xfrm>
            <a:off x="5513400" y="4149720"/>
            <a:ext cx="3611520" cy="2708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ытовые отнош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овые отношения-это устойчивая система повседневных непроизводственных связей между людьми по поводу удовлетворения их первоначальных нужд (в пище, одежде, жилье, поддержании здоровья, уходе за детьм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льтура топоса – культу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шего местожи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C:\Users\тв\Desktop\new_160705_b89c4cc9.jpeg"/>
          <p:cNvPicPr/>
          <p:nvPr/>
        </p:nvPicPr>
        <p:blipFill>
          <a:blip r:embed="rId1"/>
          <a:stretch/>
        </p:blipFill>
        <p:spPr>
          <a:xfrm>
            <a:off x="5707080" y="3933720"/>
            <a:ext cx="343692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емья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90720" y="1628640"/>
            <a:ext cx="67816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мья-это малая группа людей, живущих вместе и связанных взаимной ответственностью и забот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семь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продуктив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ономи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питате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муникатив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я досуга и отдых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C:\Users\тв\Desktop\i вос.jpeg"/>
          <p:cNvPicPr/>
          <p:nvPr/>
        </p:nvPicPr>
        <p:blipFill>
          <a:blip r:embed="rId1"/>
          <a:stretch/>
        </p:blipFill>
        <p:spPr>
          <a:xfrm>
            <a:off x="6300720" y="4724280"/>
            <a:ext cx="284328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временная сем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яется положение женщины в обществе, а следовательно и в семь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ВОЛЮЦИЯ ФОРМ СЕМЬ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атриархальная семья (основная власть у отца, он глава семейств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мья партнерского типа (возрастает авторитет женщины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гопоколенная семья (разрушаетс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уклеарные семьи (супруги с детьм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C:\Users\тв\Desktop\CelebsandBubs_Son_47179_0_6600784_00.jpeg"/>
          <p:cNvPicPr/>
          <p:nvPr/>
        </p:nvPicPr>
        <p:blipFill>
          <a:blip r:embed="rId1"/>
          <a:stretch/>
        </p:blipFill>
        <p:spPr>
          <a:xfrm>
            <a:off x="6885000" y="0"/>
            <a:ext cx="22464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ра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61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ак – это взаимный и добровольный союз мужчины и женщины. Вступление в брак порождает у супругов взаимные права и обязан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лючается в органах ЗАГС (запись актов гражданского состояния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C:\Users\тв\Desktop\1302727277_9.jpeg"/>
          <p:cNvPicPr/>
          <p:nvPr/>
        </p:nvPicPr>
        <p:blipFill>
          <a:blip r:embed="rId1"/>
          <a:stretch/>
        </p:blipFill>
        <p:spPr>
          <a:xfrm>
            <a:off x="5329080" y="4365720"/>
            <a:ext cx="381492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915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иды брак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1052640"/>
          <a:ext cx="9144000" cy="58053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2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ви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 бра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663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Юридический бра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Добровольный союз мужчины и женщины, заключенный с соблюдением определенных правил, установленных закон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1739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ражданский бра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Длительное открытое совместное проживание мужчины и женщины в  незарегистрированном на законных основаниях брак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1981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Церковный бра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рак, который в России не влечет юридических последствий с точки зрения государства и регулируется нормами внутрицерковного п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3851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емейный кодек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215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словия заключения бра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заимное добровольное согласие, вступающих в бр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остижение брачного возраста (18 лет, при наличии уважительных причин, с разрешения органов местного самоуправления, в 16 л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тсутствие других официальных бра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е возможен брак между кровными родственни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е возможны браки между усыновителями и усыновленны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олько между дееспособными людь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C:\Users\тв\Desktop\i.jpeg"/>
          <p:cNvPicPr/>
          <p:nvPr/>
        </p:nvPicPr>
        <p:blipFill>
          <a:blip r:embed="rId1"/>
          <a:stretch/>
        </p:blipFill>
        <p:spPr>
          <a:xfrm>
            <a:off x="0" y="0"/>
            <a:ext cx="169236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ава супругов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7720" y="1125000"/>
            <a:ext cx="8007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ые пра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право свободного выбора рода занятий, профессии, мест пребывания и житель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равенство супругов в вопросах жизни семьи (материнства, отцовства, воспитания детей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) право давать согласие на усыновление другим супруг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) право выбора фамил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7720" y="259920"/>
            <a:ext cx="80074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ущественные пра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мущество, приобретенное в браке является общей собственность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ственным имуществом супругов считается: имущество принадлежащее до брака; полученное в дар; наследство; награды и премии не предусмотренные системой оплаты труда; вещи индивидуального пользования (за исключени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агоценностей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метов роскош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C:\Users\тв\Desktop\i им.jpeg"/>
          <p:cNvPicPr/>
          <p:nvPr/>
        </p:nvPicPr>
        <p:blipFill>
          <a:blip r:embed="rId1"/>
          <a:stretch/>
        </p:blipFill>
        <p:spPr>
          <a:xfrm>
            <a:off x="6732720" y="5288040"/>
            <a:ext cx="239688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ные права детей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412640"/>
            <a:ext cx="83772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енок имеет прав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жить и воспитываться в семь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аться со всеми своими родственника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жать свои интересы в семь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имя, отчество, фамили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получение содержания от своих родителей и других членов семь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6:49:22Z</dcterms:created>
  <dc:creator>3</dc:creator>
  <dc:description/>
  <dc:language>en-US</dc:language>
  <cp:lastModifiedBy>тв</cp:lastModifiedBy>
  <dcterms:modified xsi:type="dcterms:W3CDTF">2013-03-19T19:12:02Z</dcterms:modified>
  <cp:revision>25</cp:revision>
  <dc:subject/>
  <dc:title>Семейные отношения</dc:title>
</cp:coreProperties>
</file>