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64C-6FFE-4F62-9F3A-B78CFF4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933-8146-4A4B-9005-5983C8F9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32B-AF56-40C1-A78D-5655C7D2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D97-AE8D-4C42-BEE9-32D5B1AB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E16D-2222-4D5F-BF39-A1528B2B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2406-2134-42FA-A69A-8AD0F953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B8A-4E07-45F7-9883-6A1AD267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B7C1-C19A-4D34-BA3A-B53F696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597A-2479-4CF8-B19F-95E8A153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C7B3-7847-4D38-9E95-AF7D5700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46FF-DBDA-4E29-8259-7F54211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CBB-8C29-4832-8ECB-350D9A2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2724-25C6-4050-9FF5-CEB57AB5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5EF-5FC4-43A0-9A21-F0BC057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3625-B98F-483A-8E89-ECB39373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A2D9-3F9C-4DE5-837F-DAE3EFA7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38C3-87A4-41AC-B71C-4ED9E7EB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D29-D127-4C94-B4E8-C023B54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B6F-4A2F-47EB-A529-FBB5D16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1D0-80BE-47CE-BA2F-A080D65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21C-5C7A-4146-A52D-A853ECCF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CF8-0B82-4679-9585-A8CCAE0B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73E-3433-456F-B860-74F1017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65E-75D7-4246-B091-DE82779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D18-89A5-4B3C-B93F-01EB5D335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10D-18CD-4737-8DAE-9E5777C9EA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ья и бы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и ее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ые 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C:\Users\тв\Desktop\i т.jpeg"/>
          <p:cNvPicPr/>
          <p:nvPr/>
        </p:nvPicPr>
        <p:blipFill>
          <a:blip r:embed="rId1"/>
          <a:stretch/>
        </p:blipFill>
        <p:spPr>
          <a:xfrm>
            <a:off x="5435640" y="40766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ания для прекращения бра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6565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ерть одного из супру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явлению одного или обоих супруг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явлению опекуна супруга, признанного суд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ееспособ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Users\тв\Desktop\1323952602_razvod.jpeg"/>
          <p:cNvPicPr/>
          <p:nvPr/>
        </p:nvPicPr>
        <p:blipFill>
          <a:blip r:embed="rId1"/>
          <a:stretch/>
        </p:blipFill>
        <p:spPr>
          <a:xfrm>
            <a:off x="5513400" y="414972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ытовые отнош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овые отношения-это устойчивая система повседневных непроизводственных связей между людьми по поводу удовлетворения их первоначальных нужд (в пище, одежде, жилье, поддержании здоровья, уходе за деть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а топоса – куль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шего местожи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:\Users\тв\Desktop\new_160705_b89c4cc9.jpeg"/>
          <p:cNvPicPr/>
          <p:nvPr/>
        </p:nvPicPr>
        <p:blipFill>
          <a:blip r:embed="rId1"/>
          <a:stretch/>
        </p:blipFill>
        <p:spPr>
          <a:xfrm>
            <a:off x="5707080" y="3933720"/>
            <a:ext cx="34369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емь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628640"/>
            <a:ext cx="67816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я-это малая группа людей, живущих вместе и связанных взаимной ответственностью и забо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семь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продук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уник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осуга и отды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Users\тв\Desktop\i вос.jpeg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ременная сем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ется положение женщины в обществе, а следовательно и в сем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ВОЛЮЦИЯ ФОРМ СЕМЬ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атриархальная семья (основная власть у отца, он глава семей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партнерского типа (возрастает авторитет женщины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поколенная семья (разрушаетс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уклеарные семьи (супруги с деть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C:\Users\тв\Desktop\CelebsandBubs_Son_47179_0_6600784_00.jpeg"/>
          <p:cNvPicPr/>
          <p:nvPr/>
        </p:nvPicPr>
        <p:blipFill>
          <a:blip r:embed="rId1"/>
          <a:stretch/>
        </p:blipFill>
        <p:spPr>
          <a:xfrm>
            <a:off x="6885000" y="0"/>
            <a:ext cx="22464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р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61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ак – это взаимный и добровольный союз мужчины и женщины. Вступление в брак порождает у супругов взаимные права и обяз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ается в органах ЗАГС (запись актов гражданского состояния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C:\Users\тв\Desktop\1302727277_9.jpeg"/>
          <p:cNvPicPr/>
          <p:nvPr/>
        </p:nvPicPr>
        <p:blipFill>
          <a:blip r:embed="rId1"/>
          <a:stretch/>
        </p:blipFill>
        <p:spPr>
          <a:xfrm>
            <a:off x="5329080" y="4365720"/>
            <a:ext cx="381492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915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иды брак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ви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бра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663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Юридически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обровольный союз мужчины и женщины, заключенный с соблюдением определенных правил, установленных зако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1739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раждански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лительное открытое совместное проживание мужчины и женщины в  незарегистрированном на законных основаниях бра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19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Церковный б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рак, который в России не влечет юридических последствий с точки зрения государства и регулируется нормами внутрицерковного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мейный коде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215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словия заключения бра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заимное добровольное согласие, вступающих в бр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остижение брачного возраста (18 лет, при наличии уважительных причин, с разрешения органов местного самоуправления, в 16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сутствие других официальных бр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возможен брак между кровными родствен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 возможны браки между усыновителями и усыновлен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ько между дееспособны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C:\Users\тв\Desktop\i.jpeg"/>
          <p:cNvPicPr/>
          <p:nvPr/>
        </p:nvPicPr>
        <p:blipFill>
          <a:blip r:embed="rId1"/>
          <a:stretch/>
        </p:blipFill>
        <p:spPr>
          <a:xfrm>
            <a:off x="0" y="0"/>
            <a:ext cx="169236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ава супруг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125000"/>
            <a:ext cx="8007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пра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раво свободного выбора рода занятий, профессии, мест пребывания и ж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равенство супругов в вопросах жизни семьи (материнства, отцовства, воспитания де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право давать согласие на усыновление другим супруг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право выбора фамил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ущественные пра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имущество, приобретенное в браке является общей собствен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ственным имуществом супругов считается: имущество принадлежащее до брака; полученное в дар; наследство; награды и премии не предусмотренные системой оплаты труда; вещи индивидуального пользования (за исключени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агоценностей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ов роскош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C:\Users\тв\Desktop\i им.jpeg"/>
          <p:cNvPicPr/>
          <p:nvPr/>
        </p:nvPicPr>
        <p:blipFill>
          <a:blip r:embed="rId1"/>
          <a:stretch/>
        </p:blipFill>
        <p:spPr>
          <a:xfrm>
            <a:off x="6732720" y="5288040"/>
            <a:ext cx="23968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рава детей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12640"/>
            <a:ext cx="8377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имеет пра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жить и воспитываться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ться со всеми своими родственник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ать свои интересы в семь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имя, отчество, фамил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лучение содержания от своих родителей и других членов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6:49:22Z</dcterms:created>
  <dc:creator>3</dc:creator>
  <dc:description/>
  <dc:language>en-US</dc:language>
  <cp:lastModifiedBy>тв</cp:lastModifiedBy>
  <dcterms:modified xsi:type="dcterms:W3CDTF">2013-03-19T19:12:02Z</dcterms:modified>
  <cp:revision>25</cp:revision>
  <dc:subject/>
  <dc:title>Семейные отношения</dc:title>
</cp:coreProperties>
</file>