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6.wmf" ContentType="image/x-wmf"/>
  <Override PartName="/ppt/media/image19.jpeg" ContentType="image/jpeg"/>
  <Override PartName="/ppt/media/image5.gif" ContentType="image/gif"/>
  <Override PartName="/ppt/media/image14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A643-8117-49DF-B8BE-3714C671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58DC-430C-494B-9DBF-771E64B6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647-73B4-48CA-A446-F9895284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3459-F1AD-4109-8FA9-117BCEC9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E2F-BDA7-4F13-A7C2-84B95067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F31-FB5A-433B-BFCF-92ED3EF8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CB6-18D7-4314-8158-A7D95075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4180-9246-49A0-8125-2E5E4D18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1A0D-BD70-406B-988A-457913A5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6EF5-E2A8-4DAD-A432-079C9A0B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E1C-F30E-4583-A834-9EF0BBEA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979-08E2-451C-A3B4-1602F8FD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D0F2-CDFF-47CA-93D1-4BEEE8280A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121680"/>
            <a:ext cx="741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836280"/>
            <a:ext cx="755964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Мещеринская средняя общеобразовательная школа №1 с углубленным изучением отдельных предметов» Ступинского муниципального района Московской обла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следовательская  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Calibri"/>
              </a:rPr>
              <a:t>Тема: «Сладкие кристаллы»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ыполнил: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ученик 1А клас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Илюшин Владисла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вчук Л.Н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013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6875640" y="5084640"/>
            <a:ext cx="122544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79280" y="593280"/>
            <a:ext cx="360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ть полученный сахарный сироп в стаканы, добавить пищевые красител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Не добавляйте много красителя, иначе не будет видно как растут кристал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D:\УЧЕБА\исследование\DSC_0030.JPG"/>
          <p:cNvPicPr/>
          <p:nvPr/>
        </p:nvPicPr>
        <p:blipFill>
          <a:blip r:embed="rId1"/>
          <a:stretch/>
        </p:blipFill>
        <p:spPr>
          <a:xfrm>
            <a:off x="4067280" y="115920"/>
            <a:ext cx="4860720" cy="324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D:\УЧЕБА\исследование\DSC_0032.JPG"/>
          <p:cNvPicPr/>
          <p:nvPr/>
        </p:nvPicPr>
        <p:blipFill>
          <a:blip r:embed="rId2"/>
          <a:stretch/>
        </p:blipFill>
        <p:spPr>
          <a:xfrm>
            <a:off x="4067280" y="3502080"/>
            <a:ext cx="486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39280" y="549000"/>
            <a:ext cx="7993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Медленно опустить палочки в раствор и закрепить прищепками. ВАЖНО, чтобы палочки не касались ни дна банки, ни друг друга, между ними должно остаться расстояние, для обрастания кристаллами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D:\УЧЕБА\исследование\DSC_0038.JPG"/>
          <p:cNvPicPr/>
          <p:nvPr/>
        </p:nvPicPr>
        <p:blipFill>
          <a:blip r:embed="rId1"/>
          <a:stretch/>
        </p:blipFill>
        <p:spPr>
          <a:xfrm>
            <a:off x="2232000" y="3502080"/>
            <a:ext cx="4861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539280" y="549000"/>
            <a:ext cx="799308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вить баночки в теплое или солнечное место и наблюдать за их рос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УЧЕБА\исследование\DSC_0040.JPG"/>
          <p:cNvPicPr/>
          <p:nvPr/>
        </p:nvPicPr>
        <p:blipFill>
          <a:blip r:embed="rId1"/>
          <a:stretch/>
        </p:blipFill>
        <p:spPr>
          <a:xfrm>
            <a:off x="1403280" y="2060640"/>
            <a:ext cx="6480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9640" y="549000"/>
            <a:ext cx="3672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000000"/>
                </a:solidFill>
                <a:uFillTx/>
                <a:latin typeface="Calibri"/>
              </a:rPr>
              <a:t>Наблюдение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Через 2 дня были заметны результаты: на палочках и на дне стакана образовались кристаллы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D:\УЧЕБА\исследование\DSC_0050.JPG"/>
          <p:cNvPicPr/>
          <p:nvPr/>
        </p:nvPicPr>
        <p:blipFill>
          <a:blip r:embed="rId1"/>
          <a:stretch/>
        </p:blipFill>
        <p:spPr>
          <a:xfrm>
            <a:off x="4537080" y="189000"/>
            <a:ext cx="43196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9640" y="549000"/>
            <a:ext cx="3672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ерез 4 дня количество и размер кристаллов значительно увеличился</a:t>
            </a:r>
            <a:r>
              <a:rPr b="0" lang="ru-RU" sz="36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D:\УЧЕБА\исследование\DSC_0087.JPG"/>
          <p:cNvPicPr/>
          <p:nvPr/>
        </p:nvPicPr>
        <p:blipFill>
          <a:blip r:embed="rId1"/>
          <a:stretch/>
        </p:blipFill>
        <p:spPr>
          <a:xfrm>
            <a:off x="4572000" y="189000"/>
            <a:ext cx="4321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406728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устя неделю, выросли довольно красивые, разноцветные кристаллы многогранной фор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исталлы в которые было добавлено меньше красителя получились круп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D:\УЧЕБА\исследование\DSC_0266.JPG"/>
          <p:cNvPicPr/>
          <p:nvPr/>
        </p:nvPicPr>
        <p:blipFill>
          <a:blip r:embed="rId1"/>
          <a:stretch/>
        </p:blipFill>
        <p:spPr>
          <a:xfrm>
            <a:off x="4211640" y="3502080"/>
            <a:ext cx="4861080" cy="324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D:\УЧЕБА\исследование\DSC_0267.JPG"/>
          <p:cNvPicPr/>
          <p:nvPr/>
        </p:nvPicPr>
        <p:blipFill>
          <a:blip r:embed="rId2"/>
          <a:stretch/>
        </p:blipFill>
        <p:spPr>
          <a:xfrm>
            <a:off x="4211640" y="117360"/>
            <a:ext cx="48610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24000" y="333360"/>
            <a:ext cx="8353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ывод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го за неделю из простого сахара можно вырастить красивые разноцветные кристаллы, которыми можно угостить своих друз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D:\УЧЕБА\исследование\DSC_0288.JPG"/>
          <p:cNvPicPr/>
          <p:nvPr/>
        </p:nvPicPr>
        <p:blipFill>
          <a:blip r:embed="rId1"/>
          <a:stretch/>
        </p:blipFill>
        <p:spPr>
          <a:xfrm>
            <a:off x="1332000" y="2205000"/>
            <a:ext cx="6480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435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и гипотезы подтвердились: кристаллы можно вырастить в домашних условиях, только нужно знать способы их выращивания и соблюдать технику безопас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 кристаллов можно изменять при помощи пищевых красит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D:\УЧЕБА\исследование\DSC_0294.JPG"/>
          <p:cNvPicPr/>
          <p:nvPr/>
        </p:nvPicPr>
        <p:blipFill>
          <a:blip r:embed="rId1"/>
          <a:stretch/>
        </p:blipFill>
        <p:spPr>
          <a:xfrm>
            <a:off x="4452840" y="73080"/>
            <a:ext cx="444024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324000" y="981000"/>
            <a:ext cx="85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ahoma"/>
              </a:rPr>
              <a:t>Спасибо Всем!!!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AG00218_"/>
          <p:cNvPicPr/>
          <p:nvPr/>
        </p:nvPicPr>
        <p:blipFill>
          <a:blip r:embed="rId1"/>
          <a:stretch/>
        </p:blipFill>
        <p:spPr>
          <a:xfrm>
            <a:off x="4608360" y="3695760"/>
            <a:ext cx="334836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дачи рабо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изучить, что такое кристал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вырастить кристаллы в домашни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одзаголовок 4"/>
          <p:cNvSpPr/>
          <p:nvPr/>
        </p:nvSpPr>
        <p:spPr>
          <a:xfrm>
            <a:off x="179280" y="2205000"/>
            <a:ext cx="8785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бъект исследования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ристаллы сах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тоды исследования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пыт и наблю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ипотез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кристалл можно вырастить  дома при определенных услов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цвет кристалла можно изменить на тот, который захоч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AG00218_"/>
          <p:cNvPicPr/>
          <p:nvPr/>
        </p:nvPicPr>
        <p:blipFill>
          <a:blip r:embed="rId1"/>
          <a:stretch/>
        </p:blipFill>
        <p:spPr>
          <a:xfrm>
            <a:off x="6372360" y="5132520"/>
            <a:ext cx="15843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дзаголовок 4"/>
          <p:cNvSpPr/>
          <p:nvPr/>
        </p:nvSpPr>
        <p:spPr>
          <a:xfrm>
            <a:off x="179280" y="1125360"/>
            <a:ext cx="878544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исталлы — это твёрдые вещества, имеющие естественную внешнюю форму правильных многогранников. Оказывается, кристаллы окружают нас повсюду, например, все мы видели кристаллы воды –  лёд.  Узоры на окнах зимой – это  тоже кристаллы воды. Алмазы, изумруды, сапфиры  - все это тоже кристаллы, которые люди добывают в природе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CHLD338"/>
          <p:cNvPicPr/>
          <p:nvPr/>
        </p:nvPicPr>
        <p:blipFill>
          <a:blip r:embed="rId1"/>
          <a:stretch/>
        </p:blipFill>
        <p:spPr>
          <a:xfrm>
            <a:off x="7738920" y="5257800"/>
            <a:ext cx="1202040" cy="120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b1"/>
          <p:cNvPicPr/>
          <p:nvPr/>
        </p:nvPicPr>
        <p:blipFill>
          <a:blip r:embed="rId2"/>
          <a:stretch/>
        </p:blipFill>
        <p:spPr>
          <a:xfrm>
            <a:off x="611280" y="536400"/>
            <a:ext cx="1368360" cy="11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дзаголовок 4"/>
          <p:cNvSpPr/>
          <p:nvPr/>
        </p:nvSpPr>
        <p:spPr>
          <a:xfrm>
            <a:off x="179280" y="1484280"/>
            <a:ext cx="8785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узнал, что кристаллы можно вырастить и в домашних условиях, например из соли, соды или сахара. Мне захотелось попробовать вырастить сахарные кристаллы самому. Я решил провести исследовательскую работу под названием «Сладкие кристалл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0" descr="BS00554_"/>
          <p:cNvPicPr/>
          <p:nvPr/>
        </p:nvPicPr>
        <p:blipFill>
          <a:blip r:embed="rId1"/>
          <a:stretch/>
        </p:blipFill>
        <p:spPr>
          <a:xfrm>
            <a:off x="6875640" y="4800600"/>
            <a:ext cx="1520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324000" y="26244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аботы нам потребу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179280" y="883080"/>
            <a:ext cx="23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ка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179280" y="1881720"/>
            <a:ext cx="46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ревянные   шпаж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179280" y="327780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щепки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179280" y="4042440"/>
            <a:ext cx="46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щевые красители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179280" y="512280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хар и в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8" descr="j0233404"/>
          <p:cNvPicPr/>
          <p:nvPr/>
        </p:nvPicPr>
        <p:blipFill>
          <a:blip r:embed="rId1"/>
          <a:srcRect l="0" t="0" r="0" b="4431"/>
          <a:stretch/>
        </p:blipFill>
        <p:spPr>
          <a:xfrm>
            <a:off x="7583400" y="993600"/>
            <a:ext cx="106704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280" y="333000"/>
            <a:ext cx="39610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Итак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берем большую кастрюлю, заливаем воду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D:\УЧЕБА\исследование\DSC_0011.JPG"/>
          <p:cNvPicPr/>
          <p:nvPr/>
        </p:nvPicPr>
        <p:blipFill>
          <a:blip r:embed="rId1"/>
          <a:stretch/>
        </p:blipFill>
        <p:spPr>
          <a:xfrm>
            <a:off x="4716360" y="260280"/>
            <a:ext cx="4321440" cy="2881440"/>
          </a:xfrm>
          <a:prstGeom prst="rect">
            <a:avLst/>
          </a:prstGeom>
          <a:ln w="0">
            <a:noFill/>
          </a:ln>
        </p:spPr>
      </p:pic>
      <p:sp>
        <p:nvSpPr>
          <p:cNvPr id="64" name="Подзаголовок 2"/>
          <p:cNvSpPr/>
          <p:nvPr/>
        </p:nvSpPr>
        <p:spPr>
          <a:xfrm>
            <a:off x="468360" y="4365720"/>
            <a:ext cx="39592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и добавляем сахар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D:\УЧЕБА\исследование\DSC_0018.JPG"/>
          <p:cNvPicPr/>
          <p:nvPr/>
        </p:nvPicPr>
        <p:blipFill>
          <a:blip r:embed="rId2"/>
          <a:stretch/>
        </p:blipFill>
        <p:spPr>
          <a:xfrm>
            <a:off x="4716360" y="3381480"/>
            <a:ext cx="431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280" y="549000"/>
            <a:ext cx="799308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среднем огне доводим до закипания, постоянно помешива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только под присмотром взрослых!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Когда сахар весь растворится, выключаем огонь, оставляем кастрюлю на 15 мину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D:\УЧЕБА\исследование\DSC_0026.JPG"/>
          <p:cNvPicPr/>
          <p:nvPr/>
        </p:nvPicPr>
        <p:blipFill>
          <a:blip r:embed="rId1"/>
          <a:stretch/>
        </p:blipFill>
        <p:spPr>
          <a:xfrm>
            <a:off x="2050920" y="2781360"/>
            <a:ext cx="5292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539280" y="549360"/>
            <a:ext cx="7993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 наш раствор остывает, подготовим палочки. Замочим их в воде, затем обваляем в сахаре для  того, чтобы начался процесс образования  кристаллов, палочки мокрые - сахар приклеится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D:\УЧЕБА\исследование\DSC_0010.JPG"/>
          <p:cNvPicPr/>
          <p:nvPr/>
        </p:nvPicPr>
        <p:blipFill>
          <a:blip r:embed="rId1"/>
          <a:stretch/>
        </p:blipFill>
        <p:spPr>
          <a:xfrm>
            <a:off x="1979640" y="2708280"/>
            <a:ext cx="54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одзаголовок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9280" y="549360"/>
            <a:ext cx="7993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этого нужно обязательно дать палочкам с прилипшим сахаром высохнуть полностью, иначе  ничего не получится, так как весь сахар осыплется, и новым кристаллам не на чем будет расти</a:t>
            </a:r>
            <a:r>
              <a:rPr b="0" lang="ru-RU" sz="34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одзаголовок 2"/>
          <p:cNvSpPr/>
          <p:nvPr/>
        </p:nvSpPr>
        <p:spPr>
          <a:xfrm>
            <a:off x="4932360" y="476280"/>
            <a:ext cx="39607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D:\УЧЕБА\исследование\DSC_0008.JPG"/>
          <p:cNvPicPr/>
          <p:nvPr/>
        </p:nvPicPr>
        <p:blipFill>
          <a:blip r:embed="rId1"/>
          <a:stretch/>
        </p:blipFill>
        <p:spPr>
          <a:xfrm>
            <a:off x="1835280" y="2852640"/>
            <a:ext cx="5400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6:00:54Z</dcterms:created>
  <dc:creator>ИОН</dc:creator>
  <dc:description/>
  <dc:language>en-US</dc:language>
  <cp:lastModifiedBy>Acer</cp:lastModifiedBy>
  <dcterms:modified xsi:type="dcterms:W3CDTF">2013-04-01T16:10:00Z</dcterms:modified>
  <cp:revision>28</cp:revision>
  <dc:subject/>
  <dc:title>Слайд 1</dc:title>
</cp:coreProperties>
</file>