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985-9862-4355-818E-2E10295B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CB1-BE10-48EF-957B-B718AFF2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127-DB76-488A-83F0-CFC58460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484-6391-4EB1-AAD7-7F19D995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6E3-98BE-4435-847D-794D75D8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4B0-2C14-401D-8322-C42B4820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7A9-08DE-4E03-8B1A-9793F1B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149-1008-408C-83C7-2E195CAD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781-3F4F-4C9A-ABD2-48487165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059-B300-4640-B4B7-EE48EAAF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62A-246D-47D5-988B-C023F55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57C-9C15-40E7-83DB-048024E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FA0D-B844-4A31-B275-FB007F84B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121680"/>
            <a:ext cx="741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Мещеринская средняя общеобразовательная школа №1 с углубленным изучением отдельных предметов» Ступинского муниципального района Московской обла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тельская  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Тема: «Сладкие кристаллы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полнил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ученик 1А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люшин Владисла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чук Л.Н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3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75640" y="5084640"/>
            <a:ext cx="12254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79280" y="593280"/>
            <a:ext cx="36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ть полученный сахарный сироп в стаканы, добавить пищевые красител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Не добавляйте много красителя, иначе не будет видно как растут кристал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УЧЕБА\исследование\DSC_0030.JPG"/>
          <p:cNvPicPr/>
          <p:nvPr/>
        </p:nvPicPr>
        <p:blipFill>
          <a:blip r:embed="rId1"/>
          <a:stretch/>
        </p:blipFill>
        <p:spPr>
          <a:xfrm>
            <a:off x="4067280" y="115920"/>
            <a:ext cx="48607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УЧЕБА\исследование\DSC_0032.JPG"/>
          <p:cNvPicPr/>
          <p:nvPr/>
        </p:nvPicPr>
        <p:blipFill>
          <a:blip r:embed="rId2"/>
          <a:stretch/>
        </p:blipFill>
        <p:spPr>
          <a:xfrm>
            <a:off x="4067280" y="350208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Медленно опустить палочки в раствор и закрепить прищепками. ВАЖНО, чтобы палочки не касались ни дна банки, ни друг друга, между ними должно остаться расстояние, для обрастания кристаллами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УЧЕБА\исследование\DSC_0038.JPG"/>
          <p:cNvPicPr/>
          <p:nvPr/>
        </p:nvPicPr>
        <p:blipFill>
          <a:blip r:embed="rId1"/>
          <a:stretch/>
        </p:blipFill>
        <p:spPr>
          <a:xfrm>
            <a:off x="2232000" y="3502080"/>
            <a:ext cx="486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7993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баночки в теплое или солнечное место и наблюдать за их рос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УЧЕБА\исследование\DSC_0040.JPG"/>
          <p:cNvPicPr/>
          <p:nvPr/>
        </p:nvPicPr>
        <p:blipFill>
          <a:blip r:embed="rId1"/>
          <a:stretch/>
        </p:blipFill>
        <p:spPr>
          <a:xfrm>
            <a:off x="1403280" y="206064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Calibri"/>
              </a:rPr>
              <a:t>Наблюдение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Через 2 дня были заметны результаты: на палочках и на дне стакана образовались кристалл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УЧЕБА\исследование\DSC_0050.JPG"/>
          <p:cNvPicPr/>
          <p:nvPr/>
        </p:nvPicPr>
        <p:blipFill>
          <a:blip r:embed="rId1"/>
          <a:stretch/>
        </p:blipFill>
        <p:spPr>
          <a:xfrm>
            <a:off x="4537080" y="189000"/>
            <a:ext cx="4319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ерез 4 дня количество и размер кристаллов значительно увеличился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УЧЕБА\исследование\DSC_0087.JPG"/>
          <p:cNvPicPr/>
          <p:nvPr/>
        </p:nvPicPr>
        <p:blipFill>
          <a:blip r:embed="rId1"/>
          <a:stretch/>
        </p:blipFill>
        <p:spPr>
          <a:xfrm>
            <a:off x="4572000" y="189000"/>
            <a:ext cx="4321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406728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устя неделю, выросли довольно красивые, разноцветные кристаллы многогранной ф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сталлы в которые было добавлено меньше красителя получились круп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УЧЕБА\исследование\DSC_0266.JPG"/>
          <p:cNvPicPr/>
          <p:nvPr/>
        </p:nvPicPr>
        <p:blipFill>
          <a:blip r:embed="rId1"/>
          <a:stretch/>
        </p:blipFill>
        <p:spPr>
          <a:xfrm>
            <a:off x="4211640" y="3502080"/>
            <a:ext cx="486108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УЧЕБА\исследование\DSC_0267.JPG"/>
          <p:cNvPicPr/>
          <p:nvPr/>
        </p:nvPicPr>
        <p:blipFill>
          <a:blip r:embed="rId2"/>
          <a:stretch/>
        </p:blipFill>
        <p:spPr>
          <a:xfrm>
            <a:off x="4211640" y="117360"/>
            <a:ext cx="486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во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го за неделю из простого сахара можно вырастить красивые разноцветные кристаллы, которыми можно угостить своих друз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УЧЕБА\исследование\DSC_0288.JPG"/>
          <p:cNvPicPr/>
          <p:nvPr/>
        </p:nvPicPr>
        <p:blipFill>
          <a:blip r:embed="rId1"/>
          <a:stretch/>
        </p:blipFill>
        <p:spPr>
          <a:xfrm>
            <a:off x="1332000" y="2205000"/>
            <a:ext cx="648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43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и гипотезы подтвердились: кристаллы можно вырастить в домашних условиях, только нужно знать способы их выращивания и соблюдать технику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 кристаллов можно изменять при помощи пищевых крас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:\УЧЕБА\исследование\DSC_0294.JPG"/>
          <p:cNvPicPr/>
          <p:nvPr/>
        </p:nvPicPr>
        <p:blipFill>
          <a:blip r:embed="rId1"/>
          <a:stretch/>
        </p:blipFill>
        <p:spPr>
          <a:xfrm>
            <a:off x="4452840" y="73080"/>
            <a:ext cx="44402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981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пасибо Всем!!!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G00218_"/>
          <p:cNvPicPr/>
          <p:nvPr/>
        </p:nvPicPr>
        <p:blipFill>
          <a:blip r:embed="rId1"/>
          <a:stretch/>
        </p:blipFill>
        <p:spPr>
          <a:xfrm>
            <a:off x="4608360" y="3695760"/>
            <a:ext cx="3348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дачи рабо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изучить, что такое кристал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вырастить кристаллы в домашни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дзаголовок 4"/>
          <p:cNvSpPr/>
          <p:nvPr/>
        </p:nvSpPr>
        <p:spPr>
          <a:xfrm>
            <a:off x="179280" y="2205000"/>
            <a:ext cx="8785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ристаллы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 исследова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ыт и 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ристалл можно вырастить  дома при определ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цвет кристалла можно изменить на тот, который захоч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G00218_"/>
          <p:cNvPicPr/>
          <p:nvPr/>
        </p:nvPicPr>
        <p:blipFill>
          <a:blip r:embed="rId1"/>
          <a:stretch/>
        </p:blipFill>
        <p:spPr>
          <a:xfrm>
            <a:off x="6372360" y="5132520"/>
            <a:ext cx="1584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дзаголовок 4"/>
          <p:cNvSpPr/>
          <p:nvPr/>
        </p:nvSpPr>
        <p:spPr>
          <a:xfrm>
            <a:off x="179280" y="1125360"/>
            <a:ext cx="87854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сталлы — это твёрдые вещества, имеющие естественную внешнюю форму правильных многогранников. Оказывается, кристаллы окружают нас повсюду, например, все мы видели кристаллы воды –  лёд.  Узоры на окнах зимой – это  тоже кристаллы воды. Алмазы, изумруды, сапфиры  - все это тоже кристаллы, которые люди добывают в природе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HLD338"/>
          <p:cNvPicPr/>
          <p:nvPr/>
        </p:nvPicPr>
        <p:blipFill>
          <a:blip r:embed="rId1"/>
          <a:stretch/>
        </p:blipFill>
        <p:spPr>
          <a:xfrm>
            <a:off x="7738920" y="5257800"/>
            <a:ext cx="120204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b1"/>
          <p:cNvPicPr/>
          <p:nvPr/>
        </p:nvPicPr>
        <p:blipFill>
          <a:blip r:embed="rId2"/>
          <a:stretch/>
        </p:blipFill>
        <p:spPr>
          <a:xfrm>
            <a:off x="611280" y="536400"/>
            <a:ext cx="1368360" cy="11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дзаголовок 4"/>
          <p:cNvSpPr/>
          <p:nvPr/>
        </p:nvSpPr>
        <p:spPr>
          <a:xfrm>
            <a:off x="179280" y="1484280"/>
            <a:ext cx="8785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, что кристаллы можно вырастить и в домашних условиях, например из соли, соды или сахара. Мне захотелось попробовать вырастить сахарные кристаллы самому. Я решил провести исследовательскую работу под названием «Сладкие кристалл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BS00554_"/>
          <p:cNvPicPr/>
          <p:nvPr/>
        </p:nvPicPr>
        <p:blipFill>
          <a:blip r:embed="rId1"/>
          <a:stretch/>
        </p:blipFill>
        <p:spPr>
          <a:xfrm>
            <a:off x="6875640" y="4800600"/>
            <a:ext cx="1520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324000" y="2624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боты нам потреб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79280" y="88308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к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79280" y="188172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ревянные   шпаж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79280" y="32778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щеп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179280" y="404244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щевые красител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79280" y="51228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хар и в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8" descr="j0233404"/>
          <p:cNvPicPr/>
          <p:nvPr/>
        </p:nvPicPr>
        <p:blipFill>
          <a:blip r:embed="rId1"/>
          <a:srcRect l="0" t="0" r="0" b="4431"/>
          <a:stretch/>
        </p:blipFill>
        <p:spPr>
          <a:xfrm>
            <a:off x="7583400" y="993600"/>
            <a:ext cx="10670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280" y="333000"/>
            <a:ext cx="3961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Итак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берем большую кастрюлю, заливаем воду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УЧЕБА\исследование\DSC_0011.JPG"/>
          <p:cNvPicPr/>
          <p:nvPr/>
        </p:nvPicPr>
        <p:blipFill>
          <a:blip r:embed="rId1"/>
          <a:stretch/>
        </p:blipFill>
        <p:spPr>
          <a:xfrm>
            <a:off x="4716360" y="260280"/>
            <a:ext cx="4321440" cy="2881440"/>
          </a:xfrm>
          <a:prstGeom prst="rect">
            <a:avLst/>
          </a:prstGeom>
          <a:ln w="0">
            <a:noFill/>
          </a:ln>
        </p:spPr>
      </p:pic>
      <p:sp>
        <p:nvSpPr>
          <p:cNvPr id="64" name="Подзаголовок 2"/>
          <p:cNvSpPr/>
          <p:nvPr/>
        </p:nvSpPr>
        <p:spPr>
          <a:xfrm>
            <a:off x="468360" y="4365720"/>
            <a:ext cx="3959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и добавляем сахар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УЧЕБА\исследование\DSC_0018.JPG"/>
          <p:cNvPicPr/>
          <p:nvPr/>
        </p:nvPicPr>
        <p:blipFill>
          <a:blip r:embed="rId2"/>
          <a:stretch/>
        </p:blipFill>
        <p:spPr>
          <a:xfrm>
            <a:off x="4716360" y="338148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7993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реднем огне доводим до закипания, постоянно помешива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только под присмотром взрослых!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огда сахар весь растворится, выключаем огонь, оставляем кастрюлю на 15 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D:\УЧЕБА\исследование\DSC_0026.JPG"/>
          <p:cNvPicPr/>
          <p:nvPr/>
        </p:nvPicPr>
        <p:blipFill>
          <a:blip r:embed="rId1"/>
          <a:stretch/>
        </p:blipFill>
        <p:spPr>
          <a:xfrm>
            <a:off x="2050920" y="2781360"/>
            <a:ext cx="5292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 наш раствор остывает, подготовим палочки. Замочим их в воде, затем обваляем в сахаре для  того, чтобы начался процесс образования  кристаллов, палочки мокрые - сахар приклеится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УЧЕБА\исследование\DSC_0010.JPG"/>
          <p:cNvPicPr/>
          <p:nvPr/>
        </p:nvPicPr>
        <p:blipFill>
          <a:blip r:embed="rId1"/>
          <a:stretch/>
        </p:blipFill>
        <p:spPr>
          <a:xfrm>
            <a:off x="1979640" y="270828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этого нужно обязательно дать палочкам с прилипшим сахаром высохнуть полностью, иначе  ничего не получится, так как весь сахар осыплется, и новым кристаллам не на чем будет расти</a:t>
            </a:r>
            <a:r>
              <a:rPr b="0" lang="ru-RU" sz="3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УЧЕБА\исследование\DSC_0008.JPG"/>
          <p:cNvPicPr/>
          <p:nvPr/>
        </p:nvPicPr>
        <p:blipFill>
          <a:blip r:embed="rId1"/>
          <a:stretch/>
        </p:blipFill>
        <p:spPr>
          <a:xfrm>
            <a:off x="1835280" y="2852640"/>
            <a:ext cx="5400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00:54Z</dcterms:created>
  <dc:creator>ИОН</dc:creator>
  <dc:description/>
  <dc:language>en-US</dc:language>
  <cp:lastModifiedBy>Acer</cp:lastModifiedBy>
  <dcterms:modified xsi:type="dcterms:W3CDTF">2013-04-01T16:10:00Z</dcterms:modified>
  <cp:revision>28</cp:revision>
  <dc:subject/>
  <dc:title>Слайд 1</dc:title>
</cp:coreProperties>
</file>