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5BB-B6D7-447B-B480-03AC993F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9B8-DE13-4CA1-885A-4A806EA6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574-3519-469B-BB90-64457CC0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6FB-0C81-4EEF-AFA2-AD492BE1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D0B-BBB7-41D4-A3DD-B3C5BCE8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BB0-57A5-4F48-97C5-343D644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211-DEE0-411F-9E5B-0E725F94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AFB-84A7-4C04-8B6B-A53CF4B3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2ED-0B01-46F3-BA50-86C14DEB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F17-0C00-4854-A1A0-B81FB0D4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118-9848-44DE-9568-AF80727C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F13-6844-44EF-A368-C6295BF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8AFC-8D5B-4D26-84ED-25E9559C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234900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арные слов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в клет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619280" y="981000"/>
          <a:ext cx="6192720" cy="5532480"/>
        </p:xfrm>
        <a:graphic>
          <a:graphicData uri="http://schemas.openxmlformats.org/drawingml/2006/table">
            <a:tbl>
              <a:tblPr/>
              <a:tblGrid>
                <a:gridCol w="423720"/>
                <a:gridCol w="463680"/>
                <a:gridCol w="488880"/>
                <a:gridCol w="405000"/>
                <a:gridCol w="458640"/>
                <a:gridCol w="458640"/>
                <a:gridCol w="465120"/>
                <a:gridCol w="430560"/>
                <a:gridCol w="455400"/>
                <a:gridCol w="434880"/>
                <a:gridCol w="430200"/>
                <a:gridCol w="430200"/>
                <a:gridCol w="382680"/>
                <a:gridCol w="46512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46836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 словарные слова и запиши в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 словарные слова и запиши в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125360"/>
          <a:ext cx="8229240" cy="5000400"/>
        </p:xfrm>
        <a:graphic>
          <a:graphicData uri="http://schemas.openxmlformats.org/drawingml/2006/table">
            <a:tbl>
              <a:tblPr/>
              <a:tblGrid>
                <a:gridCol w="632520"/>
                <a:gridCol w="632520"/>
                <a:gridCol w="632880"/>
                <a:gridCol w="632520"/>
                <a:gridCol w="632520"/>
                <a:gridCol w="632880"/>
                <a:gridCol w="632160"/>
                <a:gridCol w="632520"/>
                <a:gridCol w="632520"/>
                <a:gridCol w="632880"/>
                <a:gridCol w="632520"/>
                <a:gridCol w="635040"/>
                <a:gridCol w="63576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1052640"/>
          <a:ext cx="8229600" cy="5236560"/>
        </p:xfrm>
        <a:graphic>
          <a:graphicData uri="http://schemas.openxmlformats.org/drawingml/2006/table">
            <a:tbl>
              <a:tblPr/>
              <a:tblGrid>
                <a:gridCol w="503280"/>
                <a:gridCol w="473040"/>
                <a:gridCol w="503280"/>
                <a:gridCol w="576360"/>
                <a:gridCol w="541080"/>
                <a:gridCol w="582840"/>
                <a:gridCol w="496800"/>
                <a:gridCol w="487440"/>
                <a:gridCol w="557280"/>
                <a:gridCol w="496800"/>
                <a:gridCol w="465120"/>
                <a:gridCol w="555480"/>
                <a:gridCol w="555840"/>
                <a:gridCol w="496800"/>
                <a:gridCol w="496800"/>
                <a:gridCol w="44136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 словарные слова и запиши в 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4:43:02Z</dcterms:created>
  <dc:creator>1</dc:creator>
  <dc:description/>
  <dc:language>en-US</dc:language>
  <cp:lastModifiedBy>1</cp:lastModifiedBy>
  <dcterms:modified xsi:type="dcterms:W3CDTF">2013-04-01T04:43:17Z</dcterms:modified>
  <cp:revision>1</cp:revision>
  <dc:subject/>
  <dc:title>Словарные слова  в клетках</dc:title>
</cp:coreProperties>
</file>