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EF0-C811-441B-AAB8-9138F154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A6B-2DC0-4FDB-9408-F69F671E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E3E-E8D8-4ED5-95CA-9A424BD7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CF6-10B6-4B21-81F4-493C2077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289-1738-4190-95D6-1D70467D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4EC-CAAD-4425-92F4-547F1D79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5AB-EC23-4D9D-93B2-DEB70B99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2FF-4D77-4758-9B2F-98F02504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1F6-84BC-4A67-B3E8-19AA86CE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4F9-2ADB-4347-85F4-3204B16D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726-8F67-46C0-9051-91AC485A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22F-F533-4931-BDD9-C00777CF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B175-AC45-49B7-96AE-B1BD03E77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234900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арные слов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в клет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619280" y="981000"/>
          <a:ext cx="6192720" cy="5532480"/>
        </p:xfrm>
        <a:graphic>
          <a:graphicData uri="http://schemas.openxmlformats.org/drawingml/2006/table">
            <a:tbl>
              <a:tblPr/>
              <a:tblGrid>
                <a:gridCol w="423720"/>
                <a:gridCol w="463680"/>
                <a:gridCol w="488880"/>
                <a:gridCol w="405000"/>
                <a:gridCol w="458640"/>
                <a:gridCol w="458640"/>
                <a:gridCol w="465120"/>
                <a:gridCol w="430560"/>
                <a:gridCol w="455400"/>
                <a:gridCol w="434880"/>
                <a:gridCol w="430200"/>
                <a:gridCol w="430200"/>
                <a:gridCol w="382680"/>
                <a:gridCol w="46512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46836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 словарные слова и запиши в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 словарные слова и запиши в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125360"/>
          <a:ext cx="8229240" cy="5000400"/>
        </p:xfrm>
        <a:graphic>
          <a:graphicData uri="http://schemas.openxmlformats.org/drawingml/2006/table">
            <a:tbl>
              <a:tblPr/>
              <a:tblGrid>
                <a:gridCol w="632520"/>
                <a:gridCol w="632520"/>
                <a:gridCol w="632880"/>
                <a:gridCol w="632520"/>
                <a:gridCol w="632520"/>
                <a:gridCol w="632880"/>
                <a:gridCol w="632160"/>
                <a:gridCol w="632520"/>
                <a:gridCol w="632520"/>
                <a:gridCol w="632880"/>
                <a:gridCol w="632520"/>
                <a:gridCol w="635040"/>
                <a:gridCol w="63576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1052640"/>
          <a:ext cx="8229600" cy="5236560"/>
        </p:xfrm>
        <a:graphic>
          <a:graphicData uri="http://schemas.openxmlformats.org/drawingml/2006/table">
            <a:tbl>
              <a:tblPr/>
              <a:tblGrid>
                <a:gridCol w="503280"/>
                <a:gridCol w="473040"/>
                <a:gridCol w="503280"/>
                <a:gridCol w="576360"/>
                <a:gridCol w="541080"/>
                <a:gridCol w="582840"/>
                <a:gridCol w="496800"/>
                <a:gridCol w="487440"/>
                <a:gridCol w="557280"/>
                <a:gridCol w="496800"/>
                <a:gridCol w="465120"/>
                <a:gridCol w="555480"/>
                <a:gridCol w="555840"/>
                <a:gridCol w="496800"/>
                <a:gridCol w="496800"/>
                <a:gridCol w="44136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 словарные слова и запиши в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4:43:02Z</dcterms:created>
  <dc:creator>1</dc:creator>
  <dc:description/>
  <dc:language>en-US</dc:language>
  <cp:lastModifiedBy>1</cp:lastModifiedBy>
  <dcterms:modified xsi:type="dcterms:W3CDTF">2013-04-01T04:43:17Z</dcterms:modified>
  <cp:revision>1</cp:revision>
  <dc:subject/>
  <dc:title>Словарные слова  в клетках</dc:title>
</cp:coreProperties>
</file>