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75C-E255-4289-912D-1C1970B2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87B-7DE0-489F-A520-713F4F2A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435-0B58-4064-9D0A-66B23224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9E9-E42D-4AB8-BA7D-E4564A4D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7D64-853A-4F00-990C-298E6433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FFAC-6301-44D9-A257-2DA9A76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9F87-0889-460B-B7A5-06B99D93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2E3-0A38-4BB4-9171-7917187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9E97-396C-4EE4-8E76-7FDA2DAE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739-5CD1-4313-8208-EFA0C783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11BB-6AA8-4A33-BC5F-577369E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171-4A4B-4F9D-B6BA-47ADE712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B18-C971-4D8F-B9B7-006AC4D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B8D-BF4B-4DDC-9304-16A8A684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4C2-817C-4B9E-ABFC-FD813E4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460A-BB5F-4618-9659-88E90D0B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4E2-2A7A-4064-86CC-72B1EFB3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DA5-4420-4A47-B5C2-C35E8B4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ADE-5266-461A-8D18-FD10595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5D9-00BD-4F8E-808F-1B00BB0A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281-33E1-4DD9-89E5-F0178C97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9C8-1149-43AC-BF9B-56CD035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426-24EF-42BB-9CAB-21C5678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2BE-BD7F-4FBB-94B2-EE25366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53A-D728-4299-BC21-AEC0FB8AF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F8C-1290-4E05-BEFF-DBDC37591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380880"/>
            <a:ext cx="784872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Беспол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размн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корневыми отпрыс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выводковыми поч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526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множение отводк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3888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стебле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65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листо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змножение корневыми черенк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гетативное размнож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ует быстрому увеличению числа особей и расселению их. Это используют в практике сельского хозяйства для быстрого получения высоких урожаев (например, клубней картофеля) и для сохранения ценных сортов культурных растений (например, плодовых деревьев при прививк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2590920"/>
            <a:ext cx="167652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609480"/>
            <a:ext cx="7162920" cy="5892840"/>
            <a:chOff x="838080" y="609480"/>
            <a:chExt cx="7162920" cy="5892840"/>
          </a:xfrm>
        </p:grpSpPr>
        <p:sp>
          <p:nvSpPr>
            <p:cNvPr id="266" name=""/>
            <p:cNvSpPr/>
            <p:nvPr/>
          </p:nvSpPr>
          <p:spPr>
            <a:xfrm>
              <a:off x="2209680" y="609480"/>
              <a:ext cx="4800600" cy="1143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71800" y="68544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Бесполое размнож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666880"/>
              <a:ext cx="1905120" cy="83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90360" y="3733560"/>
              <a:ext cx="2514600" cy="8380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33560" y="3733560"/>
              <a:ext cx="4267440" cy="25146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43600" y="2666880"/>
              <a:ext cx="1600200" cy="7617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676160" y="1752480"/>
              <a:ext cx="152424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895120" y="1752480"/>
              <a:ext cx="60948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267080" y="1752480"/>
              <a:ext cx="380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43600" y="1752480"/>
              <a:ext cx="114300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9200" y="1752480"/>
              <a:ext cx="914400" cy="19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0360" y="2819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Деление клет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360" y="28191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Почк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29000" y="27428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Частями тел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43000" y="39621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Спорообразова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3560" y="38098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Вегетативное размн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6200" y="4190760"/>
              <a:ext cx="396216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идоизмененные побег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Черенки     Выводковыми почками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тводки     Прививк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ами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Корневыми отпрыск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ставьте пропущенные термин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организмов воспроизводить себе подобных 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 размножения, при котором все потомки имеют абсолютно такой же генотип, как и родительская особь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ктерии размножаются … кле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множение картофеля клубнем – пример … размн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ность восстанавливать утраченные органы или поврежденные ткани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н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спол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гетати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енер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9480" y="533520"/>
            <a:ext cx="7925040" cy="4038480"/>
            <a:chOff x="609480" y="533520"/>
            <a:chExt cx="7925040" cy="4038480"/>
          </a:xfrm>
        </p:grpSpPr>
        <p:sp>
          <p:nvSpPr>
            <p:cNvPr id="217" name=""/>
            <p:cNvSpPr/>
            <p:nvPr/>
          </p:nvSpPr>
          <p:spPr>
            <a:xfrm>
              <a:off x="2514600" y="533520"/>
              <a:ext cx="3962520" cy="152388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4080" y="838080"/>
              <a:ext cx="2590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пособы размножен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480" y="3048120"/>
              <a:ext cx="3429000" cy="152388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3124080"/>
              <a:ext cx="3276720" cy="137160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" y="358128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ол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91320" y="3581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Беспол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H="1">
            <a:off x="2361960" y="1981080"/>
            <a:ext cx="114300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1981080"/>
            <a:ext cx="1371600" cy="1143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3.1,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. подобрать дополнительный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 организмах, размножаю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сполым путем, иллюстратив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30492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есноводная гид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791320" cy="5410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14600" y="4800600"/>
            <a:ext cx="2133720" cy="1600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порангии папорот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гетативное размножение-это увеличение числа особей растений в результате их развития из частей материнского растения (побега, кор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азмножение уса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12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09-01-29T17:16:5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