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1FB-A7DD-4FD5-A780-0759417B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EB8-2BB9-4430-8ED7-F022C598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450-B037-4A66-9611-4B99EF1C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309-3895-4164-BEBA-77C66211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AF13-2DB3-49B7-8ABF-D53A0E7A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3D46-6AB6-4023-A70F-C4ACA55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A0FB-89B6-4CEA-BD7F-C1A5D118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6C3B-2742-454B-A685-FBF12B9F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2E1-5087-43FF-9221-A2088F4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2920-792E-4E6E-8173-CF3E4A2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24B-0348-4B27-A43E-0EFC516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A17-29C7-417D-BEEF-A2071DB2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A327-DF3C-4AE0-A758-3401C83D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FBC4-6A40-4AEE-BDF6-7C1B84E4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5ECF-EF71-4ACE-B660-8F7A917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A0AA-3513-45EF-8C7F-A7BF3509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F8FA-C3A4-4843-8877-12E52AD9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187-019F-4ECC-A8B5-A7CF45A6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D1B-8C8A-4BB8-A17C-DBF0E98B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518-ED1E-4E1D-80DB-FBD5E5A0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72F-7DEF-469B-8D1A-91FFE368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623-6AC3-4319-B4E6-CB992CC2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8F7-967C-468C-9E0A-EB055C3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65F-8C94-4612-99AD-C044B13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4DCB-6579-4B77-A391-8F22C73AD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8934-3268-4653-91F3-A2532ABEF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380880"/>
            <a:ext cx="78487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Беспол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размн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корневыми отпрыс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выводковыми поч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526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множение отводк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стеблевыми черен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6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листовыми черен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корневыми черен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гетативное размнож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ует быстрому увеличению числа особей и расселению их. Это используют в практике сельского хозяйства для быстрого получения высоких урожаев (например, клубней картофеля) и для сохранения ценных сортов культурных растений (например, плодовых деревьев при прививк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2590920"/>
            <a:ext cx="167652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609480"/>
            <a:ext cx="7162920" cy="5892840"/>
            <a:chOff x="838080" y="609480"/>
            <a:chExt cx="7162920" cy="5892840"/>
          </a:xfrm>
        </p:grpSpPr>
        <p:sp>
          <p:nvSpPr>
            <p:cNvPr id="266" name=""/>
            <p:cNvSpPr/>
            <p:nvPr/>
          </p:nvSpPr>
          <p:spPr>
            <a:xfrm>
              <a:off x="2209680" y="609480"/>
              <a:ext cx="4800600" cy="1143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1800" y="685440"/>
              <a:ext cx="342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Бесполое размнож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666880"/>
              <a:ext cx="1905120" cy="838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90360" y="3733560"/>
              <a:ext cx="2514600" cy="838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33560" y="3733560"/>
              <a:ext cx="4267440" cy="25146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3600" y="2666880"/>
              <a:ext cx="1600200" cy="761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676160" y="1752480"/>
              <a:ext cx="152424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895120" y="1752480"/>
              <a:ext cx="60948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267080" y="1752480"/>
              <a:ext cx="380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1752480"/>
              <a:ext cx="114300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9200" y="1752480"/>
              <a:ext cx="91440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0360" y="28191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Деление клет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360" y="281916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Почко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29000" y="27428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Частями тел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43000" y="39621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Спорообразо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33560" y="38098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Вегетативное размн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86200" y="4190760"/>
              <a:ext cx="396216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доизмененные побег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Черенки     Выводковыми почками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тводки     Прививк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ами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орневыми отпрыск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ставьте пропущенные термин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ность организмов воспроизводить себе подобных 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 размножения, при котором все потомки имеют абсолютно такой же генотип, как и родительская особь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ктерии размножаются … кле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ножение картофеля клубнем – пример … размн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ность восстанавливать утраченные органы или поврежденные ткани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мн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спо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гетатив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енер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9480" y="533520"/>
            <a:ext cx="7925040" cy="4038480"/>
            <a:chOff x="609480" y="533520"/>
            <a:chExt cx="7925040" cy="4038480"/>
          </a:xfrm>
        </p:grpSpPr>
        <p:sp>
          <p:nvSpPr>
            <p:cNvPr id="217" name=""/>
            <p:cNvSpPr/>
            <p:nvPr/>
          </p:nvSpPr>
          <p:spPr>
            <a:xfrm>
              <a:off x="2514600" y="533520"/>
              <a:ext cx="3962520" cy="152388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4080" y="83808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Способы размнож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3048120"/>
              <a:ext cx="3429000" cy="152388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57800" y="3124080"/>
              <a:ext cx="3276720" cy="137160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35812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ол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91320" y="3581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Беспол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flipH="1">
            <a:off x="2361960" y="1981080"/>
            <a:ext cx="114300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1981080"/>
            <a:ext cx="137160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3.1,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. подобрать дополнительный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б организмах, размножаю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сполым путем, иллюстратив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30492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з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сноводная гид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791320" cy="5410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14600" y="4800600"/>
            <a:ext cx="2133720" cy="1600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орангии папорот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гетативное размножение-это увеличение числа особей растений в результате их развития из частей материнского растения (побега, кор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множение ус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12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09-01-29T17:16:5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