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AEE-4A7D-40E6-BAAD-8D4046434B1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BF98-EA27-4AD4-AC69-1C20FCB7C1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63C-00DE-4269-B241-80ECA11C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EC7-175E-45BE-92C4-C2A5135E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DAB-6B12-49D9-9841-3894810F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84E-06E1-4F95-A803-E6072644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FBAF3-F1BE-4819-8E9A-8324FB30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6D857-6D09-4662-A5DA-BBA9DF0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DF78-2E64-48CC-B617-F68E2BB2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B6949-F697-4792-8F76-A67C6D5B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B5A05-68E1-4F4C-8A7A-BA497DC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5B14-4B21-42FA-B9E7-FFC78239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CF395-3BCE-4934-82C2-F2AF8C5E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331-07B2-46B0-BC9C-97371D7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83BE-3003-462F-9D4A-ABECA75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08777-DFD5-4460-8433-67A4B78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CBF0-66F1-4C2A-B558-A23E0D73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D997-D80F-489C-B39F-1A982DAF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5BA4E-7DF3-4111-BCAF-2335E95C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26C-07E6-4ED2-B579-9C8DD0C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F1D-60B5-425B-B569-1FA71248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A79-2230-4D8F-B3F2-9EC6CD2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C96-8789-4FCA-BADD-7FD2F44E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D30-C5D0-47DE-B4F1-377345E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266-EB4F-4846-96FC-8625375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9D0-1676-4406-938F-B2FDBDE6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3C97-E9FD-4A0A-9BA2-7369BC398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87A1-24B2-4580-9E82-4D087C3691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lexeyk1.narod.ru/foto8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038480" y="2362320"/>
            <a:ext cx="5105520" cy="99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мическая  викторина «Окси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уггаз"/>
          <p:cNvPicPr/>
          <p:nvPr/>
        </p:nvPicPr>
        <p:blipFill>
          <a:blip r:embed="rId1"/>
          <a:stretch/>
        </p:blipFill>
        <p:spPr>
          <a:xfrm>
            <a:off x="0" y="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01p1p03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kvarc"/>
          <p:cNvPicPr/>
          <p:nvPr/>
        </p:nvPicPr>
        <p:blipFill>
          <a:blip r:embed="rId3"/>
          <a:stretch/>
        </p:blipFill>
        <p:spPr>
          <a:xfrm>
            <a:off x="0" y="236232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:\Черновик\glass02.jpg"/>
          <p:cNvPicPr/>
          <p:nvPr/>
        </p:nvPicPr>
        <p:blipFill>
          <a:blip r:embed="rId4"/>
          <a:stretch/>
        </p:blipFill>
        <p:spPr>
          <a:xfrm>
            <a:off x="4038480" y="33526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1312200"/>
            <a:ext cx="5334120" cy="2226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.Вычислить количество атомов натрия в 0,2 моль оксида на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4843440"/>
            <a:ext cx="9067680" cy="1739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(Na)=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том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380160"/>
            <a:ext cx="9144000" cy="4634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. Из перечня веществ выберите оксиды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CuO, Cu(OH)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, HNO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, NO, OF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, NaO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5722560"/>
            <a:ext cx="9144000" cy="718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 CuO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 NO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425520"/>
            <a:ext cx="5791320" cy="338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1. Как называется оксид (газ), необходимый для фотосинтез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3080" y="3930120"/>
            <a:ext cx="9070920" cy="1920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ксид углерод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(углекислый газ)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астения благодаря фотосинтезу усваивают углекислый газ из атмосферы, превращая минеральные вещества в органические — глюкозу, крахм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1" descr="H:\Черновик\pristley.jpg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713520"/>
            <a:ext cx="9144000" cy="267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. Каждому кислотному оксиду соответствует определенная 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043800"/>
            <a:ext cx="9144000" cy="4158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Н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Н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0" descr="new_9435"/>
          <p:cNvPicPr/>
          <p:nvPr/>
        </p:nvPicPr>
        <p:blipFill>
          <a:blip r:embed="rId1"/>
          <a:stretch/>
        </p:blipFill>
        <p:spPr>
          <a:xfrm>
            <a:off x="6629400" y="3657600"/>
            <a:ext cx="16574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896040"/>
            <a:ext cx="9144000" cy="4497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3.Каждому основному оксиду соответствует  определённое осн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a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386240"/>
            <a:ext cx="9144000" cy="2540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→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3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0" descr="new_9435"/>
          <p:cNvPicPr/>
          <p:nvPr/>
        </p:nvPicPr>
        <p:blipFill>
          <a:blip r:embed="rId1"/>
          <a:stretch/>
        </p:blipFill>
        <p:spPr>
          <a:xfrm>
            <a:off x="6781680" y="4876920"/>
            <a:ext cx="16574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1299960"/>
            <a:ext cx="5943600" cy="149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4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ый распространеный оксид на планете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5117760"/>
            <a:ext cx="9144000" cy="1191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О - в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untitled"/>
          <p:cNvPicPr/>
          <p:nvPr/>
        </p:nvPicPr>
        <p:blipFill>
          <a:blip r:embed="rId1"/>
          <a:stretch/>
        </p:blipFill>
        <p:spPr>
          <a:xfrm>
            <a:off x="5943600" y="6094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07320"/>
            <a:ext cx="6781680" cy="2654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5. Каковы запасы воды в приро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олько из этого запаса приходи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долю пресной воды, в том чис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ступной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3322440"/>
            <a:ext cx="9144000" cy="3080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сы воды на Земле составляю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млн.359тыс. м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олю пресной воды приходи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,8%, причем 2,2% из них недоступ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ям. Это - ледяной щит Север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довитого океана, Гренландии, Антаркти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901800"/>
            <a:ext cx="7969320" cy="2715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6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дает огонь в пе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ламя маленькой св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тоит только сделать вдо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я на свет явиться м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в газированной вод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в хлебе, дыме, я везд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 каком оксиде идё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5110560"/>
            <a:ext cx="6248520" cy="1342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–  оксид углерода (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lV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), углекислый га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Soda_bubbles_macro"/>
          <p:cNvPicPr/>
          <p:nvPr/>
        </p:nvPicPr>
        <p:blipFill>
          <a:blip r:embed="rId1"/>
          <a:stretch/>
        </p:blipFill>
        <p:spPr>
          <a:xfrm>
            <a:off x="7227720" y="3581280"/>
            <a:ext cx="1916280" cy="216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02"/>
          <p:cNvPicPr/>
          <p:nvPr/>
        </p:nvPicPr>
        <p:blipFill>
          <a:blip r:embed="rId2"/>
          <a:stretch/>
        </p:blipFill>
        <p:spPr>
          <a:xfrm>
            <a:off x="6248520" y="4800600"/>
            <a:ext cx="17938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825120"/>
            <a:ext cx="7054920" cy="149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7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оксид входит в состав горного хрустал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1956960"/>
            <a:ext cx="6858000" cy="5144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–  оксид кремния (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lV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Кварц, кремень, горный хрусталь, аметист, яшма, опал — в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это оксид крем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http://biser.vipshop.ru/s0020.jp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8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" descr="H:\Черновик\sio2-01.jpg"/>
          <p:cNvPicPr/>
          <p:nvPr/>
        </p:nvPicPr>
        <p:blipFill>
          <a:blip r:embed="rId2"/>
          <a:stretch/>
        </p:blipFill>
        <p:spPr>
          <a:xfrm>
            <a:off x="6858000" y="16002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H:\Черновик\sio2-02.jpg"/>
          <p:cNvPicPr/>
          <p:nvPr/>
        </p:nvPicPr>
        <p:blipFill>
          <a:blip r:embed="rId3"/>
          <a:stretch/>
        </p:blipFill>
        <p:spPr>
          <a:xfrm>
            <a:off x="6858000" y="33526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http://biser.vipshop.ru/s0130.jpg"/>
          <p:cNvPicPr/>
          <p:nvPr/>
        </p:nvPicPr>
        <p:blipFill>
          <a:blip r:embed="rId4"/>
          <a:stretch/>
        </p:blipFill>
        <p:spPr>
          <a:xfrm>
            <a:off x="685800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60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825120"/>
            <a:ext cx="9144000" cy="149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8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вещество белого цвета, идет для изготовления белой масляной краски (белил).          О каком оксиде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633760"/>
            <a:ext cx="6858000" cy="3789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n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ксид цинк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H:\Черновик\wite2.jpg"/>
          <p:cNvPicPr/>
          <p:nvPr/>
        </p:nvPicPr>
        <p:blipFill>
          <a:blip r:embed="rId1"/>
          <a:stretch/>
        </p:blipFill>
        <p:spPr>
          <a:xfrm>
            <a:off x="6934320" y="3200400"/>
            <a:ext cx="1955520" cy="259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:\Черновик\wite1.jpg"/>
          <p:cNvPicPr/>
          <p:nvPr/>
        </p:nvPicPr>
        <p:blipFill>
          <a:blip r:embed="rId2"/>
          <a:stretch/>
        </p:blipFill>
        <p:spPr>
          <a:xfrm>
            <a:off x="4800600" y="43434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1008360"/>
            <a:ext cx="5410080" cy="2363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то называют оксидами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745800"/>
            <a:ext cx="8618400" cy="2837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 Оксиды – бинарные соединения элементов с кислородом (кроме соединений фтора)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епень окисления кислорода в оксидах равна –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i-main-pic" descr="Картинка 18 из 2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5400" y="-353880"/>
            <a:ext cx="49989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886320"/>
            <a:ext cx="9144000" cy="1373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9. Этот оксид используют как пигмент при изготовлении декоративного зеленого стекла и керамики. О каком оксиде идёт реч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322000"/>
            <a:ext cx="6858000" cy="4413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imes New Roman"/>
              </a:rPr>
              <a:t> – оксид хрома (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lll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H:\Черновик\glass01.jpg"/>
          <p:cNvPicPr/>
          <p:nvPr/>
        </p:nvPicPr>
        <p:blipFill>
          <a:blip r:embed="rId1"/>
          <a:stretch/>
        </p:blipFill>
        <p:spPr>
          <a:xfrm>
            <a:off x="6858000" y="2819520"/>
            <a:ext cx="1952640" cy="335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:\Черновик\glass02.jpg"/>
          <p:cNvPicPr/>
          <p:nvPr/>
        </p:nvPicPr>
        <p:blipFill>
          <a:blip r:embed="rId2"/>
          <a:stretch/>
        </p:blipFill>
        <p:spPr>
          <a:xfrm>
            <a:off x="4191120" y="4114800"/>
            <a:ext cx="2590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0" y="2434680"/>
            <a:ext cx="9144000" cy="119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565200"/>
            <a:ext cx="7086600" cy="2288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. Какова классификация оксидов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54440"/>
            <a:ext cx="70866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162920" y="464832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7162920" y="2514600"/>
            <a:ext cx="1981080" cy="2114640"/>
          </a:xfrm>
          <a:prstGeom prst="rect">
            <a:avLst/>
          </a:prstGeom>
          <a:ln w="0">
            <a:noFill/>
          </a:ln>
        </p:spPr>
      </p:pic>
      <p:pic>
        <p:nvPicPr>
          <p:cNvPr id="107" name="Схема 8" descr=""/>
          <p:cNvPicPr/>
          <p:nvPr/>
        </p:nvPicPr>
        <p:blipFill>
          <a:blip r:embed="rId3"/>
          <a:stretch/>
        </p:blipFill>
        <p:spPr>
          <a:xfrm>
            <a:off x="-60480" y="3498840"/>
            <a:ext cx="7126560" cy="336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57880"/>
            <a:ext cx="655308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. Чтобы назвать оксид необходим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2886480"/>
            <a:ext cx="9144000" cy="3751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роизнести слово «оксид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дать русское название элементу,   который образовал окси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оксид образован неметаллом или элементом побочной подгруппы, то в скобках римской цифрой указать его валентность (она = степени окисления элемента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р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ксид кремния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L02p1p04m"/>
          <p:cNvPicPr/>
          <p:nvPr/>
        </p:nvPicPr>
        <p:blipFill>
          <a:blip r:embed="rId1"/>
          <a:stretch/>
        </p:blipFill>
        <p:spPr>
          <a:xfrm>
            <a:off x="6548400" y="0"/>
            <a:ext cx="2595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27400"/>
            <a:ext cx="6172200" cy="2288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.Как составить структурную формулу оксид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048480"/>
            <a:ext cx="9144000" cy="3751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формулы начинать с элемента, атомов которого больше в соедин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омы кислорода в оксидах между собой связей не образую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ло химических связей, которые может образовать элемент равно его степени окисления по значению. Химическая связь обозначается «-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кислород в оксидах всегда имеет степень окисления «-2», то  от  его атома должно отходить две черточки «= 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7010280" y="380880"/>
            <a:ext cx="198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ксид серы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V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 = S = 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72960"/>
            <a:ext cx="7924680" cy="3080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ьте формулы названных в тексте окс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емной коре-литосфере находятся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алюминия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лина),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кремния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есок),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железа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ll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одержится в красном железня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459600"/>
            <a:ext cx="7924680" cy="3442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-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алюминия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лина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O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кремния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есок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3 -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железа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ll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одержится в красном железня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419040"/>
            <a:ext cx="6248520" cy="283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ьте формулы названных в тексте окси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ная оболочка Земли - гидросфера -    это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ксид водород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оздухе есть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ксид углерода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)  (углекислый га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3818520"/>
            <a:ext cx="6400800" cy="2988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-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оксид водород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вода),                  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 -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оксид углерода (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)  (углекислый газ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уггаз"/>
          <p:cNvPicPr/>
          <p:nvPr/>
        </p:nvPicPr>
        <p:blipFill>
          <a:blip r:embed="rId1"/>
          <a:stretch/>
        </p:blipFill>
        <p:spPr>
          <a:xfrm>
            <a:off x="6400800" y="388620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L01p1p03"/>
          <p:cNvPicPr/>
          <p:nvPr/>
        </p:nvPicPr>
        <p:blipFill>
          <a:blip r:embed="rId2"/>
          <a:stretch/>
        </p:blipFill>
        <p:spPr>
          <a:xfrm>
            <a:off x="6324480" y="38088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683640"/>
            <a:ext cx="6477120" cy="2594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ьте формулы названных в тексте окси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хозяйственной деятельности человека образуются вещества, загрязняющие атмосферу: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углерода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угарный г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серы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ернистый газ),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азота 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азота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712320"/>
            <a:ext cx="6735600" cy="2422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оксид углерода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угарный газ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- </a:t>
            </a:r>
            <a:r>
              <a:rPr b="1" lang="en-US" sz="2000" spc="-1" strike="noStrike">
                <a:solidFill>
                  <a:srgbClr val="7171a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серы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ернистый г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5500440"/>
            <a:ext cx="6735600" cy="1251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O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-</a:t>
            </a: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 оксид азота (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4898520"/>
            <a:ext cx="6735600" cy="1251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O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оксид азота 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5777280"/>
            <a:ext cx="6735600" cy="440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– 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ahoma"/>
              </a:rPr>
              <a:t>ОКСИД АЗОТА (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ahoma"/>
              </a:rPr>
              <a:t>lV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219240" y="1375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243720"/>
            <a:ext cx="6734160" cy="283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3600" spc="-1" strike="noStrike">
                <a:solidFill>
                  <a:srgbClr val="7171a6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ычислите массу оксида кальция  количеством 0,5 мол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5038920"/>
            <a:ext cx="91440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 (CaO)=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28 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1-14T14:35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