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6888-E448-4BC6-A7C3-486BEBF41A8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1777-60CF-4324-88BD-12804AE22B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516-0E43-4DA8-B16F-EE590EF3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143-8520-4CC6-9F59-DCD32B61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2E3-ECAB-487F-A451-001CD9B7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37D-980E-4D43-B15A-63162466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FB90F-6453-41E7-A0A6-7A2258F9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45CFD-B7C2-40DD-BCB8-C2C9ECA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6C714-EE33-4638-A707-9F86C83D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E0674-FD73-470E-8169-CBE4D85C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D6BD4-52D1-43FB-913E-0DA9C5E5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0E9BB-6509-442D-9489-F1C31B72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AFB08-EB43-412B-9096-32576278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E02-FC4E-4BB2-AAE9-52B594AB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227CB-D158-4C6B-83A0-58A8EBE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E3244-538D-4BB7-9C77-5BE76A3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5B13A-7CA2-45B6-80C5-BDE384F1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FF359-4F53-40D4-9EB3-828CB8EC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38706-D751-4926-8BEA-BF3301B8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44D-C2AE-481F-AEBD-4539CA9F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1A4-6FA7-4909-8A36-9CB6CD5F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14A-FB31-4145-B128-9419677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C68-DD12-4E22-9D03-F8CE26CA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E7C-6598-4884-9F81-9282F3C8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1BA-CB24-4726-A189-63B38CCF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78D-F67B-4D2E-802F-E96F5C8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20B4-549A-4113-8B0A-9B3F9039F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5706-8E43-488F-91A7-6E653B4473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lexeyk1.narod.ru/foto8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038480" y="2362320"/>
            <a:ext cx="5105520" cy="99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имическая  викторина «Оксид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уггаз"/>
          <p:cNvPicPr/>
          <p:nvPr/>
        </p:nvPicPr>
        <p:blipFill>
          <a:blip r:embed="rId1"/>
          <a:stretch/>
        </p:blipFill>
        <p:spPr>
          <a:xfrm>
            <a:off x="0" y="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01p1p03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kvarc"/>
          <p:cNvPicPr/>
          <p:nvPr/>
        </p:nvPicPr>
        <p:blipFill>
          <a:blip r:embed="rId3"/>
          <a:stretch/>
        </p:blipFill>
        <p:spPr>
          <a:xfrm>
            <a:off x="0" y="236232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:\Черновик\glass02.jpg"/>
          <p:cNvPicPr/>
          <p:nvPr/>
        </p:nvPicPr>
        <p:blipFill>
          <a:blip r:embed="rId4"/>
          <a:stretch/>
        </p:blipFill>
        <p:spPr>
          <a:xfrm>
            <a:off x="4038480" y="3352680"/>
            <a:ext cx="5105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1312200"/>
            <a:ext cx="5334120" cy="2226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.Вычислить количество атомов натрия в 0,2 моль оксида на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4843440"/>
            <a:ext cx="9067680" cy="17398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(Na)=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том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380160"/>
            <a:ext cx="9144000" cy="4634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0. Из перечня веществ выберите оксиды      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CuO, Cu(OH)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, HNO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, NO, OF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O, NaO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5722560"/>
            <a:ext cx="9144000" cy="7182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 CuO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 NO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,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425520"/>
            <a:ext cx="5791320" cy="338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1. Как называется оксид (газ), необходимый для фотосинтез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3080" y="3930120"/>
            <a:ext cx="9070920" cy="19209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 С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ксид углерод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l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(углекислый газ)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Растения благодаря фотосинтезу усваивают углекислый газ из атмосферы, превращая минеральные вещества в органические — глюкозу, крахма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1" descr="H:\Черновик\pristley.jpg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713520"/>
            <a:ext cx="9144000" cy="2676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2. Каждому кислотному оксиду соответствует определенная кисл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→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→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→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→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→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043800"/>
            <a:ext cx="9144000" cy="4158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Н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Н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→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0" descr="new_9435"/>
          <p:cNvPicPr/>
          <p:nvPr/>
        </p:nvPicPr>
        <p:blipFill>
          <a:blip r:embed="rId1"/>
          <a:stretch/>
        </p:blipFill>
        <p:spPr>
          <a:xfrm>
            <a:off x="6629400" y="3657600"/>
            <a:ext cx="16574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896040"/>
            <a:ext cx="9144000" cy="4497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3.Каждому основному оксиду соответствует  определённое осн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a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l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e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4386240"/>
            <a:ext cx="9144000" cy="2540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O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→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(OH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3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→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0" descr="new_9435"/>
          <p:cNvPicPr/>
          <p:nvPr/>
        </p:nvPicPr>
        <p:blipFill>
          <a:blip r:embed="rId1"/>
          <a:stretch/>
        </p:blipFill>
        <p:spPr>
          <a:xfrm>
            <a:off x="6781680" y="4876920"/>
            <a:ext cx="16574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0" y="1299960"/>
            <a:ext cx="5943600" cy="149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4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ый распространеный оксид на планете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5117760"/>
            <a:ext cx="9144000" cy="1191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О - во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6" descr="untitled"/>
          <p:cNvPicPr/>
          <p:nvPr/>
        </p:nvPicPr>
        <p:blipFill>
          <a:blip r:embed="rId1"/>
          <a:stretch/>
        </p:blipFill>
        <p:spPr>
          <a:xfrm>
            <a:off x="5943600" y="609480"/>
            <a:ext cx="32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607320"/>
            <a:ext cx="6781680" cy="2654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5. Каковы запасы воды в приро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колько из этого запаса приходи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долю пресной воды, в том числ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ступной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3322440"/>
            <a:ext cx="9144000" cy="30801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сы воды на Земле составляю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млн.359тыс. м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долю пресной воды приходи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,8%, причем 2,2% из них недоступ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ям. Это - ледяной щит Север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довитого океана, Гренландии, Антаркти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901800"/>
            <a:ext cx="7969320" cy="2715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6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я дает огонь в печ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ламя маленькой св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тоит только сделать вдо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 я на свет явиться мо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в газированной вод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в хлебе, дыме, я везд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 каком оксиде идё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5110560"/>
            <a:ext cx="6248520" cy="1342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 –  оксид углерода (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lV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), углекислый га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Soda_bubbles_macro"/>
          <p:cNvPicPr/>
          <p:nvPr/>
        </p:nvPicPr>
        <p:blipFill>
          <a:blip r:embed="rId1"/>
          <a:stretch/>
        </p:blipFill>
        <p:spPr>
          <a:xfrm>
            <a:off x="7227720" y="3581280"/>
            <a:ext cx="1916280" cy="2167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02"/>
          <p:cNvPicPr/>
          <p:nvPr/>
        </p:nvPicPr>
        <p:blipFill>
          <a:blip r:embed="rId2"/>
          <a:stretch/>
        </p:blipFill>
        <p:spPr>
          <a:xfrm>
            <a:off x="6248520" y="4800600"/>
            <a:ext cx="17938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825120"/>
            <a:ext cx="7054920" cy="149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7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оксид входит в состав горного хрустал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1956960"/>
            <a:ext cx="6858000" cy="5144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–  оксид кремния (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lV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Кварц, кремень, горный хрусталь, аметист, яшма, опал — вс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это оксид крем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http://biser.vipshop.ru/s0020.jp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87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1" descr="H:\Черновик\sio2-01.jpg"/>
          <p:cNvPicPr/>
          <p:nvPr/>
        </p:nvPicPr>
        <p:blipFill>
          <a:blip r:embed="rId2"/>
          <a:stretch/>
        </p:blipFill>
        <p:spPr>
          <a:xfrm>
            <a:off x="6858000" y="160020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2" descr="H:\Черновик\sio2-02.jpg"/>
          <p:cNvPicPr/>
          <p:nvPr/>
        </p:nvPicPr>
        <p:blipFill>
          <a:blip r:embed="rId3"/>
          <a:stretch/>
        </p:blipFill>
        <p:spPr>
          <a:xfrm>
            <a:off x="6858000" y="335268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http://biser.vipshop.ru/s0130.jpg"/>
          <p:cNvPicPr/>
          <p:nvPr/>
        </p:nvPicPr>
        <p:blipFill>
          <a:blip r:embed="rId4"/>
          <a:stretch/>
        </p:blipFill>
        <p:spPr>
          <a:xfrm>
            <a:off x="6858000" y="5105520"/>
            <a:ext cx="2286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500"/>
                            </p:stCondLst>
                            <p:childTnLst>
                              <p:par>
                                <p:cTn id="60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825120"/>
            <a:ext cx="9144000" cy="1495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8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вещество белого цвета, идет для изготовления белой масляной краски (белил).          О каком оксиде идет речь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633760"/>
            <a:ext cx="6858000" cy="3789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n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оксид цинка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H:\Черновик\wite2.jpg"/>
          <p:cNvPicPr/>
          <p:nvPr/>
        </p:nvPicPr>
        <p:blipFill>
          <a:blip r:embed="rId1"/>
          <a:stretch/>
        </p:blipFill>
        <p:spPr>
          <a:xfrm>
            <a:off x="6934320" y="3200400"/>
            <a:ext cx="1955520" cy="259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:\Черновик\wite1.jpg"/>
          <p:cNvPicPr/>
          <p:nvPr/>
        </p:nvPicPr>
        <p:blipFill>
          <a:blip r:embed="rId2"/>
          <a:stretch/>
        </p:blipFill>
        <p:spPr>
          <a:xfrm>
            <a:off x="4800600" y="434340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1008360"/>
            <a:ext cx="5410080" cy="23630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то называют оксидами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745800"/>
            <a:ext cx="8618400" cy="28371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 Оксиды – бинарные соединения элементов с кислородом (кроме соединений фтора)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тепень окисления кислорода в оксидах равна –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i-main-pic" descr="Картинка 18 из 2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5400" y="-353880"/>
            <a:ext cx="49989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160" y="907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886320"/>
            <a:ext cx="9144000" cy="13737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19. Этот оксид используют как пигмент при изготовлении декоративного зеленого стекла и керамики. О каком оксиде идёт реч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2322000"/>
            <a:ext cx="6858000" cy="44132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imes New Roman"/>
              </a:rPr>
              <a:t> – оксид хрома (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lll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H:\Черновик\glass01.jpg"/>
          <p:cNvPicPr/>
          <p:nvPr/>
        </p:nvPicPr>
        <p:blipFill>
          <a:blip r:embed="rId1"/>
          <a:stretch/>
        </p:blipFill>
        <p:spPr>
          <a:xfrm>
            <a:off x="6858000" y="2819520"/>
            <a:ext cx="1952640" cy="3352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:\Черновик\glass02.jpg"/>
          <p:cNvPicPr/>
          <p:nvPr/>
        </p:nvPicPr>
        <p:blipFill>
          <a:blip r:embed="rId2"/>
          <a:stretch/>
        </p:blipFill>
        <p:spPr>
          <a:xfrm>
            <a:off x="4191120" y="4114800"/>
            <a:ext cx="25905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0" y="2434680"/>
            <a:ext cx="9144000" cy="1191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МОЛОДЦЫ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565200"/>
            <a:ext cx="7086600" cy="2288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. Какова классификация оксидов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54440"/>
            <a:ext cx="70866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7162920" y="464832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7162920" y="2514600"/>
            <a:ext cx="1981080" cy="2114640"/>
          </a:xfrm>
          <a:prstGeom prst="rect">
            <a:avLst/>
          </a:prstGeom>
          <a:ln w="0">
            <a:noFill/>
          </a:ln>
        </p:spPr>
      </p:pic>
      <p:pic>
        <p:nvPicPr>
          <p:cNvPr id="107" name="Схема 8" descr=""/>
          <p:cNvPicPr/>
          <p:nvPr/>
        </p:nvPicPr>
        <p:blipFill>
          <a:blip r:embed="rId3"/>
          <a:stretch/>
        </p:blipFill>
        <p:spPr>
          <a:xfrm>
            <a:off x="-60480" y="3498840"/>
            <a:ext cx="7126560" cy="336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7086600" y="60948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857880"/>
            <a:ext cx="6553080" cy="1739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. Чтобы назвать оксид необходимо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2886480"/>
            <a:ext cx="9144000" cy="3751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произнести слово «оксид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дать русское название элементу,   который образовал оксид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оксид образован неметаллом или элементом побочной подгруппы, то в скобках римской цифрой указать его валентность (она = степени окисления элемента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р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ксид кремния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L02p1p04m"/>
          <p:cNvPicPr/>
          <p:nvPr/>
        </p:nvPicPr>
        <p:blipFill>
          <a:blip r:embed="rId1"/>
          <a:stretch/>
        </p:blipFill>
        <p:spPr>
          <a:xfrm>
            <a:off x="6548400" y="0"/>
            <a:ext cx="2595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-9360" y="135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527400"/>
            <a:ext cx="6172200" cy="22885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.Как составить структурную формулу оксид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048480"/>
            <a:ext cx="9144000" cy="3751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ление формулы начинать с элемента, атомов которого больше в соединен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омы кислорода в оксидах между собой связей не образую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ло химических связей, которые может образовать элемент равно его степени окисления по значению. Химическая связь обозначается «-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как кислород в оксидах всегда имеет степень окисления «-2», то  от  его атома должно отходить две черточки «= 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7010280" y="380880"/>
            <a:ext cx="1981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оксид серы 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V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O = S = 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372960"/>
            <a:ext cx="7924680" cy="3080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ьте формулы названных в тексте окси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емной коре-литосфере находятся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алюминия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лина),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кремния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V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есок),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железа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ll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содержится в красном железня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459600"/>
            <a:ext cx="7924680" cy="3442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 -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алюминия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глина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O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кремния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V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есок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ahoma"/>
              </a:rPr>
              <a:t>3 -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ксид железа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ll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содержится в красном железня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419040"/>
            <a:ext cx="6248520" cy="283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ьте формулы названных в тексте окси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ная оболочка Земли - гидросфера -    это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ксид водород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в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оздухе есть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ксид углерода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V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)  (углекислый газ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3818520"/>
            <a:ext cx="6400800" cy="2988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 -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оксид водорода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(вода),                   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Tahoma"/>
              </a:rPr>
              <a:t>2 - 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оксид углерода (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lV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)  (углекислый газ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уггаз"/>
          <p:cNvPicPr/>
          <p:nvPr/>
        </p:nvPicPr>
        <p:blipFill>
          <a:blip r:embed="rId1"/>
          <a:stretch/>
        </p:blipFill>
        <p:spPr>
          <a:xfrm>
            <a:off x="6400800" y="3886200"/>
            <a:ext cx="2895480" cy="281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L01p1p03"/>
          <p:cNvPicPr/>
          <p:nvPr/>
        </p:nvPicPr>
        <p:blipFill>
          <a:blip r:embed="rId2"/>
          <a:stretch/>
        </p:blipFill>
        <p:spPr>
          <a:xfrm>
            <a:off x="6324480" y="38088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-9360" y="-7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683640"/>
            <a:ext cx="6477120" cy="2594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ьте формулы названных в тексте окси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хозяйственной деятельности человека образуются вещества, загрязняющие атмосферу: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углерода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угарный газ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серы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ернистый газ),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азота (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азота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712320"/>
            <a:ext cx="6735600" cy="2422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оксид углерода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угарный газ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2 - </a:t>
            </a:r>
            <a:r>
              <a:rPr b="1" lang="en-US" sz="2000" spc="-1" strike="noStrike">
                <a:solidFill>
                  <a:srgbClr val="7171a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оксид серы (l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ернистый газ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5500440"/>
            <a:ext cx="6735600" cy="1251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O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 -</a:t>
            </a:r>
            <a:r>
              <a:rPr b="0" lang="ru-RU" sz="1200" spc="-1" strike="noStrike">
                <a:solidFill>
                  <a:srgbClr val="000099"/>
                </a:solidFill>
                <a:latin typeface="Tahoma"/>
              </a:rPr>
              <a:t> оксид азота (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1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4898520"/>
            <a:ext cx="6735600" cy="1251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O</a:t>
            </a: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оксид азота (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5777280"/>
            <a:ext cx="6735600" cy="440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ahoma"/>
              </a:rPr>
              <a:t>2 – 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ahoma"/>
              </a:rPr>
              <a:t>ОКСИД АЗОТА (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ahoma"/>
              </a:rPr>
              <a:t>lV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ahoma"/>
              </a:rPr>
              <a:t>)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6477120" y="457200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219240" y="13752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просы викторин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243720"/>
            <a:ext cx="6734160" cy="2837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3600" spc="-1" strike="noStrike">
                <a:solidFill>
                  <a:srgbClr val="7171a6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ычислите массу оксида кальция  количеством 0,5 мол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5038920"/>
            <a:ext cx="914400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 (CaO)=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28 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3-01-14T14:35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