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01C-429A-45CE-9228-0F532C03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3BE-4C82-4620-885A-B9679773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120-16E5-43A4-9FF0-5049E229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25F-EC65-43D9-8F5B-2C227DA6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0794C-4C4B-4A9D-AB2E-3444058B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E5976-37CE-49BB-A45C-1A16DAA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7525D-EBB5-4C91-8C26-C38E30E7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AF31-F994-496A-92DE-DA750E0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EF529-6D83-457B-9FA7-92A2340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00F2-DA97-400F-9F5F-E9414A3E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988C6-0C6F-471E-9FA8-6276E87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6D3-DC9E-417E-97A6-8136EFC9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FD4CF-672E-4733-92BC-B4AE3936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FD11A-4376-4FFD-A682-0AD7614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28206-A498-4960-9EA1-B6EE765E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3041-C034-4AED-A952-0847CC04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D4302-31C4-43BC-89D2-3B364D7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1E2-B8CF-4D23-BDDF-3C26267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05F-564F-4539-8DAF-8DB30BD5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A8F-373F-46B1-AA95-C02DF246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198-44C0-4DA6-BA8F-0537A2F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4DC-3434-4BB4-8A5E-05F7625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F36-6D3E-4137-A81F-2E7C75E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3D5-16DD-4ECC-B49A-C16AE26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6EB8-ECFC-4B89-8AF2-9AEB7FE07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8E41-57F3-4D3C-988A-6B7643808B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4572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АЯ КУЛЬТУРА ВОСПИТАННИКОВ ДЕТСКОГО Д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УСЛОВИЕ ИХ УСПЕШНОЙ СОЦИ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ге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рактической работе участвовали воспитанники группы «Дружные ребят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24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й были разработаны и проведены групповые мероприятия: «Конвенция о правах ребенка в картинках», «Права и обязанности ребенка», «Турпохо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итерии и уров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09480"/>
          <a:ext cx="8458200" cy="6029280"/>
        </p:xfrm>
        <a:graphic>
          <a:graphicData uri="http://schemas.openxmlformats.org/drawingml/2006/table">
            <a:tbl>
              <a:tblPr/>
              <a:tblGrid>
                <a:gridCol w="1747800"/>
                <a:gridCol w="2054160"/>
                <a:gridCol w="2327400"/>
                <a:gridCol w="23288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гнитив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онен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ие в полно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достаточное влад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ладеет содержание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й, норм и цен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ст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екватная – когда мн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овека о себе совпада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тем, что он в действи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льности собой прдстав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я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человека о себе не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статочно высоко при оце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ки своего положения в сис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е различных отношен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овек недооценива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ли переоценивает себ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сравнению с тем, чт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н в действи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бой представля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личност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ш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дер – получил наибольшее число выб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небрегаемый- получивший наименьшее количство выб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ргаемый- вызывает к себе наибольшие антипатии, не получивший выбор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равственная устойчив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питанники не имеют признаков дезадаптации: хорошо справляются с учеб-ной нагрузкой, успеш-но взаимодействуют с воспитателями и со сверстниками, не проявляют асоциаль-ных форм повед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плохо справляются с учебной нагрузкой, не проявляют нарушений социального поведения, но имеются нарушения в сфере межличностных  отношений, заниженный, неустойчивый или неа- декватный показатель самооцен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бенок не может справляться с учебной нагрузкой, устойчивы отклонения в поведении, склонность к нарушению морально-нравственных норм, не умеет предвидеть последствия собственных поступк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ние в полной мер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достаточной поним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принимает и не понимает, агрессивно реагиру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намика  социализации воспитан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%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990720"/>
          <a:ext cx="8381880" cy="5622840"/>
        </p:xfrm>
        <a:graphic>
          <a:graphicData uri="http://schemas.openxmlformats.org/drawingml/2006/table">
            <a:tbl>
              <a:tblPr/>
              <a:tblGrid>
                <a:gridCol w="2755800"/>
                <a:gridCol w="1555920"/>
                <a:gridCol w="2031840"/>
                <a:gridCol w="203832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До экспер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После экспер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нитив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ая устойчив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огнитивному            критери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533520" y="1523880"/>
          <a:ext cx="830556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30556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самооц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304920" y="1712880"/>
          <a:ext cx="815328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2880"/>
                    <a:ext cx="81532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критерию межличностные отнош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609480" y="1905120"/>
          <a:ext cx="80773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0773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нравственная устойчивос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762120" y="1523880"/>
          <a:ext cx="769608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толерантность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914400" y="1981080"/>
          <a:ext cx="7772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609480" y="36180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вышеизложенного, можно сказать, что привитие навыков правовой культуры повышает уровень успешности социализац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ируя результаты практической работы, мы видим, что у воспитанников повысился уровень социализации. В ходе практической работы нами были решены поставленные цели и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им образом, мы можем сделать вывод, что проведенная работа может быть использована в практической деятельности работников образования, воспитателей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04920" y="228600"/>
            <a:ext cx="86868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исследо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последние несколько лет в силу социально – экономических изменений, происходящих в России, растет число детей – сирот и детей, оставшихся без попечения родителей, основную часть которых составляют социальные сироты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ктические и научные исследования, проведенные учеными в различных регионах России, свидетельствуют о том, что многие выпускники детских домов недостаточно подготовлены к выбору своего жизненного пути, отличаются неприспособленностью к самостоятельной жизни, низкой социальной активностью. Проблему исследования составляет изучение наиболее важных аспектов процесса социализации воспитанников детского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ременные социологи отмечают значительную роль в социализации человека института права. Вызревание личности не может идти без знания законов, по которым живет общество, без знания своих прав и обязанностей. К сожалению, пока нельзя сказать, что правовое просвещение у нас достаточно и объективно. Таким образом, с одной стороны, существует объективная необходимость правового образования воспитанников с учетом новых социально-экономических условий, а с другой – имеет место недостаточная разработанность данной проблемы в рамках учебно-воспитательного процесса детского до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38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актуальности, для практики детского дома нами  сформулирована тема методической разработки: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авовая культура воспитанников детского дома как условие их успешной социализац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фото-25 декабря 232"/>
          <p:cNvPicPr/>
          <p:nvPr/>
        </p:nvPicPr>
        <p:blipFill>
          <a:blip r:embed="rId1"/>
          <a:stretch/>
        </p:blipFill>
        <p:spPr>
          <a:xfrm>
            <a:off x="2209680" y="3581280"/>
            <a:ext cx="480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2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: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ирование жизненно важных навыков у воспитанников детского дома в процессе воспитания правовой культу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Раскрыть сущность понятий социализация и правовая культу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Изучить условия успешной социализации воспитанников детского дом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Рассмотреть результаты влияния правовой культуры на процесс успешной социализац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Структура работы</a:t>
            </a: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методическая разработка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состоит из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введен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двух глав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ключен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библиографического спис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лож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2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ЛАВА 1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В первой главе нами были раскрыты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 УСПЕШНОЙ СОЦИАЛИЗАЦИИ ВОСПИТАННИКОВ ДЕТСКОГО ДОМА В ПРОЦЕССЕ  ФОРМИРОВАНИЯ ПРАВОВОЙ КУЛЬТУРЫ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именно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оспитание как одно из важнейших условий успешной социализации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онятия социализации и правов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льтуры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Особенности развития детей-сирот в условиях детского дома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Формирование правовой культуры воспитанников детского дома – важный ресурс их успешной социализа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ГЛАВА 2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 второй главе нами представлены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ие разработки по обучению жизненно важным навыкам воспитанников детского дома в процессе формирования правовой куль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09480" y="228600"/>
            <a:ext cx="79250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ктическая работа проводилась на базе детского дома «Березка» пгт. Промышленная Кемеровской об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8:14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