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10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206E-B4E8-4C0B-8928-90D600723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DE7F-702D-4F73-B7F9-B2DD6B58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8E21-51B1-4775-ACDC-A36EBF8C9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AEFA-51D5-456B-B550-A628A71D2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81E4C-4094-48D8-B3FE-CBB712762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8AEA0-A2DD-492F-98AB-7D0A1EAF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C9A81-16F4-4D6C-A433-5154DB42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817A0-8042-4D5B-BF6F-D5522F28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EF10C-4EFB-4A53-B698-A39A210F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26AE4-DB94-4AFC-B616-78084E88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E4299-0817-453F-A58B-31DCE083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286C-C4E4-4DAB-9AD0-0D768F32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2C938-8C15-4E26-AB55-BAE12CDF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D53F0-3A79-4321-8633-31DCBE87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4A850-6EAA-4110-B0E7-0B7131DA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2E723-36DC-4B62-BC4F-33916D6E7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0324C-14D3-404F-B94A-4502E8B9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782D-14D6-42BD-B535-12E68BC0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855F-273B-47BA-B3C5-57DE2081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CDB5-E295-4C1D-A567-4B7E8CBD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B698-5E09-4F45-87D6-F30328BC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195A-51D9-4501-8545-8ED07CDF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ED69-EA5B-4CCC-9222-592187EF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F1BC-188B-4887-AF67-2665BD3F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F67B-C455-4EC5-A0B0-2BFD6756A2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A437-2300-4650-869B-8AC61888CA7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380880" y="457200"/>
            <a:ext cx="8534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АВОВАЯ КУЛЬТУРА ВОСПИТАННИКОВ ДЕТСКОГО ДО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АК УСЛОВИЕ ИХ УСПЕШНОЙ СОЦИАЛИЗА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ставил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ергеева Е.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 практической работе участвовали воспитанники группы «Дружные ребята»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6324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ной были разработаны и проведены групповые мероприятия: «Конвенция о правах ребенка в картинках», «Права и обязанности ребенка», «Турпоход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4038480" cy="3505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384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итерии и уров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28600" y="609480"/>
          <a:ext cx="8458200" cy="6029280"/>
        </p:xfrm>
        <a:graphic>
          <a:graphicData uri="http://schemas.openxmlformats.org/drawingml/2006/table">
            <a:tbl>
              <a:tblPr/>
              <a:tblGrid>
                <a:gridCol w="1747800"/>
                <a:gridCol w="2054160"/>
                <a:gridCol w="2327400"/>
                <a:gridCol w="2328840"/>
              </a:tblGrid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ровен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сок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редн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изк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гнитивны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мпонент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ответствие в полной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р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Недостаточное влад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 владеет содержанием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нятий, норм и ценностей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ществ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амооцен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декватная – когда мнени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еловека о себе совпадает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 тем, что он в действи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льности собой прдстав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яет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нение человека о себе не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статочно высоко при оце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ки своего положения в сис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е различных отношений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еловек недооценивает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ли переоценивает себ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 сравнению с тем, что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н в действительност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бой представляет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жличностны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тношения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дер – получил наибольшее число выбор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небрегаемый- получивший наименьшее количство выбор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ргаемый- вызывает к себе наибольшие антипатии, не получивший выборов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равственная устойчив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спитанники не имеют признаков дезадаптации: хорошо справляются с учеб-ной нагрузкой, успеш-но взаимодействуют с воспитателями и со сверстниками, не проявляют асоциаль-ных форм поведени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ти плохо справляются с учебной нагрузкой, не проявляют нарушений социального поведения, но имеются нарушения в сфере межличностных  отношений, заниженный, неустойчивый или неа- декватный показатель самооценки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бенок не может справляться с учебной нагрузкой, устойчивы отклонения в поведении, склонность к нарушению морально-нравственных норм, не умеет предвидеть последствия собственных поступков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олерант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нимание в полной мере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достаточной понимание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 принимает и не понимает, агрессивно реагирует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инамика  социализации воспитанников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в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%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990720"/>
          <a:ext cx="8381880" cy="5622840"/>
        </p:xfrm>
        <a:graphic>
          <a:graphicData uri="http://schemas.openxmlformats.org/drawingml/2006/table">
            <a:tbl>
              <a:tblPr/>
              <a:tblGrid>
                <a:gridCol w="2755800"/>
                <a:gridCol w="1555920"/>
                <a:gridCol w="2031840"/>
                <a:gridCol w="2038320"/>
              </a:tblGrid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итер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Уров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До эксперим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После эксперим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гнитив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высо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сред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низ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мооцен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высо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сред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низ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жличностные отнош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высо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сред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низ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равственная устойчив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высо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сред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низ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олерант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высо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4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сред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низ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Franklin Gothic Book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инамика изменения социализации по когнитивному            критерию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 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4" name="Object 6"/>
          <p:cNvGraphicFramePr/>
          <p:nvPr/>
        </p:nvGraphicFramePr>
        <p:xfrm>
          <a:off x="533520" y="1523880"/>
          <a:ext cx="8305560" cy="500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3880"/>
                    <a:ext cx="8305560" cy="50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намика изменения социализации по критерию самооцен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Object 6"/>
          <p:cNvGraphicFramePr/>
          <p:nvPr/>
        </p:nvGraphicFramePr>
        <p:xfrm>
          <a:off x="304920" y="1712880"/>
          <a:ext cx="8153280" cy="46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12880"/>
                    <a:ext cx="815328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инамика изменения социализации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критерию межличностные отношени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Object 6"/>
          <p:cNvGraphicFramePr/>
          <p:nvPr/>
        </p:nvGraphicFramePr>
        <p:xfrm>
          <a:off x="609480" y="1905120"/>
          <a:ext cx="807732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05120"/>
                    <a:ext cx="807732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инамика изменения социализации по критерию нравственная устойчивость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3" name="Object 6"/>
          <p:cNvGraphicFramePr/>
          <p:nvPr/>
        </p:nvGraphicFramePr>
        <p:xfrm>
          <a:off x="762120" y="1523880"/>
          <a:ext cx="769608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69608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намика изменения социализации по критерию толерантность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6" name="Object 4"/>
          <p:cNvGraphicFramePr/>
          <p:nvPr/>
        </p:nvGraphicFramePr>
        <p:xfrm>
          <a:off x="914400" y="1981080"/>
          <a:ext cx="777240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81080"/>
                    <a:ext cx="77724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609480" y="361800"/>
            <a:ext cx="82296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ходя из вышеизложенного, можно сказать, что привитие навыков правовой культуры повышает уровень успешности социализации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ализируя результаты практической работы, мы видим, что у воспитанников повысился уровень социализации. В ходе практической работы нами были решены поставленные цели и задач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аким образом, мы можем сделать вывод, что проведенная работа может быть использована в практической деятельности работников образования, воспитателей и т.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304920" y="228600"/>
            <a:ext cx="868680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ктуальность исследования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последние несколько лет в силу социально – экономических изменений, происходящих в России, растет число детей – сирот и детей, оставшихся без попечения родителей, основную часть которых составляют социальные сироты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актические и научные исследования, проведенные учеными в различных регионах России, свидетельствуют о том, что многие выпускники детских домов недостаточно подготовлены к выбору своего жизненного пути, отличаются неприспособленностью к самостоятельной жизни, низкой социальной активностью. Проблему исследования составляет изучение наиболее важных аспектов процесса социализации воспитанников детского до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временные социологи отмечают значительную роль в социализации человека института права. Вызревание личности не может идти без знания законов, по которым живет общество, без знания своих прав и обязанностей. К сожалению, пока нельзя сказать, что правовое просвещение у нас достаточно и объективно. Таким образом, с одной стороны, существует объективная необходимость правового образования воспитанников с учетом новых социально-экономических условий, а с другой – имеет место недостаточная разработанность данной проблемы в рамках учебно-воспитательного процесса детского дом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8458200" cy="382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ходя из актуальности, для практики детского дома нами  сформулирована тема методической разработки: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«Правовая культура воспитанников детского дома как условие их успешной социализации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7" descr="фото-25 декабря 232"/>
          <p:cNvPicPr/>
          <p:nvPr/>
        </p:nvPicPr>
        <p:blipFill>
          <a:blip r:embed="rId1"/>
          <a:stretch/>
        </p:blipFill>
        <p:spPr>
          <a:xfrm>
            <a:off x="2209680" y="3581280"/>
            <a:ext cx="4800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27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Tahoma"/>
              </a:rPr>
              <a:t>Цель: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формирование жизненно важных навыков у воспитанников детского дома в процессе воспитания правовой культуры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03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Задачи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Раскрыть сущность понятий социализация и правовая культура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Изучить условия успешной социализации воспитанников детского дома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Рассмотреть результаты влияния правовой культуры на процесс успешной социализации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34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  <a:ea typeface="Times New Roman"/>
              </a:rPr>
              <a:t>Структура работы</a:t>
            </a:r>
            <a:br>
              <a:rPr sz="44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методическая разработка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состоит из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: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введения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двух глав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заключения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библиографического списка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приложения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26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ГЛАВА 1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В первой главе нами были раскрыты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ЕОРЕТИЧЕСКИЕ ОСНОВЫ  УСПЕШНОЙ СОЦИАЛИЗАЦИИ ВОСПИТАННИКОВ ДЕТСКОГО ДОМА В ПРОЦЕССЕ  ФОРМИРОВАНИЯ ПРАВОВОЙ КУЛЬТУРЫ,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 именно: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Воспитание как одно из важнейших условий успешной социализации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Понятия социализации и правовой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ультуры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Особенности развития детей-сирот в условиях детского дома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Формирование правовой культуры воспитанников детского дома – важный ресурс их успешной социализации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95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ГЛАВА 2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о второй главе нами представлены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актические разработки по обучению жизненно важным навыкам воспитанников детского дома в процессе формирования правовой культур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609480" y="228600"/>
            <a:ext cx="792504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актическая работа проводилась на базе детского дома «Березка» пгт. Промышленная Кемеровской об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1547640" y="2276640"/>
            <a:ext cx="5977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01T08:14:2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