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7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17.png" ContentType="image/png"/>
  <Override PartName="/ppt/media/image14.gif" ContentType="image/gif"/>
  <Override PartName="/ppt/media/image22.jpeg" ContentType="image/jpeg"/>
  <Override PartName="/ppt/media/image1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28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8AA-822E-4907-A7FB-056B09C9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83D-5C59-4921-BA6C-C0CC1376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629-BE9F-497A-A82C-46296D76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5EF-E30E-46D8-8BE4-9C0DA17C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DBB-78B6-4004-A625-BF2EBB08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158-53F4-4801-B690-D2BBEAC0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6C2-A691-4AE7-9E11-79DD8971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83F-94EB-4751-9E96-661FF75A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CE0-E258-4AA9-B32C-F8293E06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25B-0BA1-417E-B6D8-A6AC743C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931-CBA3-41ED-9119-24D9B0D1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4A4-2343-444E-BB19-23A07DD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D88B-0A91-4308-9824-A567FC9E0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Зарождение новой жизн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840" y="4000320"/>
            <a:ext cx="33577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: учени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 В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СОШ №51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апов Дмитр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IMG.jpg"/>
          <p:cNvPicPr/>
          <p:nvPr/>
        </p:nvPicPr>
        <p:blipFill>
          <a:blip r:embed="rId1"/>
          <a:stretch/>
        </p:blipFill>
        <p:spPr>
          <a:xfrm>
            <a:off x="3714840" y="3500280"/>
            <a:ext cx="498312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танццвет"/>
          <p:cNvPicPr/>
          <p:nvPr/>
        </p:nvPicPr>
        <p:blipFill>
          <a:blip r:embed="rId2"/>
          <a:stretch/>
        </p:blipFill>
        <p:spPr>
          <a:xfrm>
            <a:off x="214200" y="2714760"/>
            <a:ext cx="828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:\фото для проета\IMG_1427.JPG"/>
          <p:cNvPicPr/>
          <p:nvPr/>
        </p:nvPicPr>
        <p:blipFill>
          <a:blip r:embed="rId1"/>
          <a:stretch/>
        </p:blipFill>
        <p:spPr>
          <a:xfrm>
            <a:off x="4429080" y="1785960"/>
            <a:ext cx="4476960" cy="3357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Опыт №1     Чудо!!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утри семени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роды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 него разовь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вое раст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родыш живой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му нужны возд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пит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Опыт №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765000"/>
          <a:ext cx="8641800" cy="6040440"/>
        </p:xfrm>
        <a:graphic>
          <a:graphicData uri="http://schemas.openxmlformats.org/drawingml/2006/table">
            <a:tbl>
              <a:tblPr/>
              <a:tblGrid>
                <a:gridCol w="821160"/>
                <a:gridCol w="782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наблюд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очили  семя фасоли, положили во влажную марлю и поместили в теплое мест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ена набухли, стали большие, кожура шелушить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жица лопнула, появился беленький корешок семя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шок стал ра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корешка стали появляться боковые корешк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росшие семена посадили в цветочный горшок, чтобы посмотреть, как появляются расте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горшке появились зеленые рос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оршке стебельки у проросших растений поднимаются, остальные тоже дали рос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-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горшке растения поднимаются, их высота 6-8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084840" cy="411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2760" y="1833480"/>
            <a:ext cx="47368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Я убедился, что из семян фасоли, положенных во влажную почву, через 3-5 дней появились ростки (стебель с листочка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на представляют собой живые организмы в зародышевом состоя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блюдать процесс рождения новой жизни интересно, но не быстр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868680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ои наблюдения при помощи микроскопа (кли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22600" y="1557360"/>
            <a:ext cx="56988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Как интересно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Я убедился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из семян фас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росло нов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ение, котор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в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ом образовал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инные зеле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учки. А в 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ленькие се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Жизнь продолжаетс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572240" y="2643120"/>
            <a:ext cx="1360800" cy="2038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143240" y="32148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5857920" y="2000160"/>
            <a:ext cx="1247760" cy="107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6000840" y="4929120"/>
            <a:ext cx="100944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ag00334_"/>
          <p:cNvPicPr/>
          <p:nvPr/>
        </p:nvPicPr>
        <p:blipFill>
          <a:blip r:embed="rId5"/>
          <a:stretch/>
        </p:blipFill>
        <p:spPr>
          <a:xfrm>
            <a:off x="5929200" y="3643200"/>
            <a:ext cx="1224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Фотосинтез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1" descr=""/>
          <p:cNvPicPr/>
          <p:nvPr/>
        </p:nvPicPr>
        <p:blipFill>
          <a:blip r:embed="rId1"/>
          <a:stretch/>
        </p:blipFill>
        <p:spPr>
          <a:xfrm>
            <a:off x="1258920" y="1328760"/>
            <a:ext cx="62658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Интересные факты о фасо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 употребляли в пищу бобовые растения с очень давних в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еешь одно зернышко, соберешь 100—15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обы часто называют растительным мясом: в них очень много бел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ле бобовых в почве остается много азота, поэтому он очень полезен для других раст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10" descr="00028034"/>
          <p:cNvPicPr/>
          <p:nvPr/>
        </p:nvPicPr>
        <p:blipFill>
          <a:blip r:embed="rId1"/>
          <a:stretch/>
        </p:blipFill>
        <p:spPr>
          <a:xfrm>
            <a:off x="6877080" y="260280"/>
            <a:ext cx="19209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456840"/>
            <a:ext cx="82803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Я раскрыл одну тайну природы и  уже обдумываю план будущего исслед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5" descr="Изображение 001.JPG"/>
          <p:cNvPicPr/>
          <p:nvPr/>
        </p:nvPicPr>
        <p:blipFill>
          <a:blip r:embed="rId1"/>
          <a:stretch/>
        </p:blipFill>
        <p:spPr>
          <a:xfrm>
            <a:off x="1611360" y="2205000"/>
            <a:ext cx="59198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нтересные книги, которые мне помогли в исследован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збука природы. Издательский дом «Ридерс Дайджест», 199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циклопедия живой природы. М. «Олма Медиа Групп», 200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энциклопедия «Я познаю мир. Растения». М.: «АСТ», 1998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.А. Клепинина. Природоведение 3 кл. М.: «Просвещение», 199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С. Суханова, В.И. Строганов. Природа-5 кл. М.: «Вентана- Граф», 200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.И. Сонин. Биология-6. «Живой организм». М.: «Дрофа», 200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ейший справочник школьник 1-4 кл. М.: КСМО «Слово», 200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.Н. Алешко «Хрестоматия по ботанике». М.: «Просвещение», 196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й первый микроск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087720" cy="4116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0844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фровой микроск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5" descr="Цифровой микроскоп"/>
          <p:cNvPicPr/>
          <p:nvPr/>
        </p:nvPicPr>
        <p:blipFill>
          <a:blip r:embed="rId1"/>
          <a:stretch/>
        </p:blipFill>
        <p:spPr>
          <a:xfrm>
            <a:off x="1187280" y="1254240"/>
            <a:ext cx="7129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424720" cy="98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икроскоп позволя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6083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величивать изучаемые объекты, помещённые на предметный столик,        в 10, 60 и 200 раз!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Фотографировать рассматриваемый объек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нимать видеофильмы (верхняя часть микроскопа снимается, и при поднесении к объекту, работает как веб-камера, давая 10-кратное увеличение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зменять, сохранять, распечатывать, делать коллекции готовых фото- и видеоматериал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24" descr="IMG_0046.JPG"/>
          <p:cNvPicPr/>
          <p:nvPr/>
        </p:nvPicPr>
        <p:blipFill>
          <a:blip r:embed="rId5"/>
          <a:stretch/>
        </p:blipFill>
        <p:spPr>
          <a:xfrm>
            <a:off x="6227640" y="1844640"/>
            <a:ext cx="271476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165320"/>
            <a:ext cx="822960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нать, как появляются новые растения, рождается новая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Изображение 038.jpg"/>
          <p:cNvPicPr/>
          <p:nvPr/>
        </p:nvPicPr>
        <p:blipFill>
          <a:blip r:embed="rId1"/>
          <a:stretch/>
        </p:blipFill>
        <p:spPr>
          <a:xfrm>
            <a:off x="2214720" y="271476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560" y="15541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нать, что скрыто в семени, как оно прорастает и поч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учить строение семени фасоли и наблюдать его прорастанием с помощью цифрового микроско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ти новые и интересные факты о жизни этого раст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IMG_1431.JPG"/>
          <p:cNvPicPr/>
          <p:nvPr/>
        </p:nvPicPr>
        <p:blipFill>
          <a:blip r:embed="rId1"/>
          <a:stretch/>
        </p:blipFill>
        <p:spPr>
          <a:xfrm>
            <a:off x="4859280" y="1557360"/>
            <a:ext cx="4071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положи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в с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пин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торые попад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зем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чин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растат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110120" y="2143080"/>
            <a:ext cx="4497480" cy="271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word2"/>
          <p:cNvPicPr/>
          <p:nvPr/>
        </p:nvPicPr>
        <p:blipFill>
          <a:blip r:embed="rId2"/>
          <a:stretch/>
        </p:blipFill>
        <p:spPr>
          <a:xfrm>
            <a:off x="5429160" y="2428920"/>
            <a:ext cx="172260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Человечек-1"/>
          <p:cNvPicPr/>
          <p:nvPr/>
        </p:nvPicPr>
        <p:blipFill>
          <a:blip r:embed="rId3"/>
          <a:stretch/>
        </p:blipFill>
        <p:spPr>
          <a:xfrm>
            <a:off x="7286760" y="3500280"/>
            <a:ext cx="1009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результате изучения источников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троение семени фас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28800" y="2500200"/>
            <a:ext cx="74786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Растениям для роста и развития необходим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          Тепло        Воздух        Св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AG00433_"/>
          <p:cNvPicPr/>
          <p:nvPr/>
        </p:nvPicPr>
        <p:blipFill>
          <a:blip r:embed="rId1"/>
          <a:stretch/>
        </p:blipFill>
        <p:spPr>
          <a:xfrm>
            <a:off x="7072200" y="3571920"/>
            <a:ext cx="1500480" cy="137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AG00434_"/>
          <p:cNvPicPr/>
          <p:nvPr/>
        </p:nvPicPr>
        <p:blipFill>
          <a:blip r:embed="rId2"/>
          <a:stretch/>
        </p:blipFill>
        <p:spPr>
          <a:xfrm>
            <a:off x="500040" y="3857760"/>
            <a:ext cx="1614600" cy="116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g00005_"/>
          <p:cNvPicPr/>
          <p:nvPr/>
        </p:nvPicPr>
        <p:blipFill>
          <a:blip r:embed="rId3"/>
          <a:stretch/>
        </p:blipFill>
        <p:spPr>
          <a:xfrm>
            <a:off x="2786040" y="3643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4738680" y="3643200"/>
            <a:ext cx="18097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1:50:51Z</dcterms:created>
  <dc:creator>-</dc:creator>
  <dc:description/>
  <dc:language>en-US</dc:language>
  <cp:lastModifiedBy>Admin</cp:lastModifiedBy>
  <dcterms:modified xsi:type="dcterms:W3CDTF">2013-04-01T17:41:18Z</dcterms:modified>
  <cp:revision>62</cp:revision>
  <dc:subject/>
  <dc:title>Прорастание семени фасоли</dc:title>
</cp:coreProperties>
</file>