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9.png" ContentType="image/png"/>
  <Override PartName="/ppt/media/image4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12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44.png" ContentType="image/png"/>
  <Override PartName="/ppt/media/image40.jpeg" ContentType="image/jpeg"/>
  <Override PartName="/ppt/media/image30.jpeg" ContentType="image/jpeg"/>
  <Override PartName="/ppt/media/image43.png" ContentType="image/png"/>
  <Override PartName="/ppt/media/image4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.jpeg" ContentType="image/jpeg"/>
  <Override PartName="/ppt/media/image10.png" ContentType="image/png"/>
  <Override PartName="/ppt/media/image3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59E-1C3D-4281-B3BE-A1163406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471-D85E-4E73-86B2-6CA0619D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53D-D66D-4E58-9A25-528EA38C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446-EA39-4D20-B956-A31DB9A4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1D5C-A06E-4497-939B-9A31811B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E25-2543-4B38-A9E5-DFC856B0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7DF7-DB01-4249-B3A2-6384E56F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A89A-BCF8-4424-AB87-A03A4A1D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D55F-7959-4ACE-8CE0-9B5950A0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3C3D-1D04-4141-B30F-D21840C2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E9FB-445B-40C5-9A40-1A9E715B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D15-F660-4F49-A721-93941470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1CAC-998E-44BE-A1CE-B5AD9C7F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E1B2-9801-43B4-B285-BF790DE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7057-9D66-4AB3-825E-8D1FA7C4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828B-1EA8-4EE6-BFDD-96FC6762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7E14-EC82-44FE-B387-C7FC5C33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0DD6-A151-49B7-B335-48D38F6B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859E-6C4D-4022-9BB2-300E14B6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3126-CE58-440C-AF04-996BC8A2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A119-2CCE-4D1F-B0E7-F46BBFD6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36352-47F8-4A97-AAF6-90814A45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6BE-404E-4824-8F82-83096EF4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6CF8-6FDE-491B-8288-3B7FF227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7FB0-EAFB-4ADA-8CD4-D32FD37F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E333-3EE3-4EF6-882A-6A83EC41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BDDB-5ACC-4D99-A60D-D08ADBE5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A133-7430-4834-8C41-620FAB1D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77E20-7AC1-4070-B206-E94EC61F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CC07-B04E-4819-AC73-AC9AEA97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EABAB-D091-4656-BF16-7F5F01BD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76CD-DC95-4822-9ABE-AE84A3A7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E5107-F1FF-4622-9B0D-BCF5F5F4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3D0-5270-4D93-A3CE-2B0FF5C5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E2EF-8683-470D-8036-6BEF1F36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0725-E7EC-4291-8E65-618C63F3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F5801-DDBC-425F-8A37-B96C4470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7D4E2-8A7D-4EC9-A004-6DEC0BF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34BE1-CAA8-42CC-ABE8-1B02326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2AEE-2BF2-45D2-B67D-5934E49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7F5F-7B00-4488-986E-CFC62E95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FD8FE-B0A2-46A5-84C6-C26B0ABC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BDEF-7438-41DA-8C04-EEB46789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BA5-671A-4B8D-8057-AB387085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688-6BF4-4532-B21C-F9E23FC8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BA4-50C4-4235-B263-45356BC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DCD-C579-4980-8904-BD0C7141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D9A-176A-4580-AACB-60464B4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0F00-A4C4-47AC-B5AD-98A9537283C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F6AD-CFDF-49C2-A2F0-E7D89C2C6AD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EFAD-EBE1-4E61-BADF-7018EA06AD0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877-2E1F-454C-9152-FD6CD32FBCD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736120" cy="11509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5"/>
          <p:cNvSpPr/>
          <p:nvPr/>
        </p:nvSpPr>
        <p:spPr>
          <a:xfrm>
            <a:off x="4929120" y="2214720"/>
            <a:ext cx="371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арт космического корабля «Восток-1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2 апреля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7" descr="C:\Documents and Settings\1\Рабочий стол\космонавты\511_76b.jpg"/>
          <p:cNvPicPr/>
          <p:nvPr/>
        </p:nvPicPr>
        <p:blipFill>
          <a:blip r:embed="rId2"/>
          <a:stretch/>
        </p:blipFill>
        <p:spPr>
          <a:xfrm>
            <a:off x="500040" y="2571840"/>
            <a:ext cx="3492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347760" y="-139680"/>
            <a:ext cx="8521560" cy="19922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C:\Documents and Settings\1\Рабочий стол\космонавты\511_76b.jpg"/>
          <p:cNvPicPr/>
          <p:nvPr/>
        </p:nvPicPr>
        <p:blipFill>
          <a:blip r:embed="rId2"/>
          <a:stretch/>
        </p:blipFill>
        <p:spPr>
          <a:xfrm>
            <a:off x="500040" y="2571840"/>
            <a:ext cx="3492360" cy="335736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5" descr="797.jpg"/>
          <p:cNvPicPr/>
          <p:nvPr/>
        </p:nvPicPr>
        <p:blipFill>
          <a:blip r:embed="rId3"/>
          <a:stretch/>
        </p:blipFill>
        <p:spPr>
          <a:xfrm>
            <a:off x="4857840" y="2214720"/>
            <a:ext cx="30477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347760" y="549360"/>
            <a:ext cx="8521560" cy="2028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Admin\Мои документы\S002995i.bmp"/>
          <p:cNvPicPr/>
          <p:nvPr/>
        </p:nvPicPr>
        <p:blipFill>
          <a:blip r:embed="rId2"/>
          <a:stretch/>
        </p:blipFill>
        <p:spPr>
          <a:xfrm>
            <a:off x="857160" y="2500200"/>
            <a:ext cx="3000600" cy="3643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Admin\Мои документы\S002996i.bmp"/>
          <p:cNvPicPr/>
          <p:nvPr/>
        </p:nvPicPr>
        <p:blipFill>
          <a:blip r:embed="rId3"/>
          <a:stretch/>
        </p:blipFill>
        <p:spPr>
          <a:xfrm>
            <a:off x="5286240" y="2357280"/>
            <a:ext cx="31435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ервая женщина-космонавт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алентина Терешкова   («Восток-3» 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16 июня 1963г.)  и Юрий Гагари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одержимое 4" descr="терешкова.jpeg"/>
          <p:cNvPicPr/>
          <p:nvPr/>
        </p:nvPicPr>
        <p:blipFill>
          <a:blip r:embed="rId1"/>
          <a:stretch/>
        </p:blipFill>
        <p:spPr>
          <a:xfrm>
            <a:off x="928800" y="1928880"/>
            <a:ext cx="317016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7" descr="naj.jpg"/>
          <p:cNvPicPr/>
          <p:nvPr/>
        </p:nvPicPr>
        <p:blipFill>
          <a:blip r:embed="rId2"/>
          <a:stretch/>
        </p:blipFill>
        <p:spPr>
          <a:xfrm>
            <a:off x="4786200" y="200016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Первый человек в открытом космосе-</a:t>
            </a: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Алексей Леонов ( март 1965 г. «Восход-2»). Выход космонавта А. А. Леонова в космос (1965). Леонов удалился от корабля на 5 м и пробыл в космосе 12 минут. Вновь Леонов полетит в космос через десять лет в 1975 году.</a:t>
            </a:r>
            <a:br>
              <a:rPr sz="3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5" descr="космонавт в открытом.jpg"/>
          <p:cNvPicPr/>
          <p:nvPr/>
        </p:nvPicPr>
        <p:blipFill>
          <a:blip r:embed="rId1"/>
          <a:stretch/>
        </p:blipFill>
        <p:spPr>
          <a:xfrm>
            <a:off x="4714920" y="2071800"/>
            <a:ext cx="3575160" cy="452592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7" descr="img.jpg"/>
          <p:cNvPicPr/>
          <p:nvPr/>
        </p:nvPicPr>
        <p:blipFill>
          <a:blip r:embed="rId2"/>
          <a:stretch/>
        </p:blipFill>
        <p:spPr>
          <a:xfrm>
            <a:off x="857160" y="2071800"/>
            <a:ext cx="3205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ЛУНОХОД (Лунный самоходный аппарат), автоматическое или управляемое устройство для работы и передвижения по поверхности Луны. Первый автоматический лунный самоходный аппарат, управляемый с Земли, — советский «Луноход-1» (1970). В 1970-75 запущено 2 советских лунных самоходных аппарата. Максимальная масса 840 кг, максимальное пройденное расстояние 37 км, время работы ок. 1 года.</a:t>
            </a:r>
            <a:br>
              <a:rPr sz="1400"/>
            </a:br>
            <a:r>
              <a:rPr b="0" lang="ru-RU" sz="1400" spc="-1" strike="noStrike">
                <a:solidFill>
                  <a:srgbClr val="04617b"/>
                </a:solidFill>
                <a:latin typeface="Calibri"/>
              </a:rPr>
              <a:t>Первый управляемый лунный самоходный аппарат — американский луноход «Ровер» (1971). В 1971-72 на Луну доставлены космическими кораблями «Аполлон-15, -16 и -17», 3 лунохода «Ровер» для передвижения астронавтов. Максимальная масса (с двумя астронавтами и грузом) 725 кг, максимальное пройденное расстояние ок. 36 км.</a:t>
            </a:r>
            <a:br>
              <a:rPr sz="3200"/>
            </a:br>
            <a:br>
              <a:rPr sz="3200"/>
            </a:b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Содержимое 4" descr="p2visual.jpg"/>
          <p:cNvPicPr/>
          <p:nvPr/>
        </p:nvPicPr>
        <p:blipFill>
          <a:blip r:embed="rId1"/>
          <a:stretch/>
        </p:blipFill>
        <p:spPr>
          <a:xfrm>
            <a:off x="500040" y="307188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5" descr="cdad0b2fe11cc758a4f5581a0f50ff35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00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347760" y="420840"/>
            <a:ext cx="8424720" cy="2444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Documents and Settings\Admin\Мои документы\10s00023i.bmp"/>
          <p:cNvPicPr/>
          <p:nvPr/>
        </p:nvPicPr>
        <p:blipFill>
          <a:blip r:embed="rId2"/>
          <a:stretch/>
        </p:blipFill>
        <p:spPr>
          <a:xfrm>
            <a:off x="285840" y="2786040"/>
            <a:ext cx="3571920" cy="3641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Documents and Settings\Admin\Мои документы\kur8nov181i.bmp"/>
          <p:cNvPicPr/>
          <p:nvPr/>
        </p:nvPicPr>
        <p:blipFill>
          <a:blip r:embed="rId3"/>
          <a:stretch/>
        </p:blipFill>
        <p:spPr>
          <a:xfrm>
            <a:off x="4572000" y="2714760"/>
            <a:ext cx="40719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осмические корабли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и летательные аппара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6" descr="космический корабль.jpg"/>
          <p:cNvPicPr/>
          <p:nvPr/>
        </p:nvPicPr>
        <p:blipFill>
          <a:blip r:embed="rId1"/>
          <a:stretch/>
        </p:blipFill>
        <p:spPr>
          <a:xfrm>
            <a:off x="428760" y="1428840"/>
            <a:ext cx="4038480" cy="2500200"/>
          </a:xfrm>
          <a:prstGeom prst="rect">
            <a:avLst/>
          </a:prstGeom>
          <a:ln w="0">
            <a:noFill/>
          </a:ln>
        </p:spPr>
      </p:pic>
      <p:pic>
        <p:nvPicPr>
          <p:cNvPr id="242" name="Содержимое 4" descr="16606.jpg"/>
          <p:cNvPicPr/>
          <p:nvPr/>
        </p:nvPicPr>
        <p:blipFill>
          <a:blip r:embed="rId2"/>
          <a:stretch/>
        </p:blipFill>
        <p:spPr>
          <a:xfrm>
            <a:off x="4572000" y="1428840"/>
            <a:ext cx="4038480" cy="25002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1206052967_webimg_image4_full.jpg"/>
          <p:cNvPicPr/>
          <p:nvPr/>
        </p:nvPicPr>
        <p:blipFill>
          <a:blip r:embed="rId3"/>
          <a:stretch/>
        </p:blipFill>
        <p:spPr>
          <a:xfrm>
            <a:off x="357120" y="4000680"/>
            <a:ext cx="4143600" cy="24793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8" descr="Space Fiction Mars Mission - 1024x768.jpg"/>
          <p:cNvPicPr/>
          <p:nvPr/>
        </p:nvPicPr>
        <p:blipFill>
          <a:blip r:embed="rId4"/>
          <a:stretch/>
        </p:blipFill>
        <p:spPr>
          <a:xfrm>
            <a:off x="4572000" y="4000680"/>
            <a:ext cx="42861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36360" y="701640"/>
            <a:ext cx="873612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Admin\Мои документы\k_596i.bmp"/>
          <p:cNvPicPr/>
          <p:nvPr/>
        </p:nvPicPr>
        <p:blipFill>
          <a:blip r:embed="rId2"/>
          <a:stretch/>
        </p:blipFill>
        <p:spPr>
          <a:xfrm>
            <a:off x="4643280" y="2428920"/>
            <a:ext cx="4143600" cy="3714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Documents and Settings\Admin\Мои документы\k_595i.bmp"/>
          <p:cNvPicPr/>
          <p:nvPr/>
        </p:nvPicPr>
        <p:blipFill>
          <a:blip r:embed="rId3"/>
          <a:stretch/>
        </p:blipFill>
        <p:spPr>
          <a:xfrm>
            <a:off x="500040" y="2428920"/>
            <a:ext cx="35006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504280" cy="1150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Admin\Мои документы\sh01050i.bmp"/>
          <p:cNvPicPr/>
          <p:nvPr/>
        </p:nvPicPr>
        <p:blipFill>
          <a:blip r:embed="rId2"/>
          <a:stretch/>
        </p:blipFill>
        <p:spPr>
          <a:xfrm>
            <a:off x="357120" y="2500200"/>
            <a:ext cx="2643120" cy="2818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Admin\Мои документы\z01040i.bmp"/>
          <p:cNvPicPr/>
          <p:nvPr/>
        </p:nvPicPr>
        <p:blipFill>
          <a:blip r:embed="rId3"/>
          <a:stretch/>
        </p:blipFill>
        <p:spPr>
          <a:xfrm>
            <a:off x="6572160" y="2500200"/>
            <a:ext cx="2286000" cy="2857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Admin\Мои документы\g_019i.bmp"/>
          <p:cNvPicPr/>
          <p:nvPr/>
        </p:nvPicPr>
        <p:blipFill>
          <a:blip r:embed="rId4"/>
          <a:stretch/>
        </p:blipFill>
        <p:spPr>
          <a:xfrm>
            <a:off x="3643200" y="2500200"/>
            <a:ext cx="23576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347760" y="512640"/>
            <a:ext cx="8424720" cy="1339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Admin\Мои документы\t_014i.bmp"/>
          <p:cNvPicPr/>
          <p:nvPr/>
        </p:nvPicPr>
        <p:blipFill>
          <a:blip r:embed="rId2"/>
          <a:stretch/>
        </p:blipFill>
        <p:spPr>
          <a:xfrm>
            <a:off x="500040" y="2643120"/>
            <a:ext cx="4357800" cy="3629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Documents and Settings\Admin\Мои документы\10s00043i.bmp"/>
          <p:cNvPicPr/>
          <p:nvPr/>
        </p:nvPicPr>
        <p:blipFill>
          <a:blip r:embed="rId3"/>
          <a:stretch/>
        </p:blipFill>
        <p:spPr>
          <a:xfrm>
            <a:off x="5214960" y="242892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онстантин Эдуардович Циолковск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6" descr="Tsiolkovsky.jpg"/>
          <p:cNvPicPr/>
          <p:nvPr/>
        </p:nvPicPr>
        <p:blipFill>
          <a:blip r:embed="rId1"/>
          <a:stretch/>
        </p:blipFill>
        <p:spPr>
          <a:xfrm>
            <a:off x="214200" y="1714680"/>
            <a:ext cx="3071880" cy="4000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3357360" y="999720"/>
            <a:ext cx="540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17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09.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1857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— 19.09.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1935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алуг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) — русский и советский учёный-самоучка, исследователь, школьный учитель. Основоположник современной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смонавтик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Обосновал вывод уравнения реактивного движения, пришёл к выводу о необходимости использования «ракетных поездов» — прототипов многоступенчатых ракет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втор работ по аэродинамике, воздухоплаванию и другим.. Автор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учно-фантастических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произведений, сторонник и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ропагандис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идей освоения космического пространства. Циолковский предлагал заселить космическое пространство с использованием орбитальных станций, выдвинул идеи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смического лиф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оездов на воздушной подушке. Считал, что развитие жизни на одной из планет Вселенной достигнет такого могущества и совершенства, что это позволит преодолевать силы тяготения и распространять жизнь по Вселенно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Генеральный конструктор космических корабле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4" descr="королев-конструктор.jpg"/>
          <p:cNvPicPr/>
          <p:nvPr/>
        </p:nvPicPr>
        <p:blipFill>
          <a:blip r:embed="rId1"/>
          <a:stretch/>
        </p:blipFill>
        <p:spPr>
          <a:xfrm>
            <a:off x="500040" y="2143080"/>
            <a:ext cx="2857680" cy="4311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4142880" y="1357200"/>
            <a:ext cx="4543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оролёв Сергей Павлович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12.01.1907 – 14.01.1966) — главный конструктор первых ракет-носителей, искусственных спутников Земли, пилотируемых космических кораблей, основоположник практической космонавтики, академик АН СССР, Герой Социалистического Труда, лауреат Ленинской преми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режде чем человек полетел, в космос запускали спутники. Первый искусственный спутник Земли –  4 октября 1957 год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6" descr="ad97166cd5332b557831de87793.jpg"/>
          <p:cNvPicPr/>
          <p:nvPr/>
        </p:nvPicPr>
        <p:blipFill>
          <a:blip r:embed="rId1"/>
          <a:stretch/>
        </p:blipFill>
        <p:spPr>
          <a:xfrm>
            <a:off x="4786200" y="3214800"/>
            <a:ext cx="4038840" cy="314316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4" descr="_571.jpg"/>
          <p:cNvPicPr/>
          <p:nvPr/>
        </p:nvPicPr>
        <p:blipFill>
          <a:blip r:embed="rId2"/>
          <a:stretch/>
        </p:blipFill>
        <p:spPr>
          <a:xfrm>
            <a:off x="285840" y="3143160"/>
            <a:ext cx="40384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347760" y="480960"/>
            <a:ext cx="8472240" cy="26701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E:\Документы сканера\Копия (2) 136.jpg"/>
          <p:cNvPicPr/>
          <p:nvPr/>
        </p:nvPicPr>
        <p:blipFill>
          <a:blip r:embed="rId2"/>
          <a:stretch/>
        </p:blipFill>
        <p:spPr>
          <a:xfrm>
            <a:off x="1214280" y="3000240"/>
            <a:ext cx="6572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отом были и другие собаки. Белка и Стрелка – космические путешественницы (полет в космос в августе 1960 года, на борту вместе с ними находились мыши, насекомые, семена)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4" descr="0008dcp2.jpg"/>
          <p:cNvPicPr/>
          <p:nvPr/>
        </p:nvPicPr>
        <p:blipFill>
          <a:blip r:embed="rId1"/>
          <a:stretch/>
        </p:blipFill>
        <p:spPr>
          <a:xfrm>
            <a:off x="428760" y="3571920"/>
            <a:ext cx="4038480" cy="207180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5" descr="0009a0t4.jpg"/>
          <p:cNvPicPr/>
          <p:nvPr/>
        </p:nvPicPr>
        <p:blipFill>
          <a:blip r:embed="rId2"/>
          <a:stretch/>
        </p:blipFill>
        <p:spPr>
          <a:xfrm>
            <a:off x="4786200" y="3071880"/>
            <a:ext cx="4038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Admin\Мои документы\pg_004.bmp"/>
          <p:cNvPicPr/>
          <p:nvPr/>
        </p:nvPicPr>
        <p:blipFill>
          <a:blip r:embed="rId2"/>
          <a:stretch/>
        </p:blipFill>
        <p:spPr>
          <a:xfrm>
            <a:off x="428760" y="2500200"/>
            <a:ext cx="2714400" cy="31435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3357720" y="2214720"/>
            <a:ext cx="55004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АГАРИН Юрий Алексеевич (9 марта 1934, село Клушино, Гжатский район, Смоленская область — 27 марта 1968, близ деревни Новоселово, Киржачский район, Владимирская область) — советский космонавт, военный летчик, Советского Союза (1961), летчик-космонавт СССР (1961), полковник; первый человек, совершивший полет в космос. Юрий Гагарин родился в крестьянской семье. После окончания ремесленного училища по специальности формовщика-литейщика в городе Люберцы под Москвой и школы рабочей молодежи (1951), он был направлен на учебу в Саратовский индустриальный техникум. Во время учебы в техникуме Юрий Гагарин начал также заниматься в Саратовском аэроклубе. В 1955 году он успешно завершил обучение в Саратовском индустриальном техникуме и, пройдя курс аэроклуба, поступил в Первое Чкаловское военное авиационное училище летчиков. В 1957 году Ю.А. Гагарин окончил училище по первому разряду и служил в частях истребительной авиации Северного фл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19:42Z</dcterms:created>
  <dc:creator>Admin</dc:creator>
  <dc:description/>
  <dc:language>en-US</dc:language>
  <cp:lastModifiedBy>Admin</cp:lastModifiedBy>
  <dcterms:modified xsi:type="dcterms:W3CDTF">2013-03-18T17:10:39Z</dcterms:modified>
  <cp:revision>31</cp:revision>
  <dc:subject/>
  <dc:title>12 апреля – человек в космосе.</dc:title>
</cp:coreProperties>
</file>