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jpeg" ContentType="image/jpeg"/>
  <Override PartName="/ppt/media/image24.png" ContentType="image/png"/>
  <Override PartName="/ppt/media/image23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9.png" ContentType="image/png"/>
  <Override PartName="/ppt/media/image41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12.png" ContentType="image/png"/>
  <Override PartName="/ppt/media/image13.png" ContentType="image/png"/>
  <Override PartName="/ppt/media/image34.jpeg" ContentType="image/jpeg"/>
  <Override PartName="/ppt/media/image37.png" ContentType="image/png"/>
  <Override PartName="/ppt/media/image44.png" ContentType="image/png"/>
  <Override PartName="/ppt/media/image40.jpeg" ContentType="image/jpeg"/>
  <Override PartName="/ppt/media/image30.jpeg" ContentType="image/jpeg"/>
  <Override PartName="/ppt/media/image43.png" ContentType="image/png"/>
  <Override PartName="/ppt/media/image45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5.png" ContentType="image/png"/>
  <Override PartName="/ppt/media/image42.jpeg" ContentType="image/jpeg"/>
  <Override PartName="/ppt/media/image3.png" ContentType="image/png"/>
  <Override PartName="/ppt/media/image17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1.jpeg" ContentType="image/jpeg"/>
  <Override PartName="/ppt/media/image10.png" ContentType="image/png"/>
  <Override PartName="/ppt/media/image3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132D-0953-4A69-9F8A-E5996F23A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0C22-797E-4308-B45B-B6CEBAF3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0B51-3AB6-4EBC-AD69-78614DA83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3655-1F54-41E6-B4CA-E95403867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8F9F-C3A5-41D5-94FB-4CCAB969E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8D38-465E-4E0C-A460-2345C45D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746A-29B4-4991-BCF5-83134989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9E67-87BD-4441-A614-751759D8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6F26-60AB-4F51-9F9D-D8BD78E4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AB90-6710-42B5-9B28-DF0D8A53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CF38-0771-4B08-952C-EB9CF61C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AA22-2FE0-4297-8600-F05325C9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78A8-476B-4274-AEBC-C2BA40EC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1D84-83B6-4394-9A6B-7D31A5CD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60A0-7EDD-48B9-A612-05BBFA12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BAF0-22A0-40EB-8578-47F5F947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2A3D-BD79-462A-AE2B-B6C43264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3D93D-B993-4063-8490-E34BEAE05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53540-4490-4414-88AE-5BBB89C5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8ECEA-32CF-4FD5-994F-41B51DFD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806CC-F2F3-47DC-BC55-079508FD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77325-9EC9-49B3-A747-F32553E3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FE64-3956-4C6B-BA4A-27A86E32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08CB7-F01A-4671-972C-A68F3214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9E743-6FE8-46B5-AAAA-ACDBDA15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269B3-33C9-4EA8-9FBA-264D41C0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45C7C-5788-4C76-BA6D-75F8943C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672EC-166A-4D33-B50A-08F5F29D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4DFA4-F6D2-4F37-B7F6-285A056C3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0F8C9-6022-4AEF-8F2E-01B64124A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848AB-E716-43C8-9392-6C43C6C3A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F223E-176E-40F7-B273-432D9A88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52A45-B141-426F-AF32-2CA1374D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8432-8795-4BC7-BB00-323F7DD8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A3D51-13CE-42BA-A895-7F1D06EC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5F112-E60F-464F-B490-2081517F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61092-E5B1-429C-80FA-5702C06E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896F9-10EE-4A55-A48B-C1FB3BBC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31906-8F84-49B3-AB41-0F8D83E9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8ACBB-2605-4A2A-BFCE-5CB3DE01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29651-2DA3-4992-BFE1-EB771740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A0924-6B67-404C-9F02-6ADA3F0CB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D835C-A280-4156-B1C1-12DA2CA05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85C3-E4AB-4180-BE1C-3D46430D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FFB0-86BD-409C-9C46-E3FB510E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8B9B-ED71-47B4-B2C3-45653404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22B6-6AB0-4124-A7A2-F8251065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CF33-1190-4FA0-A5D6-413A2998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0B6F-7A28-4E6F-B01A-F08DE4580EE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DFB5-7967-4BAD-A59C-A287E7D2ED9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4256-ED86-49CB-886B-924FA397257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8D7C-068E-4C0D-BE6C-A7BB9805908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7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3" descr=""/>
          <p:cNvPicPr/>
          <p:nvPr/>
        </p:nvPicPr>
        <p:blipFill>
          <a:blip r:embed="rId1"/>
          <a:stretch/>
        </p:blipFill>
        <p:spPr>
          <a:xfrm>
            <a:off x="109440" y="701640"/>
            <a:ext cx="8736120" cy="115092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оугольник 5"/>
          <p:cNvSpPr/>
          <p:nvPr/>
        </p:nvSpPr>
        <p:spPr>
          <a:xfrm>
            <a:off x="4929120" y="2214720"/>
            <a:ext cx="3714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тарт космического корабля «Восток-1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2 апреля 196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Рисунок 7" descr="C:\Documents and Settings\1\Рабочий стол\космонавты\511_76b.jpg"/>
          <p:cNvPicPr/>
          <p:nvPr/>
        </p:nvPicPr>
        <p:blipFill>
          <a:blip r:embed="rId2"/>
          <a:stretch/>
        </p:blipFill>
        <p:spPr>
          <a:xfrm>
            <a:off x="500040" y="2571840"/>
            <a:ext cx="34923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347760" y="-139680"/>
            <a:ext cx="8521560" cy="19922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2" descr="C:\Documents and Settings\1\Рабочий стол\космонавты\511_76b.jpg"/>
          <p:cNvPicPr/>
          <p:nvPr/>
        </p:nvPicPr>
        <p:blipFill>
          <a:blip r:embed="rId2"/>
          <a:stretch/>
        </p:blipFill>
        <p:spPr>
          <a:xfrm>
            <a:off x="500040" y="2571840"/>
            <a:ext cx="3492360" cy="3357360"/>
          </a:xfrm>
          <a:prstGeom prst="rect">
            <a:avLst/>
          </a:prstGeom>
          <a:ln w="0">
            <a:noFill/>
          </a:ln>
        </p:spPr>
      </p:pic>
      <p:pic>
        <p:nvPicPr>
          <p:cNvPr id="224" name="Содержимое 5" descr="797.jpg"/>
          <p:cNvPicPr/>
          <p:nvPr/>
        </p:nvPicPr>
        <p:blipFill>
          <a:blip r:embed="rId3"/>
          <a:stretch/>
        </p:blipFill>
        <p:spPr>
          <a:xfrm>
            <a:off x="4857840" y="2214720"/>
            <a:ext cx="3047760" cy="41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347760" y="549360"/>
            <a:ext cx="8521560" cy="2028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C:\Documents and Settings\Admin\Мои документы\S002995i.bmp"/>
          <p:cNvPicPr/>
          <p:nvPr/>
        </p:nvPicPr>
        <p:blipFill>
          <a:blip r:embed="rId2"/>
          <a:stretch/>
        </p:blipFill>
        <p:spPr>
          <a:xfrm>
            <a:off x="857160" y="2500200"/>
            <a:ext cx="3000600" cy="3643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C:\Documents and Settings\Admin\Мои документы\S002996i.bmp"/>
          <p:cNvPicPr/>
          <p:nvPr/>
        </p:nvPicPr>
        <p:blipFill>
          <a:blip r:embed="rId3"/>
          <a:stretch/>
        </p:blipFill>
        <p:spPr>
          <a:xfrm>
            <a:off x="5286240" y="2357280"/>
            <a:ext cx="31435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Первая женщина-космонавт </a:t>
            </a:r>
            <a:br>
              <a:rPr sz="3200"/>
            </a:b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Валентина Терешкова   («Восток-3» </a:t>
            </a:r>
            <a:br>
              <a:rPr sz="3200"/>
            </a:b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16 июня 1963г.)  и Юрий Гагарин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Содержимое 4" descr="терешкова.jpeg"/>
          <p:cNvPicPr/>
          <p:nvPr/>
        </p:nvPicPr>
        <p:blipFill>
          <a:blip r:embed="rId1"/>
          <a:stretch/>
        </p:blipFill>
        <p:spPr>
          <a:xfrm>
            <a:off x="928800" y="1928880"/>
            <a:ext cx="3170160" cy="4525920"/>
          </a:xfrm>
          <a:prstGeom prst="rect">
            <a:avLst/>
          </a:prstGeom>
          <a:ln w="0">
            <a:noFill/>
          </a:ln>
        </p:spPr>
      </p:pic>
      <p:pic>
        <p:nvPicPr>
          <p:cNvPr id="230" name="Содержимое 7" descr="naj.jpg"/>
          <p:cNvPicPr/>
          <p:nvPr/>
        </p:nvPicPr>
        <p:blipFill>
          <a:blip r:embed="rId2"/>
          <a:stretch/>
        </p:blipFill>
        <p:spPr>
          <a:xfrm>
            <a:off x="4786200" y="2000160"/>
            <a:ext cx="34290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571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Первый человек в открытом космосе-</a:t>
            </a:r>
            <a:br>
              <a:rPr sz="2200"/>
            </a:b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Алексей Леонов ( март 1965 г. «Восход-2»). Выход космонавта А. А. Леонова в космос (1965). Леонов удалился от корабля на 5 м и пробыл в космосе 12 минут. Вновь Леонов полетит в космос через десять лет в 1975 году.</a:t>
            </a:r>
            <a:br>
              <a:rPr sz="3200"/>
            </a:b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2" name="Содержимое 5" descr="космонавт в открытом.jpg"/>
          <p:cNvPicPr/>
          <p:nvPr/>
        </p:nvPicPr>
        <p:blipFill>
          <a:blip r:embed="rId1"/>
          <a:stretch/>
        </p:blipFill>
        <p:spPr>
          <a:xfrm>
            <a:off x="4714920" y="2071800"/>
            <a:ext cx="3575160" cy="4525920"/>
          </a:xfrm>
          <a:prstGeom prst="rect">
            <a:avLst/>
          </a:prstGeom>
          <a:ln w="0">
            <a:noFill/>
          </a:ln>
        </p:spPr>
      </p:pic>
      <p:pic>
        <p:nvPicPr>
          <p:cNvPr id="233" name="Содержимое 7" descr="img.jpg"/>
          <p:cNvPicPr/>
          <p:nvPr/>
        </p:nvPicPr>
        <p:blipFill>
          <a:blip r:embed="rId2"/>
          <a:stretch/>
        </p:blipFill>
        <p:spPr>
          <a:xfrm>
            <a:off x="857160" y="2071800"/>
            <a:ext cx="3205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229600" cy="3214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4617b"/>
                </a:solidFill>
                <a:latin typeface="Calibri"/>
              </a:rPr>
              <a:t>ЛУНОХОД (Лунный самоходный аппарат), автоматическое или управляемое устройство для работы и передвижения по поверхности Луны. Первый автоматический лунный самоходный аппарат, управляемый с Земли, — советский «Луноход-1» (1970). В 1970-75 запущено 2 советских лунных самоходных аппарата. Максимальная масса 840 кг, максимальное пройденное расстояние 37 км, время работы ок. 1 года.</a:t>
            </a:r>
            <a:br>
              <a:rPr sz="1400"/>
            </a:br>
            <a:r>
              <a:rPr b="0" lang="ru-RU" sz="1400" spc="-1" strike="noStrike">
                <a:solidFill>
                  <a:srgbClr val="04617b"/>
                </a:solidFill>
                <a:latin typeface="Calibri"/>
              </a:rPr>
              <a:t>Первый управляемый лунный самоходный аппарат — американский луноход «Ровер» (1971). В 1971-72 на Луну доставлены космическими кораблями «Аполлон-15, -16 и -17», 3 лунохода «Ровер» для передвижения астронавтов. Максимальная масса (с двумя астронавтами и грузом) 725 кг, максимальное пройденное расстояние ок. 36 км.</a:t>
            </a:r>
            <a:br>
              <a:rPr sz="3200"/>
            </a:br>
            <a:br>
              <a:rPr sz="3200"/>
            </a:b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Содержимое 4" descr="p2visual.jpg"/>
          <p:cNvPicPr/>
          <p:nvPr/>
        </p:nvPicPr>
        <p:blipFill>
          <a:blip r:embed="rId1"/>
          <a:stretch/>
        </p:blipFill>
        <p:spPr>
          <a:xfrm>
            <a:off x="500040" y="3071880"/>
            <a:ext cx="4038480" cy="3230640"/>
          </a:xfrm>
          <a:prstGeom prst="rect">
            <a:avLst/>
          </a:prstGeom>
          <a:ln w="0">
            <a:noFill/>
          </a:ln>
        </p:spPr>
      </p:pic>
      <p:pic>
        <p:nvPicPr>
          <p:cNvPr id="236" name="Содержимое 5" descr="cdad0b2fe11cc758a4f5581a0f50ff35.jpg"/>
          <p:cNvPicPr/>
          <p:nvPr/>
        </p:nvPicPr>
        <p:blipFill>
          <a:blip r:embed="rId2"/>
          <a:stretch/>
        </p:blipFill>
        <p:spPr>
          <a:xfrm>
            <a:off x="5000760" y="3071880"/>
            <a:ext cx="39002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347760" y="420840"/>
            <a:ext cx="8424720" cy="2444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C:\Documents and Settings\Admin\Мои документы\10s00023i.bmp"/>
          <p:cNvPicPr/>
          <p:nvPr/>
        </p:nvPicPr>
        <p:blipFill>
          <a:blip r:embed="rId2"/>
          <a:stretch/>
        </p:blipFill>
        <p:spPr>
          <a:xfrm>
            <a:off x="285840" y="2786040"/>
            <a:ext cx="3571920" cy="36417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C:\Documents and Settings\Admin\Мои документы\kur8nov181i.bmp"/>
          <p:cNvPicPr/>
          <p:nvPr/>
        </p:nvPicPr>
        <p:blipFill>
          <a:blip r:embed="rId3"/>
          <a:stretch/>
        </p:blipFill>
        <p:spPr>
          <a:xfrm>
            <a:off x="4572000" y="2714760"/>
            <a:ext cx="407196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Космические корабли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и летательные аппарат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1" name="Содержимое 6" descr="космический корабль.jpg"/>
          <p:cNvPicPr/>
          <p:nvPr/>
        </p:nvPicPr>
        <p:blipFill>
          <a:blip r:embed="rId1"/>
          <a:stretch/>
        </p:blipFill>
        <p:spPr>
          <a:xfrm>
            <a:off x="428760" y="1428840"/>
            <a:ext cx="4038480" cy="2500200"/>
          </a:xfrm>
          <a:prstGeom prst="rect">
            <a:avLst/>
          </a:prstGeom>
          <a:ln w="0">
            <a:noFill/>
          </a:ln>
        </p:spPr>
      </p:pic>
      <p:pic>
        <p:nvPicPr>
          <p:cNvPr id="242" name="Содержимое 4" descr="16606.jpg"/>
          <p:cNvPicPr/>
          <p:nvPr/>
        </p:nvPicPr>
        <p:blipFill>
          <a:blip r:embed="rId2"/>
          <a:stretch/>
        </p:blipFill>
        <p:spPr>
          <a:xfrm>
            <a:off x="4572000" y="1428840"/>
            <a:ext cx="4038480" cy="250020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7" descr="1206052967_webimg_image4_full.jpg"/>
          <p:cNvPicPr/>
          <p:nvPr/>
        </p:nvPicPr>
        <p:blipFill>
          <a:blip r:embed="rId3"/>
          <a:stretch/>
        </p:blipFill>
        <p:spPr>
          <a:xfrm>
            <a:off x="357120" y="4000680"/>
            <a:ext cx="4143600" cy="247932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8" descr="Space Fiction Mars Mission - 1024x768.jpg"/>
          <p:cNvPicPr/>
          <p:nvPr/>
        </p:nvPicPr>
        <p:blipFill>
          <a:blip r:embed="rId4"/>
          <a:stretch/>
        </p:blipFill>
        <p:spPr>
          <a:xfrm>
            <a:off x="4572000" y="4000680"/>
            <a:ext cx="428616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36360" y="701640"/>
            <a:ext cx="8736120" cy="1150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Admin\Мои документы\k_596i.bmp"/>
          <p:cNvPicPr/>
          <p:nvPr/>
        </p:nvPicPr>
        <p:blipFill>
          <a:blip r:embed="rId2"/>
          <a:stretch/>
        </p:blipFill>
        <p:spPr>
          <a:xfrm>
            <a:off x="4643280" y="2428920"/>
            <a:ext cx="4143600" cy="37148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C:\Documents and Settings\Admin\Мои документы\k_595i.bmp"/>
          <p:cNvPicPr/>
          <p:nvPr/>
        </p:nvPicPr>
        <p:blipFill>
          <a:blip r:embed="rId3"/>
          <a:stretch/>
        </p:blipFill>
        <p:spPr>
          <a:xfrm>
            <a:off x="500040" y="2428920"/>
            <a:ext cx="35006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1"/>
          <a:stretch/>
        </p:blipFill>
        <p:spPr>
          <a:xfrm>
            <a:off x="268200" y="701640"/>
            <a:ext cx="8504280" cy="1150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C:\Documents and Settings\Admin\Мои документы\sh01050i.bmp"/>
          <p:cNvPicPr/>
          <p:nvPr/>
        </p:nvPicPr>
        <p:blipFill>
          <a:blip r:embed="rId2"/>
          <a:stretch/>
        </p:blipFill>
        <p:spPr>
          <a:xfrm>
            <a:off x="357120" y="2500200"/>
            <a:ext cx="2643120" cy="28180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C:\Documents and Settings\Admin\Мои документы\z01040i.bmp"/>
          <p:cNvPicPr/>
          <p:nvPr/>
        </p:nvPicPr>
        <p:blipFill>
          <a:blip r:embed="rId3"/>
          <a:stretch/>
        </p:blipFill>
        <p:spPr>
          <a:xfrm>
            <a:off x="6572160" y="2500200"/>
            <a:ext cx="2286000" cy="28576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C:\Documents and Settings\Admin\Мои документы\g_019i.bmp"/>
          <p:cNvPicPr/>
          <p:nvPr/>
        </p:nvPicPr>
        <p:blipFill>
          <a:blip r:embed="rId4"/>
          <a:stretch/>
        </p:blipFill>
        <p:spPr>
          <a:xfrm>
            <a:off x="3643200" y="2500200"/>
            <a:ext cx="235764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347760" y="512640"/>
            <a:ext cx="8424720" cy="1339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C:\Documents and Settings\Admin\Мои документы\t_014i.bmp"/>
          <p:cNvPicPr/>
          <p:nvPr/>
        </p:nvPicPr>
        <p:blipFill>
          <a:blip r:embed="rId2"/>
          <a:stretch/>
        </p:blipFill>
        <p:spPr>
          <a:xfrm>
            <a:off x="500040" y="2643120"/>
            <a:ext cx="4357800" cy="36291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C:\Documents and Settings\Admin\Мои документы\10s00043i.bmp"/>
          <p:cNvPicPr/>
          <p:nvPr/>
        </p:nvPicPr>
        <p:blipFill>
          <a:blip r:embed="rId3"/>
          <a:stretch/>
        </p:blipFill>
        <p:spPr>
          <a:xfrm>
            <a:off x="5214960" y="2428920"/>
            <a:ext cx="35719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Константин Эдуардович Циолковский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Содержимое 6" descr="Tsiolkovsky.jpg"/>
          <p:cNvPicPr/>
          <p:nvPr/>
        </p:nvPicPr>
        <p:blipFill>
          <a:blip r:embed="rId1"/>
          <a:stretch/>
        </p:blipFill>
        <p:spPr>
          <a:xfrm>
            <a:off x="214200" y="1714680"/>
            <a:ext cx="3071880" cy="40003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3357360" y="999720"/>
            <a:ext cx="54003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17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09.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1857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— 19.09.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1935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Калуг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) — русский и советский учёный-самоучка, исследователь, школьный учитель. Основоположник современной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космонавтик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Обосновал вывод уравнения реактивного движения, пришёл к выводу о необходимости использования «ракетных поездов» — прототипов многоступенчатых ракет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втор работ по аэродинамике, воздухоплаванию и другим.. Автор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научно-фантастических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произведений, сторонник и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пропагандист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идей освоения космического пространства. Циолковский предлагал заселить космическое пространство с использованием орбитальных станций, выдвинул идеи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космического лифт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поездов на воздушной подушке. Считал, что развитие жизни на одной из планет Вселенной достигнет такого могущества и совершенства, что это позволит преодолевать силы тяготения и распространять жизнь по Вселенно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Генеральный конструктор космических кораблей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Содержимое 4" descr="королев-конструктор.jpg"/>
          <p:cNvPicPr/>
          <p:nvPr/>
        </p:nvPicPr>
        <p:blipFill>
          <a:blip r:embed="rId1"/>
          <a:stretch/>
        </p:blipFill>
        <p:spPr>
          <a:xfrm>
            <a:off x="500040" y="2143080"/>
            <a:ext cx="2857680" cy="43117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4142880" y="1357200"/>
            <a:ext cx="45435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Королёв Сергей Павлович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12.01.1907 – 14.01.1966) — главный конструктор первых ракет-носителей, искусственных спутников Земли, пилотируемых космических кораблей, основоположник практической космонавтики, академик АН СССР, Герой Социалистического Труда, лауреат Ленинской премии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Прежде чем человек полетел, в космос запускали спутники. Первый искусственный спутник Земли –  4 октября 1957 года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Содержимое 6" descr="ad97166cd5332b557831de87793.jpg"/>
          <p:cNvPicPr/>
          <p:nvPr/>
        </p:nvPicPr>
        <p:blipFill>
          <a:blip r:embed="rId1"/>
          <a:stretch/>
        </p:blipFill>
        <p:spPr>
          <a:xfrm>
            <a:off x="4786200" y="3214800"/>
            <a:ext cx="4038840" cy="3143160"/>
          </a:xfrm>
          <a:prstGeom prst="rect">
            <a:avLst/>
          </a:prstGeom>
          <a:ln w="0">
            <a:noFill/>
          </a:ln>
        </p:spPr>
      </p:pic>
      <p:pic>
        <p:nvPicPr>
          <p:cNvPr id="213" name="Содержимое 4" descr="_571.jpg"/>
          <p:cNvPicPr/>
          <p:nvPr/>
        </p:nvPicPr>
        <p:blipFill>
          <a:blip r:embed="rId2"/>
          <a:stretch/>
        </p:blipFill>
        <p:spPr>
          <a:xfrm>
            <a:off x="285840" y="3143160"/>
            <a:ext cx="403848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347760" y="480960"/>
            <a:ext cx="8472240" cy="267012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2" descr="E:\Документы сканера\Копия (2) 136.jpg"/>
          <p:cNvPicPr/>
          <p:nvPr/>
        </p:nvPicPr>
        <p:blipFill>
          <a:blip r:embed="rId2"/>
          <a:stretch/>
        </p:blipFill>
        <p:spPr>
          <a:xfrm>
            <a:off x="1214280" y="3000240"/>
            <a:ext cx="657252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Потом были и другие собаки. Белка и Стрелка – космические путешественницы (полет в космос в августе 1960 года, на борту вместе с ними находились мыши, насекомые, семена)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Содержимое 4" descr="0008dcp2.jpg"/>
          <p:cNvPicPr/>
          <p:nvPr/>
        </p:nvPicPr>
        <p:blipFill>
          <a:blip r:embed="rId1"/>
          <a:stretch/>
        </p:blipFill>
        <p:spPr>
          <a:xfrm>
            <a:off x="428760" y="3571920"/>
            <a:ext cx="4038480" cy="2071800"/>
          </a:xfrm>
          <a:prstGeom prst="rect">
            <a:avLst/>
          </a:prstGeom>
          <a:ln w="0">
            <a:noFill/>
          </a:ln>
        </p:spPr>
      </p:pic>
      <p:pic>
        <p:nvPicPr>
          <p:cNvPr id="218" name="Содержимое 5" descr="0009a0t4.jpg"/>
          <p:cNvPicPr/>
          <p:nvPr/>
        </p:nvPicPr>
        <p:blipFill>
          <a:blip r:embed="rId2"/>
          <a:stretch/>
        </p:blipFill>
        <p:spPr>
          <a:xfrm>
            <a:off x="4786200" y="3071880"/>
            <a:ext cx="403884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C:\Documents and Settings\Admin\Мои документы\pg_004.bmp"/>
          <p:cNvPicPr/>
          <p:nvPr/>
        </p:nvPicPr>
        <p:blipFill>
          <a:blip r:embed="rId2"/>
          <a:stretch/>
        </p:blipFill>
        <p:spPr>
          <a:xfrm>
            <a:off x="428760" y="2500200"/>
            <a:ext cx="2714400" cy="314352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3"/>
          <p:cNvSpPr/>
          <p:nvPr/>
        </p:nvSpPr>
        <p:spPr>
          <a:xfrm>
            <a:off x="3357720" y="2214720"/>
            <a:ext cx="55004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ГАГАРИН Юрий Алексеевич (9 марта 1934, село Клушино, Гжатский район, Смоленская область — 27 марта 1968, близ деревни Новоселово, Киржачский район, Владимирская область) — советский космонавт, военный летчик, Советского Союза (1961), летчик-космонавт СССР (1961), полковник; первый человек, совершивший полет в космос. Юрий Гагарин родился в крестьянской семье. После окончания ремесленного училища по специальности формовщика-литейщика в городе Люберцы под Москвой и школы рабочей молодежи (1951), он был направлен на учебу в Саратовский индустриальный техникум. Во время учебы в техникуме Юрий Гагарин начал также заниматься в Саратовском аэроклубе. В 1955 году он успешно завершил обучение в Саратовском индустриальном техникуме и, пройдя курс аэроклуба, поступил в Первое Чкаловское военное авиационное училище летчиков. В 1957 году Ю.А. Гагарин окончил училище по первому разряду и служил в частях истребительной авиации Северного фло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1T13:19:42Z</dcterms:created>
  <dc:creator>Admin</dc:creator>
  <dc:description/>
  <dc:language>en-US</dc:language>
  <cp:lastModifiedBy>Admin</cp:lastModifiedBy>
  <dcterms:modified xsi:type="dcterms:W3CDTF">2013-03-18T17:10:39Z</dcterms:modified>
  <cp:revision>31</cp:revision>
  <dc:subject/>
  <dc:title>12 апреля – человек в космосе.</dc:title>
</cp:coreProperties>
</file>