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7797800" cy="10706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B9E0-5C7C-4AFA-AD74-32B554F2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DAA-4D69-4913-98D2-5EDE41B5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7F7-74A0-49A5-B7FA-679C956A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264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3468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60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264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3468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0BF-2B37-4CC7-9643-7E5DC317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0B01-9D27-44BF-AE31-E4231995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058-2DF1-4EF4-A339-B7938BD5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5A8-2651-4D4B-BD41-33117646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0AF-9437-47E5-A632-18A2346A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600" y="428760"/>
            <a:ext cx="7014960" cy="82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8AF-E2AC-4665-BEF7-C4B8ECE1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B8E-F0B3-456C-B827-693100A3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FEF-D4AD-46A5-8485-AE32857D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2FA-BF18-4CA3-B83B-29F76D4A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024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3640" y="9748800"/>
            <a:ext cx="2468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8756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33F4-11DB-4725-9B6B-BC098A248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8240" cy="10701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96160" cy="10707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5000" cy="10698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91480" cy="10704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picture"/>
          <p:cNvPicPr/>
          <p:nvPr/>
        </p:nvPicPr>
        <p:blipFill>
          <a:blip r:embed="rId1"/>
          <a:stretch/>
        </p:blipFill>
        <p:spPr>
          <a:xfrm>
            <a:off x="-12600" y="-25560"/>
            <a:ext cx="7781760" cy="106952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8:51:10Z</dcterms:created>
  <dc:creator>Юзер Админ2</dc:creator>
  <dc:description/>
  <dc:language>en-US</dc:language>
  <cp:lastModifiedBy>виталий</cp:lastModifiedBy>
  <dcterms:modified xsi:type="dcterms:W3CDTF">2013-04-02T08:15:03Z</dcterms:modified>
  <cp:revision>16</cp:revision>
  <dc:subject/>
  <dc:title>Слайд 1</dc:title>
</cp:coreProperties>
</file>