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7797800" cy="107061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CD4-7A6D-4ADF-A953-A12B5C36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1A7C-F23D-4A13-BBE0-2C2BB398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52B-4634-4AF7-9FC8-8910E8CA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264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3468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060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264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3468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615-E584-4172-BB31-CD448433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73F-E107-486A-92A5-A55A8CC9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D6F-92C5-417C-B12C-B0B4C009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01E-D433-467E-B050-5E6CDDBA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A06-3837-4BFC-90C8-A7C8D7D0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0600" y="428760"/>
            <a:ext cx="7014960" cy="82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D36-4FEE-4885-B410-8FB9FB14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4D8-F30C-4D03-96F4-1241AC7D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9CB-F5E1-49E6-9349-05607CC7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1D3-83DA-4C8C-A1E3-8BABDBB8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024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3640" y="9748800"/>
            <a:ext cx="2468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8756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4653-4F6C-4C1E-B894-4A9D2F056C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8240" cy="10701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96160" cy="107078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5000" cy="106981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91480" cy="10704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picture"/>
          <p:cNvPicPr/>
          <p:nvPr/>
        </p:nvPicPr>
        <p:blipFill>
          <a:blip r:embed="rId1"/>
          <a:stretch/>
        </p:blipFill>
        <p:spPr>
          <a:xfrm>
            <a:off x="-12600" y="-25560"/>
            <a:ext cx="7781760" cy="106952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8:51:10Z</dcterms:created>
  <dc:creator>Юзер Админ2</dc:creator>
  <dc:description/>
  <dc:language>en-US</dc:language>
  <cp:lastModifiedBy>виталий</cp:lastModifiedBy>
  <dcterms:modified xsi:type="dcterms:W3CDTF">2013-04-02T08:15:03Z</dcterms:modified>
  <cp:revision>16</cp:revision>
  <dc:subject/>
  <dc:title>Слайд 1</dc:title>
</cp:coreProperties>
</file>