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97800" cy="107061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47B-2E86-4280-B276-53F5CCEB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865-B6AE-4101-B18E-D7282FC3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020-B198-445A-A97C-E3885F26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264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4680" y="249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264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34680" y="6188400"/>
            <a:ext cx="22586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770-653C-4D89-A6BD-F849CA58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749-BFEE-4C53-91F6-FF633D07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570-E1B8-4EA2-84C7-AE50203B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1FE-C55F-429E-B4B6-05F8C5D3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868-5F97-46E8-8370-C2A7228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600" y="428760"/>
            <a:ext cx="7014960" cy="82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EF4-3A1E-4B30-8B33-1DFCD63C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B6C-45E4-483E-A002-4A97AE3A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85560" y="618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8A5-7762-41F2-A182-569A3A8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85560" y="2498400"/>
            <a:ext cx="342324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6188400"/>
            <a:ext cx="7014960" cy="336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D35-DAC7-4E5D-8265-C1CB175D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428760"/>
            <a:ext cx="7014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2498400"/>
            <a:ext cx="7014960" cy="70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024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3640" y="9748800"/>
            <a:ext cx="2468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87560" y="9748800"/>
            <a:ext cx="18176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8CEE-DC12-4A69-B1C9-34F14DD8C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75640" cy="10691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91480" cy="10704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8240" cy="10701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1760" cy="106948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7785000" cy="10698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8:51:10Z</dcterms:created>
  <dc:creator>Юзер Админ2</dc:creator>
  <dc:description/>
  <dc:language>en-US</dc:language>
  <cp:lastModifiedBy>виталий</cp:lastModifiedBy>
  <dcterms:modified xsi:type="dcterms:W3CDTF">2013-04-02T08:54:20Z</dcterms:modified>
  <cp:revision>16</cp:revision>
  <dc:subject/>
  <dc:title>Слайд 1</dc:title>
</cp:coreProperties>
</file>