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454-30D3-4F3A-9062-0C5B50E8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D55-227A-4409-B31B-2F391BF2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D7C-57F5-46FC-8863-BA8EC89E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8FB-814B-4D7E-8CA9-14193DB2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052-C113-4F0D-ABED-E39B5ED0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3BA-3E0A-4456-8DEE-C75B67E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149-3BF4-420D-B676-C3CA8125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469-E758-486E-8913-3109E2AB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6ED-151E-4102-A027-31ED5B44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B07-7C9D-4906-B207-C4D993E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478-C4A5-4495-9688-DFCA3DC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F93-0C57-49F2-A9AC-F1EAD5F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244-A179-4A72-A34E-22C700A73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91480" cy="1070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500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54:20Z</dcterms:modified>
  <cp:revision>16</cp:revision>
  <dc:subject/>
  <dc:title>Слайд 1</dc:title>
</cp:coreProperties>
</file>