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7797800" cy="107061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9A9B-DC44-45A0-9448-089B92EAD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0600" y="2498400"/>
            <a:ext cx="701496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0600" y="6188400"/>
            <a:ext cx="701496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1AEA-E14D-4B12-94D1-3B7413179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0600" y="2498400"/>
            <a:ext cx="34232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85560" y="2498400"/>
            <a:ext cx="34232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0600" y="6188400"/>
            <a:ext cx="34232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85560" y="6188400"/>
            <a:ext cx="34232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F7C9-5D88-4FCD-8395-7FFF4050F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0600" y="2498400"/>
            <a:ext cx="22586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62640" y="2498400"/>
            <a:ext cx="22586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34680" y="2498400"/>
            <a:ext cx="22586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0600" y="6188400"/>
            <a:ext cx="22586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62640" y="6188400"/>
            <a:ext cx="22586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134680" y="6188400"/>
            <a:ext cx="22586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E736-306A-4086-B400-F52305A6F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0600" y="2498400"/>
            <a:ext cx="7014960" cy="70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C6B6-1AE7-4043-9841-BC5463453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0600" y="2498400"/>
            <a:ext cx="7014960" cy="70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8F61-6EAA-4A1A-BFD3-F891631FF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0600" y="2498400"/>
            <a:ext cx="3423240" cy="70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85560" y="2498400"/>
            <a:ext cx="3423240" cy="70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590F-65BC-43DC-A3B4-EE6FDEA7E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8CA3-0E25-43C9-BDFF-A17F888F0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0600" y="428760"/>
            <a:ext cx="7014960" cy="82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0D87-0DFA-4A44-A82F-EFD17628E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0600" y="2498400"/>
            <a:ext cx="34232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85560" y="2498400"/>
            <a:ext cx="3423240" cy="70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0600" y="6188400"/>
            <a:ext cx="34232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D627-C1F9-442E-900E-F2CCDF44C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0600" y="2498400"/>
            <a:ext cx="3423240" cy="70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85560" y="2498400"/>
            <a:ext cx="34232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85560" y="6188400"/>
            <a:ext cx="34232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06F5-E459-48A8-A304-53786A17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0600" y="2498400"/>
            <a:ext cx="34232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85560" y="2498400"/>
            <a:ext cx="34232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0600" y="6188400"/>
            <a:ext cx="701496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A857-C111-4473-9788-0B4F037ED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0600" y="2498400"/>
            <a:ext cx="7014960" cy="70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90240" y="9748800"/>
            <a:ext cx="18176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3640" y="9748800"/>
            <a:ext cx="246852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587560" y="9748800"/>
            <a:ext cx="18176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7E981-6E7F-4081-9FC2-31CD1E84A3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88240" cy="1070136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75640" cy="10691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75640" cy="10691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81760" cy="106981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75640" cy="10691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75640" cy="10691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81760" cy="106948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75640" cy="10691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81760" cy="106948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75640" cy="10691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75640" cy="10691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75640" cy="10691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75640" cy="10691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1T18:51:10Z</dcterms:created>
  <dc:creator>Юзер Админ2</dc:creator>
  <dc:description/>
  <dc:language>en-US</dc:language>
  <cp:lastModifiedBy>виталий</cp:lastModifiedBy>
  <dcterms:modified xsi:type="dcterms:W3CDTF">2013-04-02T08:44:20Z</dcterms:modified>
  <cp:revision>18</cp:revision>
  <dc:subject/>
  <dc:title>Слайд 1</dc:title>
</cp:coreProperties>
</file>