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949-64B3-4BBB-9A67-D611945D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AC2-53E3-4EA7-996C-8A6B01F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28E-7AE9-45FE-B325-A1C00C57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40C-3E7A-4E19-A41D-BDEF3B9D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D83-3733-4DF2-A52C-2EDFFBD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CC8-093D-4BF3-8272-8B409450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F61-6DD5-49AF-8389-055164B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205-D497-4A76-A60D-2DDFD982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40D-4DF4-4507-BA23-885FB262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9BB-59CC-48AE-8FBB-8F1533A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C81-D3D4-4715-87C0-795A7F2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DBD-C855-4A8F-8F72-6D23542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8458-75ED-4AF1-BE5C-FBF221B5C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44:20Z</dcterms:modified>
  <cp:revision>18</cp:revision>
  <dc:subject/>
  <dc:title>Слайд 1</dc:title>
</cp:coreProperties>
</file>