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7797800" cy="107061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2A16-0E93-45EB-8ADD-62DC1781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933-58F7-47AF-936E-F4B03806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DC0D-7033-4475-9F89-253DBEFD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264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3468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060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264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3468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46E-A54A-423E-BF1A-D9F3C5F3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75F-6BD0-470C-B676-35A26DFF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4DB-E0D2-4D07-BD13-095A6C87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8C5-824B-4547-9523-96B91CC9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68B-2F42-49A1-8692-46EC557B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0600" y="428760"/>
            <a:ext cx="7014960" cy="82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700-8608-4179-BCBE-799DEF5F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C776-95CB-4260-8575-B2583ECA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C6D-DBC3-46E0-A905-3C160106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176-F349-4590-B8B0-B2BB5E8E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024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3640" y="9748800"/>
            <a:ext cx="2468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8756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9E65-05C2-461C-9370-B20F4FC6F1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8:51:10Z</dcterms:created>
  <dc:creator>Юзер Админ2</dc:creator>
  <dc:description/>
  <dc:language>en-US</dc:language>
  <cp:lastModifiedBy>виталий</cp:lastModifiedBy>
  <dcterms:modified xsi:type="dcterms:W3CDTF">2013-04-02T08:49:18Z</dcterms:modified>
  <cp:revision>17</cp:revision>
  <dc:subject/>
  <dc:title>Слайд 1</dc:title>
</cp:coreProperties>
</file>