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2D2-B983-4C90-812F-E007CF91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2C7-ACAB-4410-9AF6-8C04F599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C2F-DAB8-42D8-AA05-77EEC4A6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865-E02A-43E0-9E46-2ABD659A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924-CDAE-4205-AE1C-4AB60568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CF5-9426-49A4-BA6C-761130B0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0A9-6BF4-445A-AA6C-C1D00B0B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903-1EBD-4687-AABC-B98457DF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ADE-4944-4D92-8922-D034F57D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DD3-2D12-4482-97DF-538B182A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C8D-C089-44A5-A72A-2D608FA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537-DA88-4075-9BDA-1BC86F85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F9CB-95D8-4275-B05C-177FB8BAF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49:18Z</dcterms:modified>
  <cp:revision>17</cp:revision>
  <dc:subject/>
  <dc:title>Слайд 1</dc:title>
</cp:coreProperties>
</file>