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797800" cy="10706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579-B049-4C7F-B98E-397995F0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223-8B7F-43D7-A18D-CB66EA22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739-A42D-4DFC-9260-17699E29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264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3468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60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264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3468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099-F242-4348-914C-EF4A0F85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FE4-68D1-4C54-B7FF-A8E23C8B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0D0-87E9-4E4A-825A-8B3B193D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204-B23F-47A1-A97A-00702FD0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EF1-8469-4BA4-A6D8-E5A898C5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600" y="428760"/>
            <a:ext cx="7014960" cy="82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192-6CB1-4671-A755-03709E1C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466-03C3-4E4D-912D-7BAF764C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AC1-DC8B-434A-8AC2-65FE3666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005-473A-41A4-B0FD-05350B3C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024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3640" y="9748800"/>
            <a:ext cx="2468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8756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BFA2-1A55-431D-9D38-3C6C71843D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8:51:10Z</dcterms:created>
  <dc:creator>Юзер Админ2</dc:creator>
  <dc:description/>
  <dc:language>en-US</dc:language>
  <cp:lastModifiedBy>виталий</cp:lastModifiedBy>
  <dcterms:modified xsi:type="dcterms:W3CDTF">2013-04-02T08:51:21Z</dcterms:modified>
  <cp:revision>16</cp:revision>
  <dc:subject/>
  <dc:title>Слайд 1</dc:title>
</cp:coreProperties>
</file>