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465-9359-45D5-BBE8-A5CD189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EEF-E8D0-4250-B23A-B582DFD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A89-63E0-41E4-A715-2CA61C5D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803-3C37-46D0-9C98-BB1BD47E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B02-0DEC-4BBD-9445-B1A966C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5E8-0EFA-4398-958E-880DCBE8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0C3-DB3D-49F1-9ABE-DFF9B78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6CC-C41C-43E7-B8C0-4E8548B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F8D-6BDB-4655-8C2D-ECEA0209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184-28A8-458F-A386-6B9428D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9AE-7C39-4937-B869-CA66817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BB1-E9D2-46CD-B655-9D6046F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C91-2C29-4071-9DA7-BB1352529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1:21Z</dcterms:modified>
  <cp:revision>16</cp:revision>
  <dc:subject/>
  <dc:title>Слайд 1</dc:title>
</cp:coreProperties>
</file>