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C1F-6711-4546-A474-D0023980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6D4-DBAF-4F5E-82B7-CAF7C5F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EC0-0BCC-4167-822E-93FAF648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71B-3DD6-479F-98F1-86D5B30F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AAC-7809-4445-9B2B-E03ACADC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50E-C83E-45B4-BA5B-D87F710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9D6-F608-4E5D-86C1-1672B65D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6AC-4F26-4735-8325-D7D86BBD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D8B-F8AD-43FD-BE34-F558D22B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DF7-6064-47E5-AB82-C54EB05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1E9-0AE4-48AE-9FFF-522D5B00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49B-8306-4A5F-84FF-B071F5FE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281-2121-416B-89E0-BC1DC7499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53:54Z</dcterms:modified>
  <cp:revision>17</cp:revision>
  <dc:subject/>
  <dc:title>Слайд 1</dc:title>
</cp:coreProperties>
</file>