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0EF-E921-4D2D-B8AB-4BED6C2C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399-21E4-4C6A-9613-9ADB47A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76F-598E-4BAD-A8F1-9873EC7B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D4F-C077-4F48-8F4E-876F38EE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DAA-B9DF-4027-B387-EE140FB1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95C-136D-42AF-B44F-564CF05B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B82-D77D-4A42-99BC-AA0E0FC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436-B9E9-45D9-B01D-253827B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0B5-586D-4F17-9550-3560DD8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B22-6F9D-4DC3-8277-CBF24AB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1A3-2C7C-4503-8755-8265067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6CB-CCE5-4DB4-B7BA-D510A82D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EE0D-BAEC-475D-AAE0-FAB3B1294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3:54Z</dcterms:modified>
  <cp:revision>17</cp:revision>
  <dc:subject/>
  <dc:title>Слайд 1</dc:title>
</cp:coreProperties>
</file>