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5EB-9DEA-4682-B061-C82968B0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636-8942-4BE9-BB0F-F5C1DE9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797-60C3-491E-A5FD-C25370A7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E54-9D38-4109-B7CC-6E485168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9912-10F8-4C8D-91E1-C8A266A4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D0F7-84E0-460B-9F86-19FB3DD3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0ECC-B381-45E8-98A8-74171B1F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8853-35D4-4F64-98BF-2E13411F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AE10-CFA5-44C0-8CE0-6FE6EB4F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24A6-B48F-41E2-8142-1FAC6530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D5FD-AAF4-4392-BCE9-4B88F305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F66-3636-4DB0-BBF5-3AF0286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697F-8587-4B13-B3AC-4AB7CAE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AF97-4169-4755-A334-E238BE6D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B443-8562-4736-83EC-98B00486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85DF-5810-471A-8024-AE9A379C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0275-491E-4785-B019-3F969FEF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859-7EBB-4DD7-BA17-1DF837CC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083-23F6-4856-99DC-D2E399C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FC1E-A2A7-449E-BADD-994D9D8C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3F0-EB64-4891-8849-3B76CF0D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076-7B3E-4DEF-87ED-DAB3F5E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4C5-B1C8-4C18-8E8D-A0E00368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583-40F1-4E34-8176-8F3995A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D275-C9A5-4F3E-99F8-9D9F3CE51E6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220A-90AD-4323-9136-59A4FCC5DA4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029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тридцать витязей прекрас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редой из вод выходят ясны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 ними … (1) их морс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м … (2) мимохо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еняет грозного цар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м в облаках перед наро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рез леса, через мор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4) несет богатыр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емнице там … (3) тужи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бурый … (5) ей верно служит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791320" y="3048120"/>
            <a:ext cx="3200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ександр Сергеевич 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4" descr="071013144031.jpg"/>
          <p:cNvPicPr/>
          <p:nvPr/>
        </p:nvPicPr>
        <p:blipFill>
          <a:blip r:embed="rId1"/>
          <a:stretch/>
        </p:blipFill>
        <p:spPr>
          <a:xfrm>
            <a:off x="179280" y="404640"/>
            <a:ext cx="4873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6" descr="pushkin_04.jpg"/>
          <p:cNvPicPr/>
          <p:nvPr/>
        </p:nvPicPr>
        <p:blipFill>
          <a:blip r:embed="rId2"/>
          <a:stretch/>
        </p:blipFill>
        <p:spPr>
          <a:xfrm>
            <a:off x="4724280" y="609480"/>
            <a:ext cx="41832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6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6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3962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ленький Саша рано научился читать. Он в детстве в совершенстве изучил французский язык, много читал по-французски, но особая любовь была у мальчика к русской ре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Рисунок 6" descr="pushkin_04.jpg"/>
          <p:cNvPicPr/>
          <p:nvPr/>
        </p:nvPicPr>
        <p:blipFill>
          <a:blip r:embed="rId1"/>
          <a:stretch/>
        </p:blipFill>
        <p:spPr>
          <a:xfrm>
            <a:off x="4724280" y="609480"/>
            <a:ext cx="41832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3581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поэта и няня Арина Родионовна были самыми близкими его сердцу людьми. Талантливая сказительница Арина Родионовна первая познакомила Сашу с русской народной поэзией. Её песни и сказки запомнились ему на вс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886200" y="190440"/>
            <a:ext cx="5000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50496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495680" y="144756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ли годы. Александр Сергеевич стал поэтом. Он написал много стихов о свободе, о любви, о дружбе, о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4800600"/>
            <a:ext cx="4191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Физминут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003-потягушки.MP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67560126fc5f"/>
          <p:cNvPicPr/>
          <p:nvPr/>
        </p:nvPicPr>
        <p:blipFill>
          <a:blip r:embed="rId2"/>
          <a:stretch/>
        </p:blipFill>
        <p:spPr>
          <a:xfrm>
            <a:off x="0" y="0"/>
            <a:ext cx="504684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6661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4151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715000" y="1981080"/>
            <a:ext cx="285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ник А.С. Пушкину в Москве  на Пушкинской площад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Архитектор Опекуш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3:38:31Z</dcterms:created>
  <dc:creator>Татьяна Ивановна</dc:creator>
  <dc:description/>
  <dc:language>en-US</dc:language>
  <cp:lastModifiedBy>Татьяна Ивановна</cp:lastModifiedBy>
  <dcterms:modified xsi:type="dcterms:W3CDTF">2013-04-02T11:2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