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C55-0A66-4840-BCF4-1D667F68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32E-FA14-4C07-97FC-30AB0024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274-C7BB-43F9-B08E-065E4674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A52-A386-407F-B374-37AFE067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6B67-E5B8-47E9-A3B2-4607FBD8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D7FC-9395-456F-9B7F-8EF40AF1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B0DD-E41A-4783-9D69-5312B0DE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FCE8-D256-4A03-8944-B1FD6282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B04F-18F5-48EF-A29B-B1581D11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000E-2411-4C96-BA92-0E408A13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44F8-D08D-4CD1-8DAF-F4734F1E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E75-64D2-43E7-8AD6-1D90E2F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E613-03A8-4E6A-9896-8EF3A8F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3862-6657-4FF3-AF16-D3F7D157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16BF-4856-42F4-AC17-F4436BE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9FB8-2657-4B4E-9775-BD9CFD0F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DA20-5442-4F0A-B599-04CD8188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59B-6CB0-4CB5-A532-F6C6E6EC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735-DC0B-4614-BB69-3158D4F9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3A2-95D0-4E93-8343-83319158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166-A9B9-46D8-AAFF-B583C42D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6C5-1EFA-4E1C-842F-7EF40698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1D7-2129-489C-9087-85C37C9C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0AC-E039-4E7F-B512-0D846ADC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0304-3274-41F1-B0E5-A4CC289F584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D26-DF5E-4F74-A2ED-A767F862F04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029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ридцать витязей прекрас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редой из вод выходят ясны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 ними … (1) их морс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м … (2) мимохо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еняет грозного цар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м в облаках перед наро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рез леса, через мор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4) несет богатыр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темнице там … (3) тужи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бурый … (5) ей верно служит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5720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791320" y="3048120"/>
            <a:ext cx="3200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ександр Сергеевич 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4" descr="071013144031.jpg"/>
          <p:cNvPicPr/>
          <p:nvPr/>
        </p:nvPicPr>
        <p:blipFill>
          <a:blip r:embed="rId1"/>
          <a:stretch/>
        </p:blipFill>
        <p:spPr>
          <a:xfrm>
            <a:off x="179280" y="404640"/>
            <a:ext cx="4873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6" descr="pushkin_04.jpg"/>
          <p:cNvPicPr/>
          <p:nvPr/>
        </p:nvPicPr>
        <p:blipFill>
          <a:blip r:embed="rId2"/>
          <a:stretch/>
        </p:blipFill>
        <p:spPr>
          <a:xfrm>
            <a:off x="4724280" y="609480"/>
            <a:ext cx="41832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6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6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3962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ленький Саша рано научился читать. Он в детстве в совершенстве изучил французский язык, много читал по-французски, но особая любовь была у мальчика к русской ре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Рисунок 6" descr="pushkin_04.jpg"/>
          <p:cNvPicPr/>
          <p:nvPr/>
        </p:nvPicPr>
        <p:blipFill>
          <a:blip r:embed="rId1"/>
          <a:stretch/>
        </p:blipFill>
        <p:spPr>
          <a:xfrm>
            <a:off x="4724280" y="609480"/>
            <a:ext cx="41832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3581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бушка поэта и няня Арина Родионовна были самыми близкими его сердцу людьми. Талантливая сказительница Арина Родионовна первая познакомила Сашу с русской народной поэзией. Её песни и сказки запомнились ему на всю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886200" y="190440"/>
            <a:ext cx="5000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50496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495680" y="144756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ли годы. Александр Сергеевич стал поэтом. Он написал много стихов о свободе, о любви, о дружбе, о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4800600"/>
            <a:ext cx="4191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изминут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003-потягушки.MP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67560126fc5f"/>
          <p:cNvPicPr/>
          <p:nvPr/>
        </p:nvPicPr>
        <p:blipFill>
          <a:blip r:embed="rId2"/>
          <a:stretch/>
        </p:blipFill>
        <p:spPr>
          <a:xfrm>
            <a:off x="0" y="0"/>
            <a:ext cx="50468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66612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4151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715000" y="1981080"/>
            <a:ext cx="285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ник А.С. Пушкину в Москве  на Пушкинской площад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Архитектор Опекуш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3:38:31Z</dcterms:created>
  <dc:creator>Татьяна Ивановна</dc:creator>
  <dc:description/>
  <dc:language>en-US</dc:language>
  <cp:lastModifiedBy>Татьяна Ивановна</cp:lastModifiedBy>
  <dcterms:modified xsi:type="dcterms:W3CDTF">2013-04-02T11:24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