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CF3-1AB7-4025-AB5C-1BD15EF6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D58-B81E-4004-8BF1-68D6DAE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A8E-4B49-4295-BD83-183BD1E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157-C49D-491C-BD10-EB9926F5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1B9-50ED-4F2D-B1FF-BA8DB95D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A962-A129-4BCB-B539-995D7B1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3B3C-5B0B-4B4C-82E9-54D81574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C7D-5D84-424D-93D8-CEAE9CD9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A5D-4DEF-402C-92AF-A3611F5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B23-E1E4-4E9E-9FB0-F8BDD87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C9F-4794-4471-B0C3-8543357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03B-20E2-4438-8E81-6FA08AFE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A000-6688-4FB0-9AA7-D87A05A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83C-FCEB-4FBB-A704-D05392F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553C-75F0-41B4-A7CF-370ABFE9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1AF1-14E5-484B-B221-388AADD5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5B6-67C4-4D6C-87E7-FF22BAD2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3FF-7F6F-4818-BBFD-C925D3D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342-0C40-4F07-96BE-FC03705F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E50-A9A1-4F49-98CB-42854504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DF6-46EB-43F1-9EED-CEF02B6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D10-A33E-4DBC-897D-320B05C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2B4-644D-4B4F-B3A0-6A922D9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600-0675-48F8-8A8E-A495E0E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058-18A2-42C4-857B-5770B4B2AB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61E-6681-4695-9F73-1330847F82A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лгорит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писания э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бор темы предполагае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нализ своих возможносте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равнение всех, предложенных т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огический вывод из продуман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ценка ситу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гнозирование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йти проблему в выбранной т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Если проблема не видна, то ее нужно создать, используя ключевые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ля точности подчеркните выбранные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пытайтесь увидеть логическую цепочку, которая может связать и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ишем первый абза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нем описываем, поставленную проблем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ражаем свое отношение к ней (согласие, несогласие, частичное согласи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жно дать определение ключевого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ишем второй абзац, третий абза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подтвердить проблему примером, фактом или аргумент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скать их нужно в истории, литературе, общественной жизни, в собственном жизненном опы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льзя применять два примера из личной жизни (бытовых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еходим к выводу, итогу, заключен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забудьте вернуться к пробл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ъясните, к каким открытиям вы приш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нужно повторяться, только то, что вас поразило, осени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йдите зацепку, которая удивит проверяющ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6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оверяем рабо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читайте, сколько понятий вы употребили (не менее 15%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смотрите логические переходы между абзац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Если необходимо, перестройте э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читайте слова (200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давайте рабо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6:59:57Z</dcterms:created>
  <dc:creator>User</dc:creator>
  <dc:description/>
  <dc:language>en-US</dc:language>
  <cp:lastModifiedBy>User</cp:lastModifiedBy>
  <dcterms:modified xsi:type="dcterms:W3CDTF">2012-06-20T15:47:09Z</dcterms:modified>
  <cp:revision>3</cp:revision>
  <dc:subject/>
  <dc:title>Алгоритм</dc:title>
</cp:coreProperties>
</file>