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376B-9DDC-4871-A8C5-71315E88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616-7DD8-4A68-A7F0-1F073A31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90B-5F7F-4005-BB11-28139FDE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5D39-DB13-4927-8111-D0210CD8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7EDB-14A8-4B16-9A95-7686DA96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B059-0453-4651-AC76-0EDDA93E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BD5A-B3B2-42D4-8947-4DBE98E1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E559-4329-4747-A0CE-A4FD9529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8867-AB59-40B7-BEAB-C3C03145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8409-D96F-4C05-AE5B-1F5664EA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CDA7-735B-4074-B452-EAB7E39E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32B-D283-43B5-9BDA-FB6D4B36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5397-D2A3-45A3-8E4F-77740A77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D8CD-DE0E-4D79-8B18-A5E3E69E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C9CD-B2C4-42EC-8603-25D9C30A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C1C1-A53D-441D-90F2-24C93461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C73A-4523-47C3-8753-CFF6C1A9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D867-8DAF-49EF-B180-F1EDF48C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6D4-FCF8-477A-BB24-1E2E89DA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7C0-5956-4D67-A4D5-AD8F960F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D60-E63A-47C2-A238-7CA7F7A3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735-8308-43E5-ABA3-BED0ADCA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36BC-F62F-41F9-BF66-CBCA8EC1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944-C437-4BA3-B202-AA925C9E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DC02-DE95-4C7B-9B45-AA9AA931290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D594-72D7-4A13-B9F6-45C98B07611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лгорит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писания эсс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Шаг 1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ыбор темы предполагает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Анализ своих возможносте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равнение всех, предложенных те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Логический вывод из продуманно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ценка ситуац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огнозирование результа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Шаг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йти проблему в выбранной тем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Если проблема не видна, то ее нужно создать, используя ключевые понят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ля точности подчеркните выбранные понят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пытайтесь увидеть логическую цепочку, которая может связать и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Шаг 3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ишем первый абзац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нем описываем, поставленную проблем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ыражаем свое отношение к ней (согласие, несогласие, частичное согласие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ожно дать определение ключевого понят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Шаг 4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ишем второй абзац, третий абзац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ужно подтвердить проблему примером, фактом или аргументо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скать их нужно в истории, литературе, общественной жизни, в собственном жизненном опыт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ельзя применять два примера из личной жизни (бытовых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Шаг 5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реходим к выводу, итогу, заключению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е забудьте вернуться к проблем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бъясните, к каким открытиям вы пришл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е нужно повторяться, только то, что вас поразило, осенил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айдите зацепку, которая удивит проверяюще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Шаг 6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роверяем работ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считайте, сколько понятий вы употребили (не менее 15%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осмотрите логические переходы между абзац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Если необходимо, перестройте эсс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считайте слова (200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давайте работ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6:59:57Z</dcterms:created>
  <dc:creator>User</dc:creator>
  <dc:description/>
  <dc:language>en-US</dc:language>
  <cp:lastModifiedBy>User</cp:lastModifiedBy>
  <dcterms:modified xsi:type="dcterms:W3CDTF">2012-06-20T15:47:09Z</dcterms:modified>
  <cp:revision>3</cp:revision>
  <dc:subject/>
  <dc:title>Алгоритм</dc:title>
</cp:coreProperties>
</file>