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3620-1935-4048-BFEC-6402913E0F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5B6C-8BFE-4642-9EE6-0D9ED8D39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метр - анеро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E39-B95A-4544-8146-13E135BE2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ое АД       Высокое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DCD-D32E-4D5B-8609-89FEAE2EE1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5CB-DDE0-4552-846C-BDD5D484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EE5-7F57-4D70-9340-E3185ADD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4B6-5801-4D0B-B099-13E78AA5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DD9-4564-4D19-B0F4-862F734E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8B2-DD07-4F79-983B-6F1B305A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A6A-5BD9-4F80-92A2-8CB44D3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50E-9F71-436E-8ACB-B945C82B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4F5-BE26-4379-B4AF-747AA512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599-29FF-4823-9E89-2B79520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ECC-445B-429B-90EB-D2A91DC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FBA-C287-4307-A8E8-50569D3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975-6885-426F-86BC-BD3D0641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CBF-16FE-4E83-844F-B5D0734F6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720" y="400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Заречнева О.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УК без катеог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840" y="356760"/>
            <a:ext cx="8501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Қостанай қаласы әкімдігінің білім бөлімінің №22 орта мектеп»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 «Средняя школа №22 отдела образования акимата города Коста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Хорда 3"/>
          <p:cNvSpPr/>
          <p:nvPr/>
        </p:nvSpPr>
        <p:spPr>
          <a:xfrm rot="6715800">
            <a:off x="2891160" y="1692720"/>
            <a:ext cx="3998880" cy="41626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4"/>
          <p:cNvSpPr/>
          <p:nvPr/>
        </p:nvSpPr>
        <p:spPr>
          <a:xfrm>
            <a:off x="428760" y="2786040"/>
            <a:ext cx="2214360" cy="1000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5"/>
          <p:cNvSpPr/>
          <p:nvPr/>
        </p:nvSpPr>
        <p:spPr>
          <a:xfrm>
            <a:off x="3071880" y="571680"/>
            <a:ext cx="1428840" cy="1285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низ 6"/>
          <p:cNvSpPr/>
          <p:nvPr/>
        </p:nvSpPr>
        <p:spPr>
          <a:xfrm>
            <a:off x="5429160" y="571680"/>
            <a:ext cx="1428840" cy="1285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800160" y="285840"/>
            <a:ext cx="22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вление измеряется в мм ртутного стол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льным атмосферным давлением считается 760мм р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6919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Еванджелиста 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Торричел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180px-Libr0367"/>
          <p:cNvPicPr/>
          <p:nvPr/>
        </p:nvPicPr>
        <p:blipFill>
          <a:blip r:embed="rId1"/>
          <a:stretch/>
        </p:blipFill>
        <p:spPr>
          <a:xfrm>
            <a:off x="500040" y="357120"/>
            <a:ext cx="3889440" cy="5305320"/>
          </a:xfrm>
          <a:prstGeom prst="rect">
            <a:avLst/>
          </a:prstGeom>
          <a:ln w="28440">
            <a:solidFill>
              <a:srgbClr val="333399"/>
            </a:solidFill>
            <a:prstDash val="dash"/>
            <a:miter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чего зависит давл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высокая, то Р – низ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низкая, то Р – высо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носка-облако 4"/>
          <p:cNvSpPr/>
          <p:nvPr/>
        </p:nvSpPr>
        <p:spPr>
          <a:xfrm>
            <a:off x="571680" y="2357280"/>
            <a:ext cx="2128680" cy="1184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6"/>
          <p:cNvCxnSpPr/>
          <p:nvPr/>
        </p:nvCxnSpPr>
        <p:spPr>
          <a:xfrm flipV="1">
            <a:off x="3211920" y="2356920"/>
            <a:ext cx="25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7"/>
          <p:cNvCxnSpPr/>
          <p:nvPr/>
        </p:nvCxnSpPr>
        <p:spPr>
          <a:xfrm flipV="1">
            <a:off x="3357720" y="2356920"/>
            <a:ext cx="21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8"/>
          <p:cNvCxnSpPr/>
          <p:nvPr/>
        </p:nvCxnSpPr>
        <p:spPr>
          <a:xfrm flipV="1">
            <a:off x="3499200" y="2356920"/>
            <a:ext cx="252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V="1">
            <a:off x="3642120" y="2356920"/>
            <a:ext cx="252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10"/>
          <p:cNvCxnSpPr/>
          <p:nvPr/>
        </p:nvCxnSpPr>
        <p:spPr>
          <a:xfrm flipV="1">
            <a:off x="3785040" y="2356920"/>
            <a:ext cx="252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Блок-схема: объединение 11"/>
          <p:cNvSpPr/>
          <p:nvPr/>
        </p:nvSpPr>
        <p:spPr>
          <a:xfrm>
            <a:off x="428760" y="4714920"/>
            <a:ext cx="3214440" cy="1285920"/>
          </a:xfrm>
          <a:prstGeom prst="flowChartMerg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13"/>
          <p:cNvCxnSpPr>
            <a:stCxn id="98" idx="0"/>
            <a:endCxn id="98" idx="2"/>
          </p:cNvCxnSpPr>
          <p:nvPr/>
        </p:nvCxnSpPr>
        <p:spPr>
          <a:xfrm>
            <a:off x="2034000" y="4716360"/>
            <a:ext cx="2520" cy="12866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0" name="Прямая со стрелкой 15"/>
          <p:cNvCxnSpPr/>
          <p:nvPr/>
        </p:nvCxnSpPr>
        <p:spPr>
          <a:xfrm flipH="1">
            <a:off x="3998160" y="4716360"/>
            <a:ext cx="2520" cy="12153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1" name="Прямая со стрелкой 16"/>
          <p:cNvCxnSpPr/>
          <p:nvPr/>
        </p:nvCxnSpPr>
        <p:spPr>
          <a:xfrm flipH="1">
            <a:off x="4142520" y="4714560"/>
            <a:ext cx="252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H="1">
            <a:off x="4285440" y="4714560"/>
            <a:ext cx="252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 flipH="1">
            <a:off x="4428360" y="4714560"/>
            <a:ext cx="252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4" name="Прямая со стрелкой 19"/>
          <p:cNvCxnSpPr/>
          <p:nvPr/>
        </p:nvCxnSpPr>
        <p:spPr>
          <a:xfrm flipH="1">
            <a:off x="4571640" y="4714560"/>
            <a:ext cx="216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105" name="Рисунок 20" descr="чел3.gif"/>
          <p:cNvPicPr/>
          <p:nvPr/>
        </p:nvPicPr>
        <p:blipFill>
          <a:blip r:embed="rId1"/>
          <a:stretch/>
        </p:blipFill>
        <p:spPr>
          <a:xfrm>
            <a:off x="7358040" y="1285920"/>
            <a:ext cx="17859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images.jpeg"/>
          <p:cNvPicPr/>
          <p:nvPr/>
        </p:nvPicPr>
        <p:blipFill>
          <a:blip r:embed="rId1"/>
          <a:stretch/>
        </p:blipFill>
        <p:spPr>
          <a:xfrm>
            <a:off x="1500120" y="500040"/>
            <a:ext cx="52866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ное давление с высо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ижается на каждые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ъема на 10 мм рт.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1000м на 100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решил опуститься без спецснаряжения на дно Марианского желоба. Что с ним может произойти.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д.jpeg"/>
          <p:cNvPicPr/>
          <p:nvPr/>
        </p:nvPicPr>
        <p:blipFill>
          <a:blip r:embed="rId1"/>
          <a:stretch/>
        </p:blipFill>
        <p:spPr>
          <a:xfrm>
            <a:off x="3357720" y="2357280"/>
            <a:ext cx="2571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бор, с помощью которого измеряется давление, называется барометр (ртутный или анеро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барометр"/>
          <p:cNvPicPr/>
          <p:nvPr/>
        </p:nvPicPr>
        <p:blipFill>
          <a:blip r:embed="rId1"/>
          <a:stretch/>
        </p:blipFill>
        <p:spPr>
          <a:xfrm>
            <a:off x="642960" y="1928880"/>
            <a:ext cx="3500280" cy="4200480"/>
          </a:xfrm>
          <a:prstGeom prst="rect">
            <a:avLst/>
          </a:prstGeom>
          <a:ln w="28440">
            <a:solidFill>
              <a:srgbClr val="993366"/>
            </a:solidFill>
            <a:prstDash val="dashDot"/>
            <a:miter/>
          </a:ln>
        </p:spPr>
      </p:pic>
      <p:pic>
        <p:nvPicPr>
          <p:cNvPr id="115" name="Рисунок 4" descr="2.jpeg"/>
          <p:cNvPicPr/>
          <p:nvPr/>
        </p:nvPicPr>
        <p:blipFill>
          <a:blip r:embed="rId2"/>
          <a:stretch/>
        </p:blipFill>
        <p:spPr>
          <a:xfrm>
            <a:off x="4714920" y="20718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GE113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 как изменится погода, если барометр в течение суток будет показывать понижение давл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 изменится погода, если барометр в течение суток будет показывать повышение  давл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ag00434_"/>
          <p:cNvPicPr/>
          <p:nvPr/>
        </p:nvPicPr>
        <p:blipFill>
          <a:blip r:embed="rId2"/>
          <a:stretch/>
        </p:blipFill>
        <p:spPr>
          <a:xfrm>
            <a:off x="5000760" y="3643200"/>
            <a:ext cx="2714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ag00433_"/>
          <p:cNvPicPr/>
          <p:nvPr/>
        </p:nvPicPr>
        <p:blipFill>
          <a:blip r:embed="rId3"/>
          <a:stretch/>
        </p:blipFill>
        <p:spPr>
          <a:xfrm>
            <a:off x="928800" y="3571920"/>
            <a:ext cx="3039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E113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g00433_"/>
          <p:cNvPicPr/>
          <p:nvPr/>
        </p:nvPicPr>
        <p:blipFill>
          <a:blip r:embed="rId2"/>
          <a:stretch/>
        </p:blipFill>
        <p:spPr>
          <a:xfrm>
            <a:off x="5929200" y="333360"/>
            <a:ext cx="288612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g00434_"/>
          <p:cNvPicPr/>
          <p:nvPr/>
        </p:nvPicPr>
        <p:blipFill>
          <a:blip r:embed="rId3"/>
          <a:stretch/>
        </p:blipFill>
        <p:spPr>
          <a:xfrm>
            <a:off x="395280" y="549360"/>
            <a:ext cx="1962000" cy="1960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1402560" y="306864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Низ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5076360" y="3068640"/>
            <a:ext cx="26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ысо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H="1" flipV="1">
            <a:off x="2123640" y="2565000"/>
            <a:ext cx="57636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 flipV="1">
            <a:off x="6084720" y="2491920"/>
            <a:ext cx="57492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928440"/>
            <a:ext cx="81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Ресотамфа  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Ресетомфар  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Тарсефасотр 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Нозо 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78% 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0,03% 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21% 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4" descr="opr00KMK.gif"/>
          <p:cNvPicPr/>
          <p:nvPr/>
        </p:nvPicPr>
        <p:blipFill>
          <a:blip r:embed="rId1"/>
          <a:stretch/>
        </p:blipFill>
        <p:spPr>
          <a:xfrm>
            <a:off x="6500880" y="100008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ление – сила, с которой воздух давит на земную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ление измеряется в мм 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рмальное давление – 760мм 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вышении температуры,  давление снижается,  при понижении температуры давление повы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ысотой давление понижается (на 1км на 100мм), с глубиной – повы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мощью давления можно предсказывать по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ление определяет физ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Задача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одножия горы на высоте 200 м над уровнем моря АД равно 756 мм рт. ст. На вершине оно составляет 720 мм рт. ст. Определите относительную и абсолютную высоту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179280" y="551664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79280" y="551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0364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2268360" y="494136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2268360" y="494172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2"/>
          <p:cNvSpPr/>
          <p:nvPr/>
        </p:nvSpPr>
        <p:spPr>
          <a:xfrm>
            <a:off x="204840" y="3468600"/>
            <a:ext cx="4792680" cy="2532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9"/>
          <p:cNvSpPr/>
          <p:nvPr/>
        </p:nvSpPr>
        <p:spPr>
          <a:xfrm>
            <a:off x="250920" y="558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32400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53964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3"/>
          <p:cNvSpPr/>
          <p:nvPr/>
        </p:nvSpPr>
        <p:spPr>
          <a:xfrm>
            <a:off x="61128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4"/>
          <p:cNvSpPr/>
          <p:nvPr/>
        </p:nvSpPr>
        <p:spPr>
          <a:xfrm>
            <a:off x="324000" y="5734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>
            <a:off x="250920" y="58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6"/>
          <p:cNvSpPr/>
          <p:nvPr/>
        </p:nvSpPr>
        <p:spPr>
          <a:xfrm>
            <a:off x="324000" y="5877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82692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8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 flipV="1">
            <a:off x="3564000" y="3500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 flipV="1">
            <a:off x="3708360" y="349992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205080" y="400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3781440" y="4435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2270520" y="50115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2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1260720" y="45086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56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3278520" y="2995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840" y="285480"/>
            <a:ext cx="8472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одножья горы  на высоте  1000м над уровнем моря АД  770мм. Определите давление на высоте  8000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"/>
          <p:cNvSpPr/>
          <p:nvPr/>
        </p:nvSpPr>
        <p:spPr>
          <a:xfrm>
            <a:off x="1000080" y="4857840"/>
            <a:ext cx="385776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9"/>
          <p:cNvSpPr/>
          <p:nvPr/>
        </p:nvSpPr>
        <p:spPr>
          <a:xfrm flipV="1">
            <a:off x="928800" y="2857680"/>
            <a:ext cx="2071440" cy="200016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1"/>
          <p:cNvSpPr/>
          <p:nvPr/>
        </p:nvSpPr>
        <p:spPr>
          <a:xfrm>
            <a:off x="3071160" y="2857680"/>
            <a:ext cx="1785960" cy="200016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222840" y="4786200"/>
            <a:ext cx="19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65400" y="428616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 77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2654640" y="242892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000м     Р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ая зад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туристов вылетела на самолёте из точки с координатами 49°с.ш. 2°в.д. – барометр показывал 710 мм р.с.  в точку 38°с.ш 72°в.д. Самолёт приземлился на высоте 3000м, барометр показывал давление 730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вылетела группа 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погода, предположительно, была в этом пун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м направлении летел сам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а доставил самолёт 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прямой и обратный азим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расстояние от места вылета до места прибытия в градусах и киломе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давление на  самой высокой точке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будут себя чувствовать туристы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Необходим для жизнедеятельности любого растительного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Необходим для дыхания, поддерживает го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Arial"/>
              </a:rPr>
              <a:t>Необходим для роста и жизни растений, обогревает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Верхняя граница на высоте 2-3 тыс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224b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224b50"/>
                </a:solidFill>
                <a:latin typeface="Arial"/>
              </a:rPr>
              <a:t>В её нижней части температура низкая, а с высоты 20 км быстро повыш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Имеет разную мощность у экватора и полю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Здесь электрические заряды, исходящие от Солнца, вызывают полярное си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Её называют «фабрикой погод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чел2.gif"/>
          <p:cNvPicPr/>
          <p:nvPr/>
        </p:nvPicPr>
        <p:blipFill>
          <a:blip r:embed="rId1"/>
          <a:stretch/>
        </p:blipFill>
        <p:spPr>
          <a:xfrm>
            <a:off x="6837480" y="4929120"/>
            <a:ext cx="2306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Атмосфера – воздушная оболочка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19194d"/>
                </a:solidFill>
                <a:latin typeface="Arial"/>
              </a:rPr>
              <a:t>Атмосфера имеет слоистое 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Нижний слой атмосферы называется тропосф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714240" y="1143000"/>
            <a:ext cx="2786040" cy="4857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>
            <a:off x="714240" y="4786200"/>
            <a:ext cx="1500480" cy="7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785880" y="4786200"/>
            <a:ext cx="27144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9"/>
          <p:cNvSpPr/>
          <p:nvPr/>
        </p:nvSpPr>
        <p:spPr>
          <a:xfrm>
            <a:off x="714240" y="4786200"/>
            <a:ext cx="2786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1"/>
          <p:cNvSpPr/>
          <p:nvPr/>
        </p:nvSpPr>
        <p:spPr>
          <a:xfrm>
            <a:off x="714240" y="4429080"/>
            <a:ext cx="2786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714240" y="307188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1214280"/>
            <a:ext cx="300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оновый сл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ярн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п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осф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0" descr="OWLBOOK.JPG"/>
          <p:cNvPicPr/>
          <p:nvPr/>
        </p:nvPicPr>
        <p:blipFill>
          <a:blip r:embed="rId1"/>
          <a:stretch/>
        </p:blipFill>
        <p:spPr>
          <a:xfrm>
            <a:off x="5143680" y="4714920"/>
            <a:ext cx="20714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ч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атмосфера не рассеивается в космическом пространств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в тропосфере температура с высотой понижа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над экватором толщина тропосферы больше, чем над полюс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в нижней части стратосферы температура низкая, а с высоты примерно 20км быстро повыша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 термосфере температура достигает +1000-2000°С. Почему человек в этом слое атмосферы даже не ощутил бы такой температур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мыша.gif"/>
          <p:cNvPicPr/>
          <p:nvPr/>
        </p:nvPicPr>
        <p:blipFill>
          <a:blip r:embed="rId1"/>
          <a:stretch/>
        </p:blipFill>
        <p:spPr>
          <a:xfrm>
            <a:off x="7856640" y="0"/>
            <a:ext cx="1287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ожем ли мы назвать атмосферу одеждой Земли? Докажите это на при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 помощью каких приборов изучают атмосфер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Для чего изучают атмосфер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Назовите главных загрязнителей атмо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аковы последствия загрязнения атмосферы? Приведите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 каких городах Казахстана атмосфера наиболее загрязн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акие меры профилактики необходимо предпринимать для охраны атмосферы от загрязн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Arial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аждая оболочка атмосферы имеет свои особенности и выполняет определённые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Значение атмосферы вел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Необходимо охранять атмосферу от загряз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GE138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428760" y="3643200"/>
            <a:ext cx="844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 § 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ть задачу на определение дав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ты в виде кар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357120" y="785880"/>
            <a:ext cx="780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Сабақтын тақырыб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Тема урока: Атмосферное дав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31:43Z</dcterms:created>
  <dc:creator>Рома</dc:creator>
  <dc:description/>
  <dc:language>en-US</dc:language>
  <cp:lastModifiedBy>Customer</cp:lastModifiedBy>
  <dcterms:modified xsi:type="dcterms:W3CDTF">2013-04-02T09:40:03Z</dcterms:modified>
  <cp:revision>25</cp:revision>
  <dc:subject/>
  <dc:title>Слайд 1</dc:title>
</cp:coreProperties>
</file>