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DCFA-5DCF-4E9D-81B3-DB4BD3F9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2C0-5F86-4406-A718-22F496DC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8F8-9651-4134-9CCF-EF339E92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E120-BB30-4F02-AA3B-BA872F70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7D51-CEB1-43A8-9C6D-052FB609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B289-5E48-49E9-AE85-CC5AFD35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3E29-AB0E-4474-8304-5B4F043F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7ADC-BF5E-4605-A770-F4C4E5D6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171A-CCE5-4310-A611-0E533EBF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98C1-7CEC-4652-9C0D-DC9D3ACA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CE12-AEEB-4F74-A48B-408CB6D4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F753-0515-4063-AE89-D8B8A77E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5898-0101-4A3B-995A-176625B1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349B-B848-4208-8213-225D1EA3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261F-8A53-416A-9AFF-373A742F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2E3B-FCCF-4D27-8FE6-39A2D41A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C000-671C-4085-8F02-A28BE48D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F5DC7-5949-4865-839F-3812A862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B65D5-D5FB-4F88-8266-7C80AE92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473E0-AA62-4B37-A69C-3D03E7BB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92519-76CF-4D84-A98C-4A24D1C4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A7FBF-1B4B-4C29-A7E7-10F7DE3F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3495-F467-4326-8FC5-100D72EC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4E088-75FA-499E-9F4F-29F4695C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E2769-91E5-4107-A8A9-E6BF0773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EA6C9-C8C1-4A43-A10D-A86420EE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D9B08-EB19-4FE6-B786-563BE4C7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BD4DF-7570-4507-B921-155C9908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CD2FC-CC40-44B8-8599-8625B2C5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D6F8E-78AD-420E-A8EB-CAEBB845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B7A84-29D9-405E-BFF4-EBE0C724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DD68E-1753-426A-B424-76167BF6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ECB49-B382-408E-B3D3-7CE34308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D161-941D-46A9-AF25-A22CE835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EEF45-785C-4977-B277-525F1E9E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2058C-EF7C-420E-A214-A7D312FA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C2E4E-7C93-4931-B8C8-CC380F6C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5B396-7A7C-4D04-9D3E-62A695D6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EE441-749C-4C92-AFFC-2BDF0926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E9081-CB7E-4654-A516-7875BB33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9BB8F-5187-4154-9305-7752E1AB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C0E76-A7A9-4D8C-A1F8-90280C7C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3E08A-17FA-4B23-9829-6769D184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EA774-344C-49A9-91EB-A10841CE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FCF-D248-4B71-869E-950F313C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06294-DEFF-4B77-84C1-18266EE8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CA7D0-DC8D-47B4-938F-1BE9E918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CED17-4309-46E1-861D-3E0D37B2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FAC1B-1340-46AB-88B5-35A7CE27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B9F02-EA56-4C87-8DC7-4437FF0B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8DD4E-633E-46E5-9D27-D6C60AE7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187C9-8D04-496A-8944-3BC61A48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384CA-08BE-438E-B7D3-12A242F8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28FFD-546D-4BBB-8C22-3D9058F8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642A9-CA60-485F-ADC9-696AA54C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B5FC-2E9A-4BB6-A50F-377F8D80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0F3EE-EBC8-48CC-918D-9DF85BB4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DDBA3-AB15-4D3A-A653-90E14459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E5224-6A36-4B08-882F-01208B26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964EF-B44A-47DD-966C-D219425C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11FAC-9961-4630-96C1-76D39DF0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59BE7-1A40-4F72-B274-E5B67F71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5461E-AF6C-4A00-838C-4AFCF652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1E975-E60C-4BCD-896A-5ACBD583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55059-EC90-41DE-85C2-954C3610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6186E-0294-4BE2-88A4-6939ECD3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7ED-093D-42FA-B7B0-EA965FC8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5B1D3-659C-42AF-948A-65157094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8BD37-AC77-4AD1-BEAC-483C8C8A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F3B7B-A40C-4FD9-88AD-D4A04846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D3E46-7316-4CB6-814D-638BDCA2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A7455-EB59-459A-B129-3798C174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65ECD-BE36-4F35-9184-C06A5ABD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39FC1-B8E1-4685-8042-1D2F9521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D33C3-C534-4572-B26E-5FFA9D93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450FA-6653-4FAC-B188-48AF1389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AF11C-1807-448D-AE52-3D4F7CD6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F804-04A5-4551-B7BB-278370B7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EF562-BCD8-4319-9D15-BE93CDD6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FCB57-836C-421E-805D-3B4B992E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0EA6A-3693-44EB-8187-C9B2E10C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B0DE8-56F9-40EB-A5E2-77209476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0D0FB-70C1-4F31-8A69-E554E581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77E42-59A6-4483-9A4A-72CAAFFB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CEA19-13C4-4625-9ABD-4D421333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D8DA7-6BCB-40B0-A69F-422C3C88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4FD7F-3F61-4563-828F-32C7EB83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2F19E-4396-4926-A80B-C400552C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0B5B-29FE-4A20-9265-C23FB6D5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67CBD-5B65-4DA2-8C40-43ED7AD9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BF581-73DC-4EF2-86BD-DBEA19EB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F6E63-2B8B-4513-BDAC-E4E42BB0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DA841-ACC5-463B-B95F-9961A19A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28458-722D-42DF-B186-E8722FE4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98C16-CD45-4F58-9C3A-FF07E408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BC30E-3B4A-475E-B968-0DD713D6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84D2-8AAF-42B7-B27B-EC7CC9029B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ED54-AE41-4B7E-AB6D-FFEE4E1315D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9F51-DBAA-433D-A7BF-EB1B1E9633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292E-E6FE-4E98-9DBA-00EBFC18BB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BFF4-D31E-4FB7-86AD-9F20B3765C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1450-91CD-498F-B531-00BDFC78D6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8BDA-C92E-4BAE-ACE7-2F3F1FA326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305F-1EE6-4D01-AEBB-48E91DE0E52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3" descr=""/>
          <p:cNvPicPr/>
          <p:nvPr/>
        </p:nvPicPr>
        <p:blipFill>
          <a:blip r:embed="rId1"/>
          <a:stretch/>
        </p:blipFill>
        <p:spPr>
          <a:xfrm>
            <a:off x="682560" y="469800"/>
            <a:ext cx="7785000" cy="23162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Фармагей О. С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едагог дополнительного образования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М БОУ ДОД ДДТ №2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TextBox 6"/>
          <p:cNvSpPr/>
          <p:nvPr/>
        </p:nvSpPr>
        <p:spPr>
          <a:xfrm>
            <a:off x="3564000" y="580536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Заполярны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г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395280" y="1557360"/>
          <a:ext cx="8497800" cy="2158920"/>
        </p:xfrm>
        <a:graphic>
          <a:graphicData uri="http://schemas.openxmlformats.org/drawingml/2006/table">
            <a:tbl>
              <a:tblPr/>
              <a:tblGrid>
                <a:gridCol w="216000"/>
                <a:gridCol w="2305080"/>
                <a:gridCol w="493560"/>
                <a:gridCol w="395280"/>
                <a:gridCol w="397080"/>
                <a:gridCol w="396720"/>
                <a:gridCol w="476280"/>
                <a:gridCol w="476280"/>
                <a:gridCol w="474480"/>
                <a:gridCol w="476280"/>
                <a:gridCol w="476280"/>
                <a:gridCol w="476280"/>
                <a:gridCol w="479520"/>
                <a:gridCol w="479520"/>
                <a:gridCol w="479160"/>
              </a:tblGrid>
              <a:tr h="702000">
                <a:tc rowSpan="2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ые обозна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- начало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 - середина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- конец 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рабочего мест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аботать 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ца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ые навы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тво 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нтаз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, им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онов Иль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фьев Макс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ум Елизавет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дихин Вад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40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ыдов Серг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Rectangle 1"/>
          <p:cNvSpPr/>
          <p:nvPr/>
        </p:nvSpPr>
        <p:spPr>
          <a:xfrm>
            <a:off x="0" y="-146520"/>
            <a:ext cx="911700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 карта результатов освоения программы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ие «Народные промыслы»        2012-2013учебный год                      Педагог: Фармагей О.С.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 1                                                                                                                                 Год обучения 1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1187280" y="4076640"/>
            <a:ext cx="568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 карта личностных достижений учащихся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95280" y="4508640"/>
          <a:ext cx="8569440" cy="2089080"/>
        </p:xfrm>
        <a:graphic>
          <a:graphicData uri="http://schemas.openxmlformats.org/drawingml/2006/table">
            <a:tbl>
              <a:tblPr/>
              <a:tblGrid>
                <a:gridCol w="217440"/>
                <a:gridCol w="2324160"/>
                <a:gridCol w="498600"/>
                <a:gridCol w="398160"/>
                <a:gridCol w="400320"/>
                <a:gridCol w="401400"/>
                <a:gridCol w="479520"/>
                <a:gridCol w="479520"/>
                <a:gridCol w="480960"/>
                <a:gridCol w="479520"/>
                <a:gridCol w="479160"/>
                <a:gridCol w="481320"/>
                <a:gridCol w="482400"/>
                <a:gridCol w="484200"/>
                <a:gridCol w="482760"/>
              </a:tblGrid>
              <a:tr h="596880">
                <a:tc rowSpan="2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ые обозна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- начало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 - середина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- конец 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самостоятель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м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мотив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, им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онов Иль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фьев Макс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ум Елизавет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дихин Вад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3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ыдов Серг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1"/>
          <p:cNvSpPr/>
          <p:nvPr/>
        </p:nvSpPr>
        <p:spPr>
          <a:xfrm>
            <a:off x="1042920" y="1628640"/>
            <a:ext cx="648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595959"/>
                </a:solidFill>
                <a:uFillTx/>
                <a:latin typeface="Times New Roman"/>
                <a:ea typeface="Times New Roman"/>
              </a:rPr>
              <a:t>Функции педагогической диагностик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уровня подготовки учащихся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тепени реализации образовательной программы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динамики развития каждого обучающегося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сообразная организация образовательного процесса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индивидуального образовательного маршрута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3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62864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направленность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сть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ая обоснованность теории и практики диагностик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и преемственность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ь диагностических методик и процедур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апы организации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: подготовка материалов диагностики, планирование сроков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: определение и обсуждение механизма проведения диагностики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данных и их анализ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результатов диагностик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121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ной контро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стартовая диагностика) проводится в начале учебного год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жуточный контро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 текущая диагностика) проводится в середине учебного год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 контро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 итоговая диагностика) проводится в конце  каждого учебного год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274680" y="201600"/>
            <a:ext cx="8418600" cy="122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является модифицированной, составлена на основе авторской программы «Народные промыслы» Н.И. Мухлыниной. (Сборник Министерства образования РФ «Программы лауреато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российского конкурса авторских программ дополнительного образования детей». Номинация художественная. Москва, ГОУ ЦРСДОД,2003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граммы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условия раскрытия творческого потенциала каждого ребёнка,  для формирования его нравственно-личностных качеств, эстетического воспитания, приобщения к ценностям русской и мировой культуры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468360" y="620640"/>
          <a:ext cx="8351640" cy="2879640"/>
        </p:xfrm>
        <a:graphic>
          <a:graphicData uri="http://schemas.openxmlformats.org/drawingml/2006/table">
            <a:tbl>
              <a:tblPr/>
              <a:tblGrid>
                <a:gridCol w="534960"/>
                <a:gridCol w="2124000"/>
                <a:gridCol w="912960"/>
                <a:gridCol w="976320"/>
                <a:gridCol w="938160"/>
                <a:gridCol w="901800"/>
                <a:gridCol w="1000080"/>
                <a:gridCol w="963360"/>
              </a:tblGrid>
              <a:tr h="1969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ый год обучения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й год обуч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 - низкий уровен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- средний уровен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- высокий уровен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 - низкий уровен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- средний уровен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- высокий уровен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740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рабочего места, умение пользоваться художественными материалами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организации рабочего места требуется помощь педагога. Не владеет навыками работы кистью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ет организовать рабочее место. Слабо владеет навыком работы кончиком кисти, тычком, преобладает манера работы всей кистью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ет хорошо организовать рабочее место. Хорошо владеет навыком рисования кончиком кисти, тычком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всегда хорошо может организовать рабочее место.Слабо владеет навыками работы с художественными материалам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ет организовать рабочее место. Владеет навыками работы с художественными материалам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ет самостоятельно хорошо организовать рабочее место. Хорошо развит навык рисования кончиком кисти, тычком.  Самостоятельн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еняет в практической работе полученные навы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ие работать с образцами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пирует только простые элементы с искажением, сложные ему не удаются, требуется помощь педагог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рошо копирует простые элементы, сложные немного искажает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пирует простые и сложные элементы, узор передает точно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пирует простые элементы, сложные  искажае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рошо копирует простые элементы, сложные немного искажает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пирует простые и сложные элементы, узор передает точно. Умеет составить свой узор опираясь на образц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4" name="Rectangle 1"/>
          <p:cNvSpPr/>
          <p:nvPr/>
        </p:nvSpPr>
        <p:spPr>
          <a:xfrm>
            <a:off x="0" y="89640"/>
            <a:ext cx="8820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яснительная записка                           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результатов  освоения программы по годам обучения в объединении «Народные промыслы»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468360" y="3500280"/>
          <a:ext cx="8351640" cy="3125880"/>
        </p:xfrm>
        <a:graphic>
          <a:graphicData uri="http://schemas.openxmlformats.org/drawingml/2006/table">
            <a:tbl>
              <a:tblPr/>
              <a:tblGrid>
                <a:gridCol w="534960"/>
                <a:gridCol w="2128680"/>
                <a:gridCol w="935280"/>
                <a:gridCol w="936360"/>
                <a:gridCol w="936720"/>
                <a:gridCol w="935280"/>
                <a:gridCol w="1009440"/>
                <a:gridCol w="934920"/>
              </a:tblGrid>
              <a:tr h="14083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удожественные навыки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знает цветовую гамму, путает цвета фона, передать характер линии не получается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ет цветовую гамму, но иногда путает цвета фона. Нет композиции в работе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ет цветовую гамму, подбирает цвета, видит и украшает полностью всю композицию, используя простые и сложные элементы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ет цветовую гамму, но путает цвета фона, передать характер линии не всегда получается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тает хроматические и ахроматические цвет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ет цветовую гамму хроматические и ахроматические цвета, но иногда путает цвета фона. Нет четкой композиции в работе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рошо знает цветовую гамму, подбирает цвета, видит и украшает полностью всю композицию, используя простые и сложные элементы.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56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орчество и фантазия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исует только то, что видит. Нет творческой активности, самостоятельно всю работу не может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ляет композицию, но для этого надо иметь ребенку образцы перед глазами. Нужна незначительная помощь педагог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стоятельно придумывает композицию, дополняет изображение подходящими по замыслу элементами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трудняется выполнить работу самостоятельно, творческая активность низка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ляет композицию, но для этого надо иметь ребенку образцы перед глазами знает и соблюдает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апы росписи – повтор, вариация, импровизация. Принимает участие в коллективной работ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ыстро и правильно самостоятельно придумывает композицию, дополняет изображение подходящими по замыслу элементами.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собен оказать помощь другим восп итанникам. Принимает активное участие в коллективной работе 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1332000" y="4149720"/>
          <a:ext cx="6553080" cy="187164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  <a:gridCol w="1638360"/>
                <a:gridCol w="1638360"/>
              </a:tblGrid>
              <a:tr h="62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з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0-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1-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506520" y="-23760"/>
            <a:ext cx="8265960" cy="14986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Picture 1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6480000" cy="23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2386080"/>
                <a:gridCol w="2367000"/>
                <a:gridCol w="2160720"/>
                <a:gridCol w="1609560"/>
                <a:gridCol w="262080"/>
              </a:tblGrid>
              <a:tr h="785880">
                <a:tc gridSpan="5">
                  <a:txBody>
                    <a:bodyPr lIns="24840" rIns="24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снительная зап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ческая карта личностных достижений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2248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а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ктивнос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выполнению ребёнок приступает только после дополнительных побуждений, во время работы часто отвлекается, при встрече с трудностями не стремится их преодолеть, расстраивается, отказывается от работы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я педагога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 Дети с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зким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уровнем требуют организации увлекательного учения, преобладания игровых технологий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бёнок активно включается в работу, но при первых же трудностях интерес угасает, вопросов задает немного, при помощи педагога способен к преодолению трудностей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я педагога: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и со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м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нем нуждаются в постоянной помощи, им необходимо переживание успеха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бенок проявляет выраженный интерес к предлагаемым заданиям, сам задает вопросы, прилагает усилия –к преодолению трудностей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я педагога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уровень требует обучения на высоком уровне трудности, возможности показать себя и самоутвердиться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формированность самостоятель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зко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стоятельный все время ждет помощи, одобрения, не видит своих ошибок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е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самостоятельный выполняет задание сам, а при проверке ориентируется на других детей и делает так, как у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о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стоятельный ребёнок сам берется за выполнение любого зад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628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 ум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бенок старается стоять «в сторонке», не вступает в контакт со сверстниками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я педагога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 Детям нужна поддержка, вселение уверенности в свои силы. Их нельзя заставлять быть контактными, а нужно обращать внимание других детей на их достоинства и постепенно включать в коллектив, давая маленькие поручения и хваля за их выполнение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тактность с учителем и неконтактность со сверстниками. Дети не инициативны в общении, однако проявляют общительность в ответ на чужую инициативу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я педагога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При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ем уровне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необходимы поощрения и поддержки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ициативен со всеми, указывает другим, как надо делать что-то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я педагога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Включать в групповые методы работы, не игнорировать их в процессе работы; нужно давать индивидуальные задания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152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 мотив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ник без желания занимается в объединении (ходит с группой продленного дня, заставляют родители и т.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неустойчивый) уровень мотивации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ник с удовольствием заниматься, это доставляет ему радость, он хочет узнать как можно больше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9:24:55Z</dcterms:created>
  <dc:creator>123</dc:creator>
  <dc:description/>
  <dc:language>en-US</dc:language>
  <cp:lastModifiedBy>123</cp:lastModifiedBy>
  <dcterms:modified xsi:type="dcterms:W3CDTF">2013-03-24T21:14:50Z</dcterms:modified>
  <cp:revision>11</cp:revision>
  <dc:subject/>
  <dc:title>ДИАГНОСТИКА И ОТСЛЕЖИВАНИЕ РЕЗУЛЬТАТОВ ОБУЧЕНИЯ В ОБЪЕДИНЕНИИ «НАРОДНЫЕ ПРОМЫСЛЫ»</dc:title>
</cp:coreProperties>
</file>