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F26-E392-486D-9687-E59B5E8B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3FE-8445-4A45-A4C3-4D858A82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CE9-F852-4F44-AB7E-516D7885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04D-D3FC-45D5-A91D-64A5D436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1C8E-C3CF-41C9-971E-CBE6029F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64F4-D74E-4257-BD74-273C2441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9A9B-99B3-405C-88F2-C4B23841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493D-FE72-45C1-9E0E-80A3E43A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8701-8374-45DB-9272-23E16152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06F1-760F-4F89-8573-13C9EC51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575E-68C6-4162-ABE7-A10636D0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62B-6D32-47DD-B021-DEAA7F43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27AF-4BC9-4CC1-9E04-F3CB66B9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DEC3-CF65-4427-B792-7BD5B743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E1A7-4B85-478D-8A72-5687263F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6BC3-63D0-4C10-89AB-0DAA8E08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A9E2-0B74-48DD-956C-90FD5B03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32864-3E69-4A77-92D6-8B4B494B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1C5EF-3E04-4080-B656-E44B2AAD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CA483-67CE-4DA1-AEBE-D47E0D44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772D7-0C90-4C39-A975-08D8FA10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DCFB7-EE6C-4C01-9772-1990B7D9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174-1AFA-4CB2-976D-8E311F66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32776-FF1B-45B8-80BF-BD3178DB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E9865-4C3D-4D4B-93A0-FAC393AD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0D63-F9DA-4568-82C3-9CC3F5A4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64A6E-CD6B-4485-A2B4-C9919010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64D5E-BB8F-4313-8451-86F0520D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E28A9-4B5E-465B-923E-1CAAB45F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C9903-C151-4E03-A0A9-CA131B97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C6D93-5811-4E5D-AF8D-4686B930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33B76-AB39-4C51-BFB4-E18CFD82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39F80-5A25-4961-B05B-9F9CD9D7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9F6-29BB-4C62-80E0-C00DE959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AC88B-323C-46F2-AEE3-ABC820F4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07AC1-94C7-49E7-98D9-EAE89825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B05EE-FFC2-4D19-9E31-D2503917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DC8FE-BD7E-4311-A6C3-1174175A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0232E-1B8A-47CF-93BB-2D3B8BCA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179BA-9CC7-46A6-8B57-5A14CFFE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78C25-04D8-4B51-BA00-FAB7A16A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50EBA-1EA1-4FBD-AE7F-4226882E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83398-AD0E-4D85-B4E0-12924585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4391F-2A62-4A68-923D-E67E9EBD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58D-55E6-4E10-B669-97E5BF39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C7FF5-0834-4D0E-95DA-2C9531AF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FF1B1-FFB8-4078-B82E-02BAC19A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D060A-F56D-443C-80E9-D506BCC8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09E85-EFB0-4D02-9926-FE55A0BF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8243F-BA1E-4C61-A5C1-C76610A3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6020E-363D-49B5-9C85-84383376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2AD99-B444-4A4B-A1CE-D360E09F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35E83-D8DF-4D54-AA60-44675F84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6D493-693D-44AE-BA9C-2212F9E1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AB22E-C29F-43A2-9CAF-4668DAC0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2B9-E3CA-4A0D-9982-1F111EE6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679F3-DD28-40F8-8469-CB7793F1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A5B92-9956-4406-BFE5-FAFECBD5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E790B-C60F-4D02-B003-F702E20A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CD789-488F-474B-BA6A-B3EF0DD4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D0E59-48DC-4FEC-B56E-BFBC3D5B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ADA3D-FF58-4283-95ED-DCA90C77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4F3CD-69FD-45D3-A37B-5FC7729C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1E664-4AC6-4DB3-BD1B-811554E2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A7DD1-38F8-445D-BCDC-08AF63DE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4A856-58A5-4A66-AED2-C7C2BE93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3E7-A157-4E28-87FD-08C307A1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B5E46-1036-4C76-8755-022D85B0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DC4CB-DBFE-4FDC-BCE4-6D83ADA3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9BF10-EC56-4112-9814-6D16190A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31974-7ED5-488A-8700-8D3254E9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3864F-0136-467E-AA36-2A442D49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67C13-B1AD-4284-B655-314ABF4C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7AEE5-8D95-4592-85CA-F7D785B2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A060A-4A59-4475-A1C1-76AA0ABE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9380A-3226-4354-BE48-310A5A86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B8697-39E2-490F-A8A8-AC7EF340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1BF6-3B62-4107-89F3-83528780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E8360-CB32-4043-BCDC-F4124EEA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F0B1D-CDD3-4462-931D-29C11C72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2605A-4D9C-4CCD-993A-9ABD6C38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51616-FE2C-4C10-AA92-EEFC36EA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6DB6A-2F0F-4300-A46B-8BC03FDB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5871F-C09A-4B5B-BE0F-DFACE247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6E0C7-0900-4DC3-B23B-A5D23920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DE372-596A-4574-9DC7-E6030DFD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743C9-3596-4958-9460-D5C9CEC7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64CCF-6D9C-47F5-9736-E86B73CC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89B-DE73-4E5E-8C50-11EAA014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B8EB6-B311-4F6B-AE80-D3D48890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960A7-95E2-4CAB-AA37-54B50B80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9BB66-44D3-48DF-85F2-5FF5CEEA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FD6B5-7946-49A9-8EFB-45A9169B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C7DDC-EB34-440D-B329-201A2FF3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AF69B-DDC2-4E3E-9DD2-6331A994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EAD29-F1AC-4CF8-95FD-B2E85358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B4B0-6299-4151-B87C-CE3A3CF777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E389-5AF5-492A-875C-6CD59EDA430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D52D-E5DC-43C4-B3EC-BF68A2D808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B255-6011-402A-9490-943A0C1253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7DDD-8A11-4823-9F5D-7C28459F1A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5BDC-EC65-48C2-9C65-2866845EB7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1E9D-A47E-4C82-B936-AC4074E603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7CAE-BEF2-4F3D-A882-E55DA336EE3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3" descr=""/>
          <p:cNvPicPr/>
          <p:nvPr/>
        </p:nvPicPr>
        <p:blipFill>
          <a:blip r:embed="rId1"/>
          <a:stretch/>
        </p:blipFill>
        <p:spPr>
          <a:xfrm>
            <a:off x="682560" y="469800"/>
            <a:ext cx="7785000" cy="23162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Фармагей О. С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едагог дополнительного образования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М БОУ ДОД ДДТ №2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TextBox 6"/>
          <p:cNvSpPr/>
          <p:nvPr/>
        </p:nvSpPr>
        <p:spPr>
          <a:xfrm>
            <a:off x="3564000" y="580536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Заполярны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г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395280" y="1557360"/>
          <a:ext cx="8497800" cy="2158920"/>
        </p:xfrm>
        <a:graphic>
          <a:graphicData uri="http://schemas.openxmlformats.org/drawingml/2006/table">
            <a:tbl>
              <a:tblPr/>
              <a:tblGrid>
                <a:gridCol w="216000"/>
                <a:gridCol w="2305080"/>
                <a:gridCol w="493560"/>
                <a:gridCol w="395280"/>
                <a:gridCol w="397080"/>
                <a:gridCol w="396720"/>
                <a:gridCol w="476280"/>
                <a:gridCol w="476280"/>
                <a:gridCol w="474480"/>
                <a:gridCol w="476280"/>
                <a:gridCol w="476280"/>
                <a:gridCol w="476280"/>
                <a:gridCol w="479520"/>
                <a:gridCol w="479520"/>
                <a:gridCol w="479160"/>
              </a:tblGrid>
              <a:tr h="702000">
                <a:tc rowSpan="2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ые обозна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- начало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 - середина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- конец 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рабочего мес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аботать 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ца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ые навы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тво 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нтаз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, им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онов Иль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фьев Макс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ум Елизаве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дихин Вад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40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ыдов Серг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Rectangle 1"/>
          <p:cNvSpPr/>
          <p:nvPr/>
        </p:nvSpPr>
        <p:spPr>
          <a:xfrm>
            <a:off x="0" y="-146520"/>
            <a:ext cx="911700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 карта результатов освоения программы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е «Народные промыслы»        2012-2013учебный год                      Педагог: Фармагей О.С.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 1                                                                                                                                 Год обучения 1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1187280" y="4076640"/>
            <a:ext cx="568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 карта личностных достижений учащихся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95280" y="4508640"/>
          <a:ext cx="8569440" cy="2089080"/>
        </p:xfrm>
        <a:graphic>
          <a:graphicData uri="http://schemas.openxmlformats.org/drawingml/2006/table">
            <a:tbl>
              <a:tblPr/>
              <a:tblGrid>
                <a:gridCol w="217440"/>
                <a:gridCol w="2324160"/>
                <a:gridCol w="498600"/>
                <a:gridCol w="398160"/>
                <a:gridCol w="400320"/>
                <a:gridCol w="401400"/>
                <a:gridCol w="479520"/>
                <a:gridCol w="479520"/>
                <a:gridCol w="480960"/>
                <a:gridCol w="479520"/>
                <a:gridCol w="479160"/>
                <a:gridCol w="481320"/>
                <a:gridCol w="482400"/>
                <a:gridCol w="484200"/>
                <a:gridCol w="482760"/>
              </a:tblGrid>
              <a:tr h="596880">
                <a:tc rowSpan="2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ые обозна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- начало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 - середина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- конец 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самостоятель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м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мотив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, им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онов Иль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фьев Макс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ум Елизаве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дихин Вад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3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ыдов Серг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1"/>
          <p:cNvSpPr/>
          <p:nvPr/>
        </p:nvSpPr>
        <p:spPr>
          <a:xfrm>
            <a:off x="1042920" y="1628640"/>
            <a:ext cx="648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595959"/>
                </a:solidFill>
                <a:uFillTx/>
                <a:latin typeface="Times New Roman"/>
                <a:ea typeface="Times New Roman"/>
              </a:rPr>
              <a:t>Функции педагогической диагностик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уровня подготовки учащихс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тепени реализации образовательной программы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динамики развития каждого обучающегос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сообразная организация образовательного процесса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индивидуального образовательного маршрута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3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62864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направленность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сть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ая обоснованность теории и практики диагностик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и преемственность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ь диагностических методик и процедур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тапы организации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: подготовка материалов диагностики, планирование сроков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: определение и обсуждение механизма проведения диагностики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данных и их анализ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результатов диагностик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21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773360"/>
            <a:ext cx="82296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ой контро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стартовая диагностика) проводится в начале учебного год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жуточный контро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 текущая диагностика) проводится в середине учебного год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контро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 итоговая диагностика) проводится в конце  каждого учебного год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274680" y="201600"/>
            <a:ext cx="8418600" cy="122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является модифицированной, составлена на основе авторской программы «Народные промыслы» Н.И. Мухлыниной. (Сборник Министерства образования РФ «Программы лауреато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российского конкурса авторских программ дополнительного образования детей». Номинация художественная. Москва, ГОУ ЦРСДОД,2003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граммы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 раскрытия творческого потенциала каждого ребёнка,  для формирования его нравственно-личностных качеств, эстетического воспитания, приобщения к ценностям русской и мировой культуры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468360" y="620640"/>
          <a:ext cx="8351640" cy="2879640"/>
        </p:xfrm>
        <a:graphic>
          <a:graphicData uri="http://schemas.openxmlformats.org/drawingml/2006/table">
            <a:tbl>
              <a:tblPr/>
              <a:tblGrid>
                <a:gridCol w="534960"/>
                <a:gridCol w="2124000"/>
                <a:gridCol w="912960"/>
                <a:gridCol w="976320"/>
                <a:gridCol w="938160"/>
                <a:gridCol w="901800"/>
                <a:gridCol w="1000080"/>
                <a:gridCol w="963360"/>
              </a:tblGrid>
              <a:tr h="1969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ый год обучени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й год обуч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 - низкий уровен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- средний уровен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- высокий уровен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 - низкий уровен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- средний уровен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- высокий уровен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740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рабочего места, умение пользоваться художественными материалами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я организации рабочего места требуется помощь педагога. Не владеет навыками работы кистью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ет организовать рабочее место. Слабо владеет навыком работы кончиком кисти, тычком, преобладает манера работы всей кистью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ет хорошо организовать рабочее место. Хорошо владеет навыком рисования кончиком кисти, тычком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всегда хорошо может организовать рабочее место.Слабо владеет навыками работы с художественными материалам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ет организовать рабочее место. Владеет навыками работы с художественными материалам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ет самостоятельно хорошо организовать рабочее место. Хорошо развит навык рисования кончиком кисти, тычком.  Самостоятельн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еняет в практической работе полученные навы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е работать с образцами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пирует только простые элементы с искажением, сложные ему не удаются, требуется помощь педагог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рошо копирует простые элементы, сложные немного искажает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пирует простые и сложные элементы, узор передает точно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пирует простые элементы, сложные  искажа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рошо копирует простые элементы, сложные немного искажает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пирует простые и сложные элементы, узор передает точно. Умеет составить свой узор опираясь на образц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4" name="Rectangle 1"/>
          <p:cNvSpPr/>
          <p:nvPr/>
        </p:nvSpPr>
        <p:spPr>
          <a:xfrm>
            <a:off x="0" y="89640"/>
            <a:ext cx="8820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яснительная записка                           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результатов  освоения программы по годам обучения в объединении «Народные промыслы»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468360" y="3500280"/>
          <a:ext cx="8351640" cy="3125880"/>
        </p:xfrm>
        <a:graphic>
          <a:graphicData uri="http://schemas.openxmlformats.org/drawingml/2006/table">
            <a:tbl>
              <a:tblPr/>
              <a:tblGrid>
                <a:gridCol w="534960"/>
                <a:gridCol w="2128680"/>
                <a:gridCol w="935280"/>
                <a:gridCol w="936360"/>
                <a:gridCol w="936720"/>
                <a:gridCol w="935280"/>
                <a:gridCol w="1009440"/>
                <a:gridCol w="934920"/>
              </a:tblGrid>
              <a:tr h="140832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удожественные навыки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знает цветовую гамму, путает цвета фона, передать характер линии не получается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ет цветовую гамму, но иногда путает цвета фона. Нет композиции в работе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ет цветовую гамму, подбирает цвета, видит и украшает полностью всю композицию, используя простые и сложные элементы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ет цветовую гамму, но путает цвета фона, передать характер линии не всегда получается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тает хроматические и ахроматические цвет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ет цветовую гамму хроматические и ахроматические цвета, но иногда путает цвета фона. Нет четкой композиции в работе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рошо знает цветовую гамму, подбирает цвета, видит и украшает полностью всю композицию, используя простые и сложные элементы.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560"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чество и фантазия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исует только то, что видит. Нет творческой активности, самостоятельно всю работу не может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ляет композицию, но для этого надо иметь ребенку образцы перед глазами. Нужна незначительная помощь педагога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стоятельно придумывает композицию, дополняет изображение подходящими по замыслу элементами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трудняется выполнить работу самостоятельно, творческая активность низка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ляет композицию, но для этого надо иметь ребенку образцы перед глазами знает и соблюдает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тапы росписи – повтор, вариация, импровизация. Принимает участие в коллективной работ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ыстро и правильно самостоятельно придумывает композицию, дополняет изображение подходящими по замыслу элементами.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обен оказать помощь другим восп итанникам. Принимает активное участие в коллективной работе 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1332000" y="4149720"/>
          <a:ext cx="6553080" cy="18716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  <a:gridCol w="1638360"/>
                <a:gridCol w="1638360"/>
              </a:tblGrid>
              <a:tr h="62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з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0-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1-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506520" y="-23760"/>
            <a:ext cx="8265960" cy="14986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Picture 1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480000" cy="23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2386080"/>
                <a:gridCol w="2367000"/>
                <a:gridCol w="2160720"/>
                <a:gridCol w="1609560"/>
                <a:gridCol w="262080"/>
              </a:tblGrid>
              <a:tr h="785880">
                <a:tc gridSpan="5">
                  <a:txBody>
                    <a:bodyPr lIns="24840" rIns="24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снительная запи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ческая карта личностных достижений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2248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а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тивнос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выполнению ребёнок приступает только после дополнительных побуждений, во время работы часто отвлекается, при встрече с трудностями не стремится их преодолеть, расстраивается, отказывается от работы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 педагога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 Дети с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зким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уровнем требуют организации увлекательного учения, преобладания игровых технологий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бёнок активно включается в работу, но при первых же трудностях интерес угасает, вопросов задает немного, при помощи педагога способен к преодолению трудностей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 педагога: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и со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м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нем нуждаются в постоянной помощи, им необходимо переживание успеха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бенок проявляет выраженный интерес к предлагаемым заданиям, сам задает вопросы, прилагает усилия –к преодолению трудностей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 педагога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уровень требует обучения на высоком уровне трудности, возможности показать себя и самоутвердиться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формированность самостоятель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зко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стоятельный все время ждет помощи, одобрения, не видит своих ошибок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е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самостоятельный выполняет задание сам, а при проверке ориентируется на других детей и делает так, как у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о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стоятельный ребёнок сам берется за выполнение любого зад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628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 ум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бенок старается стоять «в сторонке», не вступает в контакт со сверстниками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 педагога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 Детям нужна поддержка, вселение уверенности в свои силы. Их нельзя заставлять быть контактными, а нужно обращать внимание других детей на их достоинства и постепенно включать в коллектив, давая маленькие поручения и хваля за их выполнение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тактность с учителем и неконтактность со сверстниками. Дети не инициативны в общении, однако проявляют общительность в ответ на чужую инициативу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 педагога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При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ем уровне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необходимы поощрения и поддержки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ициативен со всеми, указывает другим, как надо делать что-то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я педагога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Включать в групповые методы работы, не игнорировать их в процессе работы; нужно давать индивидуальные задания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152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мотив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ник без желания занимается в объединении (ходит с группой продленного дня, заставляют родители и т.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неустойчивый) уровень мотивации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ник с удовольствием заниматься, это доставляет ему радость, он хочет узнать как можно больше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9:24:55Z</dcterms:created>
  <dc:creator>123</dc:creator>
  <dc:description/>
  <dc:language>en-US</dc:language>
  <cp:lastModifiedBy>123</cp:lastModifiedBy>
  <dcterms:modified xsi:type="dcterms:W3CDTF">2013-03-24T21:14:50Z</dcterms:modified>
  <cp:revision>11</cp:revision>
  <dc:subject/>
  <dc:title>ДИАГНОСТИКА И ОТСЛЕЖИВАНИЕ РЕЗУЛЬТАТОВ ОБУЧЕНИЯ В ОБЪЕДИНЕНИИ «НАРОДНЫЕ ПРОМЫСЛЫ»</dc:title>
</cp:coreProperties>
</file>