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A50-E976-44C6-A709-E864578A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E08-BCDB-4916-BD0A-3AB49054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FD5-8E2D-4B7C-B831-0185E17B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6FF-A149-411C-8242-13C2295E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C14-8107-47C0-96F9-30642D85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4B6-A7C8-4C6C-AB24-E12F375F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A5D-A7B0-46D9-9C15-478FC0B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394-ED93-4917-8DE1-6B045C4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246-562B-488A-BBF9-368EABA1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3F3-EC00-429B-8BA5-1EAE48D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A85-5DAF-4165-A36C-52D1E65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443-5A39-4D11-A068-59AE713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357C-0C4D-4362-8D49-3E4CE8F78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69780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2:17Z</dcterms:modified>
  <cp:revision>3</cp:revision>
  <dc:subject/>
  <dc:title>Present your team</dc:title>
</cp:coreProperties>
</file>