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B866-F7C8-4537-A9B2-072D1BFE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55FF-EED3-4A13-B52B-372A90D6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690-50BD-408C-995F-F73901C6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C7B-4BDC-459B-A276-390BE63C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8A36-7F91-48C1-92B3-45C75B60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C8D-AC12-4473-862D-AB32B0FA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CC2-AEBF-4219-AE9F-1E3F3B2B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020-50ED-49CD-857F-405D36F3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E1F-A761-41CB-944C-F800E029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4643-175A-4375-8EB6-8E9994A9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FE90-AF7E-4DF6-9749-B5A0C655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ABCD-85B1-4452-978A-14831FC3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6824-6373-4A90-B11D-0CA45C2BA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2420640"/>
            <a:ext cx="6697800" cy="115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9:29:16Z</dcterms:created>
  <dc:creator>Ирина</dc:creator>
  <dc:description/>
  <dc:language>en-US</dc:language>
  <cp:lastModifiedBy>Ирина</cp:lastModifiedBy>
  <dcterms:modified xsi:type="dcterms:W3CDTF">2013-02-11T19:32:17Z</dcterms:modified>
  <cp:revision>3</cp:revision>
  <dc:subject/>
  <dc:title>Present your team</dc:title>
</cp:coreProperties>
</file>