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8A6D-85E7-4753-A195-907AF70E2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D554-9900-4C2B-868A-790CA2B0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C754-FBA2-451C-99C4-B58922AA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DB5B-ABC6-4DEC-A63A-541700835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34EA-EC5F-40A7-9C2C-EFBC69868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E711-16C9-4B71-BEB2-99197753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B69A-4BE4-4F33-BB1D-C8CB21B4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1D40-B05C-4C77-AC8C-93BBCF5E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0166-9305-42E1-A415-610ED50A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D92C-B289-47D3-96F2-5E7330B5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F234-0ADB-43CA-A84C-23D071EB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24D7-E6EC-427F-8269-CEE7058B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49C5-CB87-4AFE-A63F-0662360A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C1F1-7AF6-4F1B-AEF4-461D8183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7EEF-4DF9-412D-A1C8-7046DB54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1D8E-8FD1-43B0-81D7-869B8320F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E048-09D8-489D-B474-308A19AAA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E525-AB03-42B7-9C24-4F656070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1FDD-3787-4055-86C0-73985DCE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39BC-35D1-41E8-B56B-15BB234C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724A-5C4F-48C5-8CB1-BB3B5738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4EFB-4BEE-432F-8027-4DBFCAB8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085B-7199-4EDA-BE4F-DD0FCEE3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45DE-25C9-45EC-BCEB-FBAC5212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8110-EBD4-46B0-BFA7-DAD877C9BC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post-279854-1298288370.png"/>
          <p:cNvPicPr/>
          <p:nvPr/>
        </p:nvPicPr>
        <p:blipFill>
          <a:blip r:embed="rId3"/>
          <a:stretch/>
        </p:blipFill>
        <p:spPr>
          <a:xfrm>
            <a:off x="7500960" y="-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post-279854-1298288370.png"/>
          <p:cNvPicPr/>
          <p:nvPr/>
        </p:nvPicPr>
        <p:blipFill>
          <a:blip r:embed="rId4"/>
          <a:stretch/>
        </p:blipFill>
        <p:spPr>
          <a:xfrm>
            <a:off x="0" y="21420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97e6b01896c7.png"/>
          <p:cNvPicPr/>
          <p:nvPr/>
        </p:nvPicPr>
        <p:blipFill>
          <a:blip r:embed="rId5"/>
          <a:stretch/>
        </p:blipFill>
        <p:spPr>
          <a:xfrm rot="20340000">
            <a:off x="-628200" y="-348840"/>
            <a:ext cx="3330360" cy="2681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680E-A220-4E69-A3AF-3D94CE98BA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рок русского язы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47640" y="249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777528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47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ГАЗ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6438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1332000" y="1773360"/>
            <a:ext cx="648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Лист бумаги по утр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На квартиру носят к нам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На одном таком лист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Много разных новостей. 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042920" y="404640"/>
            <a:ext cx="7602480" cy="5976360"/>
            <a:chOff x="1042920" y="404640"/>
            <a:chExt cx="7602480" cy="597636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 rot="465600">
              <a:off x="6372360" y="4220640"/>
              <a:ext cx="2146320" cy="20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3"/>
            <a:stretch/>
          </p:blipFill>
          <p:spPr>
            <a:xfrm>
              <a:off x="1042920" y="404640"/>
              <a:ext cx="1978200" cy="132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11280" y="836640"/>
            <a:ext cx="583272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Заседание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редакционного  совет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32130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Georgia"/>
              </a:rPr>
              <a:t>ПХГЛСШАГКО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900000" y="3141720"/>
            <a:ext cx="6336000" cy="1366920"/>
            <a:chOff x="900000" y="3141720"/>
            <a:chExt cx="6336000" cy="1366920"/>
          </a:xfrm>
        </p:grpSpPr>
        <p:sp>
          <p:nvSpPr>
            <p:cNvPr id="97" name=""/>
            <p:cNvSpPr/>
            <p:nvPr/>
          </p:nvSpPr>
          <p:spPr>
            <a:xfrm>
              <a:off x="1619280" y="3141720"/>
              <a:ext cx="719280" cy="1295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00000" y="3141720"/>
              <a:ext cx="719280" cy="1295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35280" y="3213000"/>
              <a:ext cx="719280" cy="1295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56000" y="3141720"/>
              <a:ext cx="719280" cy="1295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516720" y="3213000"/>
              <a:ext cx="719280" cy="1295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2" name="Заголовок 1" descr=""/>
          <p:cNvPicPr/>
          <p:nvPr/>
        </p:nvPicPr>
        <p:blipFill>
          <a:blip r:embed="rId2"/>
          <a:stretch/>
        </p:blipFill>
        <p:spPr>
          <a:xfrm>
            <a:off x="900000" y="2349360"/>
            <a:ext cx="7777440" cy="3044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9640" y="476280"/>
            <a:ext cx="799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Monotype Corsiva"/>
              </a:rPr>
              <a:t>Школьная газета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71280" y="1412640"/>
            <a:ext cx="7561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“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Глагол – самая огнепышущая, самая живая часть речи. В глаголе струится самая алая, самая свежая, артериальная кровь языка. Да ведь и назначение глагола – выражать само действие! Учите глагол! Любите глагол!”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Алексей Кузьмич Юг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Заголовок 1" descr=""/>
          <p:cNvPicPr/>
          <p:nvPr/>
        </p:nvPicPr>
        <p:blipFill>
          <a:blip r:embed="rId2"/>
          <a:stretch/>
        </p:blipFill>
        <p:spPr>
          <a:xfrm>
            <a:off x="2771640" y="333360"/>
            <a:ext cx="309744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Monotype Corsiva"/>
              </a:rPr>
              <a:t>ИЗДАТЕЛЬСТВО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Monotype Corsiva"/>
              </a:rPr>
              <a:t> 4 «А» клас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Текст 2" descr=""/>
          <p:cNvPicPr/>
          <p:nvPr/>
        </p:nvPicPr>
        <p:blipFill>
          <a:blip r:embed="rId2"/>
          <a:stretch/>
        </p:blipFill>
        <p:spPr>
          <a:xfrm>
            <a:off x="1933560" y="1600200"/>
            <a:ext cx="5276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476360" y="836640"/>
            <a:ext cx="64818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пасибо 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за урок!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771640" y="3429000"/>
            <a:ext cx="355284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23:19:04Z</dcterms:created>
  <dc:creator>natasha23</dc:creator>
  <dc:description/>
  <dc:language>en-US</dc:language>
  <cp:lastModifiedBy>Мама</cp:lastModifiedBy>
  <dcterms:modified xsi:type="dcterms:W3CDTF">2013-03-25T01:06:14Z</dcterms:modified>
  <cp:revision>9</cp:revision>
  <dc:subject/>
  <dc:title>Слайд 1</dc:title>
</cp:coreProperties>
</file>