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118-AD47-450D-9255-928079D6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7AE-36DE-4C07-A272-CF56AF3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BA2-A6EF-4C27-9B4D-28FD52F1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6B1-2750-4A8F-8587-9416374A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44A4-785F-4020-9098-8CD6C5D9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032C-91CB-47E2-827B-D4E86BD9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057-9A48-4323-8AAC-F838CCBF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5211-B33B-4B8F-9000-E7CB76D6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1B44-A7DE-4DCB-B51D-22521CB8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55ED-F003-46F5-BB6B-BC53CD88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E6FA-1A16-4F41-AD63-9DCCA2E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B53-BFFD-4BA2-BE2F-A61FF03D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6DB1-CE67-4252-BAC2-81A9894B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6DEC-8EA3-4F50-BC52-05274EC9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B04-371D-4468-8CCD-FB28935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AAA6-4EC2-43F7-AF25-0B8691AE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3A94-3A79-4743-BB5E-44FEB533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836-049B-4968-9ADD-5BD620F3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F4D-A6A7-4F2D-86D2-B8F1BED2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40D-20AF-4F57-89DC-BAEEAD28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E0C-9CE7-4879-A412-383FDE0F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214-9CD8-4B98-B770-ECE3B77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418-1CB0-4B38-AC84-13F8079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51E-3449-44B1-B2C9-40DB5773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03BB-1F82-4638-A1AF-FD39CA6DB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4EFE-44EE-48C9-B376-DF6641C70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64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752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ГАЗ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643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773360"/>
            <a:ext cx="64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Лист бумаги по ут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На квартиру носят к на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На одном таком лис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Много разных новостей. 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42920" y="404640"/>
            <a:ext cx="7602480" cy="5976360"/>
            <a:chOff x="1042920" y="404640"/>
            <a:chExt cx="7602480" cy="59763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 rot="465600">
              <a:off x="6372360" y="4220640"/>
              <a:ext cx="2146320" cy="20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042920" y="404640"/>
              <a:ext cx="1978200" cy="132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836640"/>
            <a:ext cx="5832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Заседание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редакционного  сове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3213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eorgia"/>
              </a:rPr>
              <a:t>ПХГЛСШАГКО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00000" y="3141720"/>
            <a:ext cx="6336000" cy="1366920"/>
            <a:chOff x="900000" y="3141720"/>
            <a:chExt cx="6336000" cy="1366920"/>
          </a:xfrm>
        </p:grpSpPr>
        <p:sp>
          <p:nvSpPr>
            <p:cNvPr id="97" name=""/>
            <p:cNvSpPr/>
            <p:nvPr/>
          </p:nvSpPr>
          <p:spPr>
            <a:xfrm>
              <a:off x="1619280" y="3141720"/>
              <a:ext cx="71928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0000" y="3141720"/>
              <a:ext cx="71928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35280" y="3213000"/>
              <a:ext cx="719280" cy="129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56000" y="3141720"/>
              <a:ext cx="71928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16720" y="3213000"/>
              <a:ext cx="719280" cy="129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7777440" cy="3044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9640" y="47628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Школьная газета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280" y="1412640"/>
            <a:ext cx="756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“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лагол – самая огнепышущая, самая живая часть речи. В глаголе струится самая алая, самая свежая, артериальная кровь языка. Да ведь и назначение глагола – выражать само действие! Учите глагол! Любите глагол!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лексей Кузьмич Ю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2771640" y="333360"/>
            <a:ext cx="30974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ИЗДАТЕЛЬСТВО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 4 «А» клас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Текст 2" descr=""/>
          <p:cNvPicPr/>
          <p:nvPr/>
        </p:nvPicPr>
        <p:blipFill>
          <a:blip r:embed="rId2"/>
          <a:stretch/>
        </p:blipFill>
        <p:spPr>
          <a:xfrm>
            <a:off x="1933560" y="1600200"/>
            <a:ext cx="52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76360" y="836640"/>
            <a:ext cx="6481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за урок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771640" y="3429000"/>
            <a:ext cx="35528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Мама</cp:lastModifiedBy>
  <dcterms:modified xsi:type="dcterms:W3CDTF">2013-03-25T01:06:14Z</dcterms:modified>
  <cp:revision>9</cp:revision>
  <dc:subject/>
  <dc:title>Слайд 1</dc:title>
</cp:coreProperties>
</file>