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27E-0AF5-4316-A331-C90A1D80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DAA-9855-46F8-A57F-AD4500CE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1C6-EF26-430E-A787-E372C519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FD4-EA20-4B75-AC9F-0C5FB7F2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620-80A5-4817-8F0D-42CB7E01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E1A-2B6C-45BB-B07E-72DC423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37F-2857-4495-B64D-DCCA0C3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04A-A8C4-41CA-A7FD-51E6DECA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BA6-C42F-49F0-9696-9BDE36CD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4F1-1306-409E-9A05-EC4C5914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CC8-F1A2-47E1-AF8B-655C889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97D-2F48-4871-B511-CF8BA6D5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80B-C22A-48C2-88BC-EEF4C072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687708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port ou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its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1:30Z</dcterms:modified>
  <cp:revision>2</cp:revision>
  <dc:subject/>
  <dc:title>Present your team</dc:title>
</cp:coreProperties>
</file>