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7D43-CC2C-4A07-8208-4701BEBB8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F0A8-5207-4AFD-916D-49AAB524B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9B3A-F37C-4393-9EE9-029F4ADD2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807A-4511-4D15-920C-B2B4D60C5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AF01-F92D-4FB1-A4EC-C42E65319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7CB5-E789-44D6-B19E-C40FF8AD2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3E6C-0F8E-457C-80E8-BFD80C0E2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EA0B-794B-48A7-800F-00C51DCC1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2FA7-E037-4E53-9B6C-1CF19291F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8C4E-CC4B-4C38-9AF4-32B53648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A821-90B6-437F-8D20-4756670C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564F-6A4B-41CE-97DB-7F76BA29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7E293-3945-4228-8415-7E2A11616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58560" y="2420640"/>
            <a:ext cx="6877080" cy="208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ues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sport ou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f its descrip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1T19:29:16Z</dcterms:created>
  <dc:creator>Ирина</dc:creator>
  <dc:description/>
  <dc:language>en-US</dc:language>
  <cp:lastModifiedBy>Ирина</cp:lastModifiedBy>
  <dcterms:modified xsi:type="dcterms:W3CDTF">2013-02-11T19:31:30Z</dcterms:modified>
  <cp:revision>2</cp:revision>
  <dc:subject/>
  <dc:title>Present your team</dc:title>
</cp:coreProperties>
</file>