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CD0-1EC3-4089-8E5B-25F94569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3EF-3C40-46A3-A0DB-43367EDF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B12-D3BD-4672-8659-0FCBBFFD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230-8D3A-4D90-AFB4-9FC23153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5B8A-EE84-4554-94A9-7E1A0EEB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E892-E0A9-44F2-BC8B-3FEAC9C7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3426-D7F2-4D1D-B173-180082EB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0BAB-EC74-42D1-957F-13EE3896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6AD8-F4FF-469D-B98E-9F5CAC31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B40A-AFFD-4B2C-BFD0-B60B10C1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21E4-2581-432C-9AF6-B90A6D4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DCF-D30A-4E81-9569-E38F6E16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8496-B68F-4C5E-BA75-5098220A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3BB9-B7B4-4F89-B707-FDD705FB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9656-5862-430E-8368-56D97244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E20F-63EB-4E8F-A122-EBCA625C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334-80BE-4BFF-ACC1-5B795A85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BDD-23B7-472A-A02A-766DC5FF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1D3-3920-4D17-89C7-476DFF25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C3C-6878-4191-9B91-173F9FAB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73C-646B-48C3-BEB5-234D6F9B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BA6-2FAC-474E-BF3D-118D77C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EC3-95C0-4C85-9F0E-55265823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355-80DD-4B79-BD18-13B3FDB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B06B-73E3-480C-B011-A93C5D46A2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451-9E06-432D-8154-656E1A9127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2564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HEALTHY LIFESTYLE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789360"/>
            <a:ext cx="68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HEALTH IS BETTER THAN WEAL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AIM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F THE LESSON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o work on vocabulary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o practice reading and speech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To revise gramm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4021200"/>
            <a:ext cx="2879640" cy="20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13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2205000"/>
            <a:ext cx="388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et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limit the amount of sug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e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ergy bal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od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ergy requir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triti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gle 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56000" y="2205000"/>
            <a:ext cx="43927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глев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етическ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граничить колич-во саха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али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нергетич-ий балан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щевая промыш-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нергетич.потреб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ищев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ирать, отделя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22280"/>
            <a:ext cx="61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1. Vocabulary wor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52840" y="56736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Right sentences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8126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ead,potatoes and rice are all high in carbohydr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estern diet is generally thought to contain too much fat and sug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ity needs to attract more food industr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weight people sometimes join fitness clubs to help them lose we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se people are more at risk for diabetes and heart disea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Homework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o learn the new word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5:32:46Z</dcterms:created>
  <dc:creator>aidash</dc:creator>
  <dc:description/>
  <dc:language>en-US</dc:language>
  <cp:lastModifiedBy>aidash</cp:lastModifiedBy>
  <dcterms:modified xsi:type="dcterms:W3CDTF">2008-11-20T19:08:26Z</dcterms:modified>
  <cp:revision>5</cp:revision>
  <dc:subject/>
  <dc:title>HEALTHY LIFESTYLE</dc:title>
</cp:coreProperties>
</file>