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DDD-90D9-4551-83FD-9EE4D0F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356-2B68-4B42-8FBD-73C31FF7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F70-9513-46F5-894D-6847159D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FEE-0276-41F9-8852-67A7FEB5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11F0-726E-4420-8546-8EC97985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B1F1-CADE-458C-8F5E-92F4324C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5889-475C-4993-89B5-627FFB76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860B-E635-47B1-AF25-1E50D4D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10C4-7994-4681-8598-4BED8BA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56F3-E4CA-42BA-97B5-C8E7C24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1C9-A607-4005-AB59-4F1E87A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143-FF75-4D33-87B0-583A1C6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A92A-3AEB-4C36-835F-36D49C0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3F74-BCC1-4404-8C6E-63B3755A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DB54-C597-440D-986B-C1CD2DD2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23E-239F-4DA4-84C4-391613ED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E71B-7FDD-4123-8CC0-6E4E7E9D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843-FDE1-4394-8D81-FDD161EF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043-92C5-484B-9CD6-A56DD23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68D-7CA7-4F59-AAE0-56E4B3C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29E-8433-4FCF-AAEA-3901580F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78A-7D38-4099-B8ED-9A9ED2C5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054-2A75-4390-A649-D973ACB2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52C-6303-449D-9A4D-71C66A6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5BA9-B034-41C8-9599-F56B901AFE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C7B-575D-4F2B-A924-013EC578B0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2564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HEALTHY LIFESTYLE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789360"/>
            <a:ext cx="68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HEALTH IS BETTER THAN WEAL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AIM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F THE LESSON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o work on vocabulary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o practice reading and speech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o revise gramm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4021200"/>
            <a:ext cx="2879640" cy="20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13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2205000"/>
            <a:ext cx="388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et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limit the amount of su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ergy bal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od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ergy requir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triti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gle 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6000" y="2205000"/>
            <a:ext cx="43927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глев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етиче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граничить колич-во саха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али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нергетич-ий балан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щевая промыш-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нергетич.потреб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щев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ирать, отделя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22280"/>
            <a:ext cx="61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1. Vocabulary wor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52840" y="56736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Right sentences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8126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ad,potatoes and rice are all high in carbohydr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estern diet is generally thought to contain too much fat and sug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ity needs to attract more food industr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weight people sometimes join fitness clubs to help them lose we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se people are more at risk for diabetes and heart dise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Homework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o learn the new word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32:46Z</dcterms:created>
  <dc:creator>aidash</dc:creator>
  <dc:description/>
  <dc:language>en-US</dc:language>
  <cp:lastModifiedBy>aidash</cp:lastModifiedBy>
  <dcterms:modified xsi:type="dcterms:W3CDTF">2008-11-20T19:08:26Z</dcterms:modified>
  <cp:revision>5</cp:revision>
  <dc:subject/>
  <dc:title>HEALTHY LIFESTYLE</dc:title>
</cp:coreProperties>
</file>