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B07A5-DBD8-4A30-97FC-E82D4AA5A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111B4-3D8C-4842-95C8-469B73485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70815-BF70-4A07-89C0-8B2164DEE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20350-E729-4701-AEBC-4EE3E7522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C090F-CD58-4372-9E1F-F69F71A62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9ABFC-F96C-4FB2-949F-084CF614E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CAA01-28F1-46CD-AD91-B5541638E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00C3C-D8D8-4E15-A3AD-6F048BC7B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BF0C3-B0A8-4AA7-BCF7-F2EE28223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2AE21-4E03-45D5-AB60-C53CE3321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099FD-8849-4C97-AEA8-5CE71AA16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73BA4-742F-4A30-ACB6-62AF00360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E7880-B16C-4EBA-8F6F-5F74EEAE07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upload.wikimedia.org/wikipedia/commons/9/97/William_Holman_Hunt_-_The_Scapegoat.jpg" TargetMode="External"/><Relationship Id="rId3" Type="http://schemas.openxmlformats.org/officeDocument/2006/relationships/hyperlink" Target="http://upload.wikimedia.org/wikipedia/commons/9/97/William_Holman_Hunt_-_The_Scapegoat.jpg" TargetMode="External"/><Relationship Id="rId4" Type="http://schemas.openxmlformats.org/officeDocument/2006/relationships/hyperlink" Target="http://upload.wikimedia.org/wikipedia/commons/9/97/William_Holman_Hunt_-_The_Scapegoat.jpg" TargetMode="External"/><Relationship Id="rId5" Type="http://schemas.openxmlformats.org/officeDocument/2006/relationships/hyperlink" Target="http://upload.wikimedia.org/wikipedia/commons/9/97/William_Holman_Hunt_-_The_Scapegoat.jpg" TargetMode="External"/><Relationship Id="rId6" Type="http://schemas.openxmlformats.org/officeDocument/2006/relationships/hyperlink" Target="http://upload.wikimedia.org/wikipedia/commons/9/97/William_Holman_Hunt_-_The_Scapegoat.jpg" TargetMode="External"/><Relationship Id="rId7" Type="http://schemas.openxmlformats.org/officeDocument/2006/relationships/hyperlink" Target="http://upload.wikimedia.org/wikipedia/commons/9/97/William_Holman_Hunt_-_The_Scapegoat.jpg" TargetMode="External"/><Relationship Id="rId8" Type="http://schemas.openxmlformats.org/officeDocument/2006/relationships/hyperlink" Target="http://upload.wikimedia.org/wikipedia/commons/9/97/William_Holman_Hunt_-_The_Scapegoat.jpg" TargetMode="External"/><Relationship Id="rId9" Type="http://schemas.openxmlformats.org/officeDocument/2006/relationships/hyperlink" Target="http://upload.wikimedia.org/wikipedia/commons/9/97/William_Holman_Hunt_-_The_Scapegoat.jpg" TargetMode="External"/><Relationship Id="rId10" Type="http://schemas.openxmlformats.org/officeDocument/2006/relationships/hyperlink" Target="http://upload.wikimedia.org/wikipedia/commons/9/97/William_Holman_Hunt_-_The_Scapegoat.jpg" TargetMode="External"/><Relationship Id="rId11" Type="http://schemas.openxmlformats.org/officeDocument/2006/relationships/hyperlink" Target="http://www.literstih.ru/" TargetMode="External"/><Relationship Id="rId12" Type="http://schemas.openxmlformats.org/officeDocument/2006/relationships/hyperlink" Target="http://www.literstih.ru/" TargetMode="External"/><Relationship Id="rId13" Type="http://schemas.openxmlformats.org/officeDocument/2006/relationships/hyperlink" Target="http://www.literstih.ru/" TargetMode="External"/><Relationship Id="rId1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031840" y="1647720"/>
            <a:ext cx="5276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84360" y="1484280"/>
            <a:ext cx="79912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Arial"/>
              </a:rPr>
              <a:t>ИСПЫТАНИЕ СВОБОДОЙ, </a:t>
            </a:r>
            <a:br>
              <a:rPr sz="4400"/>
            </a:br>
            <a:r>
              <a:rPr b="1" lang="ru-RU" sz="4400" spc="-1" strike="noStrike">
                <a:solidFill>
                  <a:srgbClr val="333399"/>
                </a:solidFill>
                <a:latin typeface="Arial"/>
              </a:rPr>
              <a:t> ИЛИ КАК НЕ СТАТЬ </a:t>
            </a:r>
            <a:br>
              <a:rPr sz="4400"/>
            </a:br>
            <a:r>
              <a:rPr b="1" lang="ru-RU" sz="4400" spc="-1" strike="noStrike">
                <a:solidFill>
                  <a:srgbClr val="333399"/>
                </a:solidFill>
                <a:latin typeface="Arial"/>
              </a:rPr>
              <a:t>«КОЗЛОМ ОТПУЩЕНИЯ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27640" y="4097160"/>
            <a:ext cx="489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елякова Л.М., учитель русского языка, литературы и МХ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ОУ СОШ №35 города Рыбинск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андидат культуролог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-252360" y="-457200"/>
            <a:ext cx="9753480" cy="73152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684360" y="476280"/>
            <a:ext cx="8267400" cy="50734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 flipV="1" rot="10800000">
            <a:off x="2349360" y="5804280"/>
            <a:ext cx="444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99"/>
                </a:solidFill>
                <a:latin typeface="Arial"/>
              </a:rPr>
              <a:t>У. ХАНТ. КОЗЁЛ ОТПУЩЕНИЯ. 1856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826920" y="0"/>
            <a:ext cx="813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Песня про козла отпущения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ысоцкий Владимир Семёнов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484360" y="1654200"/>
            <a:ext cx="5904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заповеднике, вот в каком забыл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Жил да был козел, роги длинные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Хоть с волками жил — не по-волчьи выл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леял песенки, да все козлиные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 пощипывал он травку, и нагуливал бока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 услышать от него худого слова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олку было с него, правда, как с козла молока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о вреда, однако, тоже никаког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-324000" y="-2430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468360" y="26028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ИСПОЛЬЗОВАННЫЕ РЕСУРС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547640" y="1916280"/>
            <a:ext cx="63374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ильям Хант. Козёл отпущения. 185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://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upload.wikimedia.org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/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wikipedia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/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commons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/9/97/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William_Holman_Hunt_-_The_Scapegoat.jp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.С. Высоцкий. Песня про козла отпущ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http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://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www.literstih.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2T15:38:05Z</dcterms:created>
  <dc:creator>1</dc:creator>
  <dc:description/>
  <dc:language>en-US</dc:language>
  <cp:lastModifiedBy>1</cp:lastModifiedBy>
  <dcterms:modified xsi:type="dcterms:W3CDTF">2013-03-29T02:42:52Z</dcterms:modified>
  <cp:revision>4</cp:revision>
  <dc:subject/>
  <dc:title>ИСПЫТАНИЕ СВОБОДОЙ  (ИЛИ КАК НЕ СТАТЬ КОЗЛОМ ОТПУЩЕНИЯ</dc:title>
</cp:coreProperties>
</file>