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F11-9566-42B2-9DAA-053CFD7B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802-311A-4A35-9559-82883B22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6FC-1B9E-41A5-A69B-6751D37C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D3C-1DC2-461A-B93F-C9BA484F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7BE-2379-4AED-8D95-64EEB9F1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4C8-3890-41EE-A6A1-74663E6A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976-936F-4BD6-A68C-029D6A51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F4D-BFEE-4C60-ABF1-B5C75E7D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802-605F-41FF-BECF-9A0BADD4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122-B473-41C3-9ABF-68B4E328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13A-1488-4928-968C-1446357E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D49C-9B94-4A41-AA4A-B3077F43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BBF4-7A14-447A-A1F7-B8C2FBD12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9/97/William_Holman_Hunt_-_The_Scapegoat.jpg" TargetMode="External"/><Relationship Id="rId3" Type="http://schemas.openxmlformats.org/officeDocument/2006/relationships/hyperlink" Target="http://upload.wikimedia.org/wikipedia/commons/9/97/William_Holman_Hunt_-_The_Scapegoat.jpg" TargetMode="External"/><Relationship Id="rId4" Type="http://schemas.openxmlformats.org/officeDocument/2006/relationships/hyperlink" Target="http://upload.wikimedia.org/wikipedia/commons/9/97/William_Holman_Hunt_-_The_Scapegoat.jpg" TargetMode="External"/><Relationship Id="rId5" Type="http://schemas.openxmlformats.org/officeDocument/2006/relationships/hyperlink" Target="http://upload.wikimedia.org/wikipedia/commons/9/97/William_Holman_Hunt_-_The_Scapegoat.jpg" TargetMode="External"/><Relationship Id="rId6" Type="http://schemas.openxmlformats.org/officeDocument/2006/relationships/hyperlink" Target="http://upload.wikimedia.org/wikipedia/commons/9/97/William_Holman_Hunt_-_The_Scapegoat.jpg" TargetMode="External"/><Relationship Id="rId7" Type="http://schemas.openxmlformats.org/officeDocument/2006/relationships/hyperlink" Target="http://upload.wikimedia.org/wikipedia/commons/9/97/William_Holman_Hunt_-_The_Scapegoat.jpg" TargetMode="External"/><Relationship Id="rId8" Type="http://schemas.openxmlformats.org/officeDocument/2006/relationships/hyperlink" Target="http://upload.wikimedia.org/wikipedia/commons/9/97/William_Holman_Hunt_-_The_Scapegoat.jpg" TargetMode="External"/><Relationship Id="rId9" Type="http://schemas.openxmlformats.org/officeDocument/2006/relationships/hyperlink" Target="http://upload.wikimedia.org/wikipedia/commons/9/97/William_Holman_Hunt_-_The_Scapegoat.jpg" TargetMode="External"/><Relationship Id="rId10" Type="http://schemas.openxmlformats.org/officeDocument/2006/relationships/hyperlink" Target="http://upload.wikimedia.org/wikipedia/commons/9/97/William_Holman_Hunt_-_The_Scapegoat.jpg" TargetMode="External"/><Relationship Id="rId11" Type="http://schemas.openxmlformats.org/officeDocument/2006/relationships/hyperlink" Target="http://www.literstih.ru/" TargetMode="External"/><Relationship Id="rId12" Type="http://schemas.openxmlformats.org/officeDocument/2006/relationships/hyperlink" Target="http://www.literstih.ru/" TargetMode="External"/><Relationship Id="rId13" Type="http://schemas.openxmlformats.org/officeDocument/2006/relationships/hyperlink" Target="http://www.literstih.ru/" TargetMode="External"/><Relationship Id="rId1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31840" y="1647720"/>
            <a:ext cx="527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484280"/>
            <a:ext cx="799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СПЫТАНИЕ СВОБОДОЙ,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ИЛИ КАК НЕ СТАТЬ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«КОЗЛОМ ОТПУЩ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409716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якова Л.М., учитель русского языка, литературы и МХ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СОШ №35 города Рыбинс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ндидат культур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5236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8267400" cy="507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 rot="10800000">
            <a:off x="2349360" y="58042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У. ХАНТ. КОЗЁЛ ОТПУЩЕНИЯ. 185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есня про козла отпущения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цкий Владимир Семё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654200"/>
            <a:ext cx="590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поведнике, вот в каком забы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 да был козел, роги длинны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ь с волками жил — не по-волчьи вы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еял песенки, да все козлины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щипывал он травку, и нагуливал бо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слышать от него худого сло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ку было с него, правда, как с козла моло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вреда, однако, тоже ника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СПОЛЬЗОВАНН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1916280"/>
            <a:ext cx="633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ильям Хант. Козёл отпущения. 18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pload.wikimedia.or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pedia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ommon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9/97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illiam_Holman_Hunt_-_The_Scapegoat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С. Высоцкий. Песня про козла отпу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literstih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38:05Z</dcterms:created>
  <dc:creator>1</dc:creator>
  <dc:description/>
  <dc:language>en-US</dc:language>
  <cp:lastModifiedBy>1</cp:lastModifiedBy>
  <dcterms:modified xsi:type="dcterms:W3CDTF">2013-03-29T02:42:52Z</dcterms:modified>
  <cp:revision>4</cp:revision>
  <dc:subject/>
  <dc:title>ИСПЫТАНИЕ СВОБОДОЙ  (ИЛИ КАК НЕ СТАТЬ КОЗЛОМ ОТПУЩЕНИЯ</dc:title>
</cp:coreProperties>
</file>