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laser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8D9B-368B-41D9-8E10-96001189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A2AD-36E9-4B5D-B5CD-0D35B72E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B77E-E7F2-4936-B59F-A033CBE6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F361-E40E-42DF-9783-7840FD2A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CDF7-FD3A-4FA5-9102-88CCBD36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8E06-44CC-4A81-B796-26EB6D3C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FE9F-ED2C-4147-A592-E31F6CF9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A699-3AEE-440B-9D0A-F1A5583B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1760-6060-4F25-AF60-E9A364D4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9222-BAAF-4921-804F-3BCBE655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5B74-7A20-44A8-8C96-7E7225E2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7DF1-8CB6-4C5D-8087-B7B84CA0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AB51-AC53-4BBF-A5B8-39C96569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4651-B6A1-4158-95D7-AAC1E8B4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3DE2-5A9E-4023-8DA9-E4F76572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F1B9-3436-4D74-80DE-610040E0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1339-85A4-422B-9D3D-788D2289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54D4-F5E7-4DDA-880B-2257C2B0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DED6-115B-4DF8-9CC7-D489A18B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183-DFAA-4EE7-A1C5-B9648617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18F7-D14B-4060-A141-37306926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AB49-3A74-402C-878D-4426FA5D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CB0E-CCDF-4561-8F1E-904BD30A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FCC1-F020-488B-A171-0D3186AF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A9A8-2221-4556-A0DA-10346C5FDC6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C8B1-B374-4605-91DF-F82D375FF28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62320" y="1905120"/>
            <a:ext cx="5105160" cy="2590560"/>
          </a:xfrm>
          <a:prstGeom prst="flowChartMultidocument">
            <a:avLst/>
          </a:prstGeom>
          <a:gradFill rotWithShape="0">
            <a:gsLst>
              <a:gs pos="0">
                <a:srgbClr val="000099"/>
              </a:gs>
              <a:gs pos="50000">
                <a:srgbClr val="00ccff"/>
              </a:gs>
              <a:gs pos="100000">
                <a:srgbClr val="0000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ffff00"/>
                </a:solidFill>
                <a:latin typeface="Arial"/>
              </a:rPr>
              <a:t>Массивы</a:t>
            </a:r>
            <a:endParaRPr b="0" lang="en-US" sz="6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0" name="BD21297_" descr=""/>
          <p:cNvPicPr/>
          <p:nvPr/>
        </p:nvPicPr>
        <p:blipFill>
          <a:blip r:embed="rId1"/>
          <a:stretch/>
        </p:blipFill>
        <p:spPr>
          <a:xfrm>
            <a:off x="2057400" y="3962520"/>
            <a:ext cx="760320" cy="69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852E-AA61-4939-AEC3-0509834CD3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04920" y="2286000"/>
            <a:ext cx="8458200" cy="38862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100000">
                <a:srgbClr val="21218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68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66"/>
                </a:solidFill>
                <a:latin typeface="Arial"/>
                <a:ea typeface="Times New Roman"/>
              </a:rPr>
              <a:t>svz</a:t>
            </a:r>
            <a:r>
              <a:rPr b="1" lang="en-US" sz="3400" spc="-1" strike="noStrike">
                <a:solidFill>
                  <a:srgbClr val="99ff66"/>
                </a:solidFill>
                <a:latin typeface="Arial"/>
                <a:ea typeface="Times New Roman"/>
              </a:rPr>
              <a:t>: array [byte] of integer;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описан массив из 256 целых чисел с индексами  стандартного  типа byte (от 0 до 255)}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400" spc="-1" strike="noStrike">
                <a:solidFill>
                  <a:srgbClr val="ffcc66"/>
                </a:solidFill>
                <a:latin typeface="Times New Roman"/>
              </a:rPr>
              <a:t>Какие массивы описаны ниже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66"/>
                </a:solidFill>
                <a:latin typeface="Arial"/>
              </a:rPr>
              <a:t>      </a:t>
            </a:r>
            <a:r>
              <a:rPr b="1" lang="en-US" sz="3400" spc="-1" strike="noStrike">
                <a:solidFill>
                  <a:srgbClr val="ffcc66"/>
                </a:solidFill>
                <a:latin typeface="Arial"/>
              </a:rPr>
              <a:t>Vin: array [‘a’..’d’] of 1..20;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66"/>
                </a:solidFill>
                <a:latin typeface="Arial"/>
              </a:rPr>
              <a:t>      </a:t>
            </a:r>
            <a:r>
              <a:rPr b="1" lang="en-US" sz="3400" spc="-1" strike="noStrike">
                <a:solidFill>
                  <a:srgbClr val="ffcc66"/>
                </a:solidFill>
                <a:latin typeface="Arial"/>
              </a:rPr>
              <a:t>En: array [a, g, t, d] of real;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66"/>
                </a:solidFill>
                <a:latin typeface="Arial"/>
              </a:rPr>
              <a:t>      </a:t>
            </a:r>
            <a:r>
              <a:rPr b="1" lang="en-US" sz="3400" spc="-1" strike="noStrike">
                <a:solidFill>
                  <a:srgbClr val="ffcc66"/>
                </a:solidFill>
                <a:latin typeface="Arial"/>
              </a:rPr>
              <a:t>Otti: array [byte] of boolean;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8377-1954-458B-B476-E0B8CCB03FA3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Объясните значение следующих понятий: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8" name="Puzzle5"/>
          <p:cNvSpPr/>
          <p:nvPr/>
        </p:nvSpPr>
        <p:spPr>
          <a:xfrm>
            <a:off x="4894200" y="2530440"/>
            <a:ext cx="3792600" cy="218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uzzle2"/>
          <p:cNvSpPr/>
          <p:nvPr/>
        </p:nvSpPr>
        <p:spPr>
          <a:xfrm>
            <a:off x="2666880" y="4605480"/>
            <a:ext cx="3792600" cy="194760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uzzle3"/>
          <p:cNvSpPr/>
          <p:nvPr/>
        </p:nvSpPr>
        <p:spPr>
          <a:xfrm>
            <a:off x="5562720" y="3886200"/>
            <a:ext cx="2396880" cy="26668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uzzle4"/>
          <p:cNvSpPr/>
          <p:nvPr/>
        </p:nvSpPr>
        <p:spPr>
          <a:xfrm>
            <a:off x="3429000" y="2514600"/>
            <a:ext cx="2252520" cy="285768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</a:rPr>
              <a:t>By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uzzle5"/>
          <p:cNvSpPr/>
          <p:nvPr/>
        </p:nvSpPr>
        <p:spPr>
          <a:xfrm>
            <a:off x="533520" y="2514600"/>
            <a:ext cx="3792240" cy="21891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uzzle3"/>
          <p:cNvSpPr/>
          <p:nvPr/>
        </p:nvSpPr>
        <p:spPr>
          <a:xfrm>
            <a:off x="1216080" y="3908520"/>
            <a:ext cx="2398680" cy="2568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Тип элементов       масси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uzzle2"/>
          <p:cNvSpPr/>
          <p:nvPr/>
        </p:nvSpPr>
        <p:spPr>
          <a:xfrm>
            <a:off x="2670120" y="1468440"/>
            <a:ext cx="3792600" cy="171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ндек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uzzle3"/>
          <p:cNvSpPr/>
          <p:nvPr/>
        </p:nvSpPr>
        <p:spPr>
          <a:xfrm>
            <a:off x="5562720" y="762120"/>
            <a:ext cx="2398680" cy="240804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uzzle3"/>
          <p:cNvSpPr/>
          <p:nvPr/>
        </p:nvSpPr>
        <p:spPr>
          <a:xfrm>
            <a:off x="1220760" y="770040"/>
            <a:ext cx="2397240" cy="240804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4280" y="1523880"/>
            <a:ext cx="14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Масси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77240" y="342900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oo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48520" y="3276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6280" y="335268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51600">
            <a:off x="3276360" y="5257440"/>
            <a:ext cx="350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Объявление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40200">
            <a:off x="4495320" y="5486400"/>
            <a:ext cx="175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imes New Roman"/>
              </a:rPr>
              <a:t>массив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8960" y="4572000"/>
            <a:ext cx="23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Формирова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масс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72200" y="1600200"/>
            <a:ext cx="1295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355D-CC4E-4C46-9AFF-B3A1EE57617D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62120" y="0"/>
            <a:ext cx="777240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7500"/>
                    </a:gs>
                    <a:gs pos="5000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latin typeface="Impact"/>
              </a:rPr>
              <a:t>Способы 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7500"/>
                  </a:gs>
                  <a:gs pos="50000">
                    <a:srgbClr val="ffff00"/>
                  </a:gs>
                  <a:gs pos="100000">
                    <a:srgbClr val="7575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7500"/>
                    </a:gs>
                    <a:gs pos="5000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latin typeface="Impact"/>
              </a:rPr>
              <a:t>формирования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7500"/>
                  </a:gs>
                  <a:gs pos="50000">
                    <a:srgbClr val="ffff00"/>
                  </a:gs>
                  <a:gs pos="100000">
                    <a:srgbClr val="7575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7500"/>
                    </a:gs>
                    <a:gs pos="5000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latin typeface="Impact"/>
              </a:rPr>
              <a:t>массивов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7500"/>
                  </a:gs>
                  <a:gs pos="50000">
                    <a:srgbClr val="ffff00"/>
                  </a:gs>
                  <a:gs pos="100000">
                    <a:srgbClr val="7575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219320" y="4038480"/>
            <a:ext cx="3200400" cy="2057400"/>
            <a:chOff x="1219320" y="4038480"/>
            <a:chExt cx="3200400" cy="2057400"/>
          </a:xfrm>
        </p:grpSpPr>
        <p:sp>
          <p:nvSpPr>
            <p:cNvPr id="197" name=""/>
            <p:cNvSpPr/>
            <p:nvPr/>
          </p:nvSpPr>
          <p:spPr>
            <a:xfrm>
              <a:off x="1219320" y="56386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81440" y="56386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43560" y="56386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05320" y="56386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47920" y="4876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10040" y="4876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72160" y="4876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4876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76520" y="40384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38640" y="40384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00760" y="40384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62520" y="40384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267080" y="4038480"/>
            <a:ext cx="3200400" cy="2057400"/>
            <a:chOff x="4267080" y="4038480"/>
            <a:chExt cx="3200400" cy="2057400"/>
          </a:xfrm>
        </p:grpSpPr>
        <p:sp>
          <p:nvSpPr>
            <p:cNvPr id="210" name=""/>
            <p:cNvSpPr/>
            <p:nvPr/>
          </p:nvSpPr>
          <p:spPr>
            <a:xfrm>
              <a:off x="4267080" y="56386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29200" y="56386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91320" y="56386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53080" y="56386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95680" y="4876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57800" y="4876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19920" y="4876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4876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24280" y="40384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86400" y="40384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48520" y="40384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10280" y="40384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47B6-202B-4AB4-A859-1F958D222BE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BD21297_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1143000" cy="1044360"/>
          </a:xfrm>
          <a:prstGeom prst="rect">
            <a:avLst/>
          </a:prstGeom>
          <a:ln w="0">
            <a:noFill/>
          </a:ln>
        </p:spPr>
      </p:pic>
      <p:pic>
        <p:nvPicPr>
          <p:cNvPr id="223" name="BD21297_" descr=""/>
          <p:cNvPicPr/>
          <p:nvPr/>
        </p:nvPicPr>
        <p:blipFill>
          <a:blip r:embed="rId2"/>
          <a:stretch/>
        </p:blipFill>
        <p:spPr>
          <a:xfrm>
            <a:off x="7620120" y="914400"/>
            <a:ext cx="1143000" cy="1044720"/>
          </a:xfrm>
          <a:prstGeom prst="rect">
            <a:avLst/>
          </a:prstGeom>
          <a:ln w="0">
            <a:noFill/>
          </a:ln>
        </p:spPr>
      </p:pic>
      <p:pic>
        <p:nvPicPr>
          <p:cNvPr id="224" name="BD21297_" descr=""/>
          <p:cNvPicPr/>
          <p:nvPr/>
        </p:nvPicPr>
        <p:blipFill>
          <a:blip r:embed="rId3"/>
          <a:stretch/>
        </p:blipFill>
        <p:spPr>
          <a:xfrm>
            <a:off x="7391520" y="4724280"/>
            <a:ext cx="1143000" cy="1044720"/>
          </a:xfrm>
          <a:prstGeom prst="rect">
            <a:avLst/>
          </a:prstGeom>
          <a:ln w="0">
            <a:noFill/>
          </a:ln>
        </p:spPr>
      </p:pic>
      <p:pic>
        <p:nvPicPr>
          <p:cNvPr id="225" name="BD21297_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1143000" cy="1044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143000" y="1447920"/>
            <a:ext cx="7086600" cy="39621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2d2d00"/>
              </a:gs>
              <a:gs pos="100000">
                <a:srgbClr val="ffff00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802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cc66"/>
                </a:solidFill>
                <a:uFillTx/>
                <a:latin typeface="Monotype Corsiva"/>
                <a:ea typeface="Times New Roman"/>
              </a:rPr>
              <a:t>Способы формирования массивов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боте с массивами, в зависимости от условия могут использоваться разные типы циклов. Мы воспользуемся циклом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FOR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…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TO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…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O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”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E926-864B-4F18-A8FA-19CA5BC7B89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BD21297_" descr=""/>
          <p:cNvPicPr/>
          <p:nvPr/>
        </p:nvPicPr>
        <p:blipFill>
          <a:blip r:embed="rId1"/>
          <a:stretch/>
        </p:blipFill>
        <p:spPr>
          <a:xfrm>
            <a:off x="7848720" y="5638680"/>
            <a:ext cx="914400" cy="835200"/>
          </a:xfrm>
          <a:prstGeom prst="rect">
            <a:avLst/>
          </a:prstGeom>
          <a:ln w="0">
            <a:noFill/>
          </a:ln>
        </p:spPr>
      </p:pic>
      <p:pic>
        <p:nvPicPr>
          <p:cNvPr id="230" name="BD21297_" descr=""/>
          <p:cNvPicPr/>
          <p:nvPr/>
        </p:nvPicPr>
        <p:blipFill>
          <a:blip r:embed="rId2"/>
          <a:stretch/>
        </p:blipFill>
        <p:spPr>
          <a:xfrm>
            <a:off x="7848720" y="3657600"/>
            <a:ext cx="914400" cy="835200"/>
          </a:xfrm>
          <a:prstGeom prst="rect">
            <a:avLst/>
          </a:prstGeom>
          <a:ln w="0">
            <a:noFill/>
          </a:ln>
        </p:spPr>
      </p:pic>
      <p:pic>
        <p:nvPicPr>
          <p:cNvPr id="231" name="BD21297_" descr=""/>
          <p:cNvPicPr/>
          <p:nvPr/>
        </p:nvPicPr>
        <p:blipFill>
          <a:blip r:embed="rId3"/>
          <a:stretch/>
        </p:blipFill>
        <p:spPr>
          <a:xfrm>
            <a:off x="609480" y="5562720"/>
            <a:ext cx="914400" cy="834840"/>
          </a:xfrm>
          <a:prstGeom prst="rect">
            <a:avLst/>
          </a:prstGeom>
          <a:ln w="0">
            <a:noFill/>
          </a:ln>
        </p:spPr>
      </p:pic>
      <p:pic>
        <p:nvPicPr>
          <p:cNvPr id="232" name="BD21297_" descr=""/>
          <p:cNvPicPr/>
          <p:nvPr/>
        </p:nvPicPr>
        <p:blipFill>
          <a:blip r:embed="rId4"/>
          <a:stretch/>
        </p:blipFill>
        <p:spPr>
          <a:xfrm>
            <a:off x="609480" y="3727440"/>
            <a:ext cx="914400" cy="835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143000" y="3962520"/>
            <a:ext cx="7086600" cy="19047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2d2d00"/>
              </a:gs>
              <a:gs pos="100000">
                <a:srgbClr val="ffff00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79000"/>
          </a:bodyPr>
          <a:p>
            <a:pPr indent="0" algn="ctr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. 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Запрос значений элементов в ходе выполнения программ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Нижеприведённый фрагмент демонстрирует запрос 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n</a:t>
            </a:r>
            <a:r>
              <a:rPr b="1" i="1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элементов массива с именем </a:t>
            </a:r>
            <a:r>
              <a:rPr b="1" i="1" lang="en-US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K</a:t>
            </a:r>
            <a:r>
              <a:rPr b="1" i="1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.</a:t>
            </a:r>
            <a:r>
              <a:rPr b="1" i="1" lang="ru-RU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ritel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‘Введите’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‘ элементо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сива’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 I:=1 to n do   read(K[I]);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43000" y="1905120"/>
            <a:ext cx="6705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DE7E-5D15-44A9-8F62-20DBEFC40C3D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BD21297_" descr=""/>
          <p:cNvPicPr/>
          <p:nvPr/>
        </p:nvPicPr>
        <p:blipFill>
          <a:blip r:embed="rId1"/>
          <a:stretch/>
        </p:blipFill>
        <p:spPr>
          <a:xfrm>
            <a:off x="2209680" y="3429000"/>
            <a:ext cx="914400" cy="835200"/>
          </a:xfrm>
          <a:prstGeom prst="rect">
            <a:avLst/>
          </a:prstGeom>
          <a:ln w="0">
            <a:noFill/>
          </a:ln>
        </p:spPr>
      </p:pic>
      <p:pic>
        <p:nvPicPr>
          <p:cNvPr id="237" name="BD21297_" descr=""/>
          <p:cNvPicPr/>
          <p:nvPr/>
        </p:nvPicPr>
        <p:blipFill>
          <a:blip r:embed="rId2"/>
          <a:stretch/>
        </p:blipFill>
        <p:spPr>
          <a:xfrm>
            <a:off x="7467480" y="3505320"/>
            <a:ext cx="914400" cy="834840"/>
          </a:xfrm>
          <a:prstGeom prst="rect">
            <a:avLst/>
          </a:prstGeom>
          <a:ln w="0">
            <a:noFill/>
          </a:ln>
        </p:spPr>
      </p:pic>
      <p:pic>
        <p:nvPicPr>
          <p:cNvPr id="238" name="BD21297_" descr=""/>
          <p:cNvPicPr/>
          <p:nvPr/>
        </p:nvPicPr>
        <p:blipFill>
          <a:blip r:embed="rId3"/>
          <a:stretch/>
        </p:blipFill>
        <p:spPr>
          <a:xfrm>
            <a:off x="7391520" y="5638680"/>
            <a:ext cx="914400" cy="835200"/>
          </a:xfrm>
          <a:prstGeom prst="rect">
            <a:avLst/>
          </a:prstGeom>
          <a:ln w="0">
            <a:noFill/>
          </a:ln>
        </p:spPr>
      </p:pic>
      <p:pic>
        <p:nvPicPr>
          <p:cNvPr id="239" name="BD21297_" descr=""/>
          <p:cNvPicPr/>
          <p:nvPr/>
        </p:nvPicPr>
        <p:blipFill>
          <a:blip r:embed="rId4"/>
          <a:stretch/>
        </p:blipFill>
        <p:spPr>
          <a:xfrm>
            <a:off x="2209680" y="5562720"/>
            <a:ext cx="914400" cy="8348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819520" y="3657600"/>
            <a:ext cx="5029200" cy="2286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2d2d00"/>
              </a:gs>
              <a:gs pos="100000">
                <a:srgbClr val="ffff00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79000"/>
          </a:bodyPr>
          <a:p>
            <a:pPr indent="0" algn="ctr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II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.   Формирование массива с помощью арифметического выражения.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При таком способе формирования для наглядности желательно выводить полученный массив на экран, т.к. глядя на формулу, бывает трудно сразу определить, чему равны его элементы.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 I:=1 to n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egin   K[I]:=3*sqr(I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K[I],’ ‘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70A5-9240-420F-BE3D-ACA8F837380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09120" y="9144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7000"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II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. Формирование массива с помощью генератора случайных чисе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есь используется ключевое слово</a:t>
            </a:r>
            <a:r>
              <a:rPr b="1" lang="ru-RU" sz="3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cc66"/>
                </a:solidFill>
                <a:latin typeface="Arial"/>
                <a:ea typeface="Times New Roman"/>
              </a:rPr>
              <a:t>Random</a:t>
            </a:r>
            <a:r>
              <a:rPr b="1" lang="ru-RU" sz="3000" spc="-1" strike="noStrike">
                <a:solidFill>
                  <a:srgbClr val="ffcc66"/>
                </a:solidFill>
                <a:latin typeface="Arial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ffcc66"/>
                </a:solidFill>
                <a:latin typeface="Arial"/>
                <a:ea typeface="Times New Roman"/>
              </a:rPr>
              <a:t>n</a:t>
            </a:r>
            <a:r>
              <a:rPr b="1" lang="ru-RU" sz="3000" spc="-1" strike="noStrike">
                <a:solidFill>
                  <a:srgbClr val="ffcc66"/>
                </a:solidFill>
                <a:latin typeface="Arial"/>
                <a:ea typeface="Times New Roman"/>
              </a:rPr>
              <a:t>)</a:t>
            </a:r>
            <a:r>
              <a:rPr b="1" lang="ru-RU" sz="3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генератор случайных целых чисел в промежутке [0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требуется сформировать массив, элементы которого лежат в диапазоне от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о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используется выражение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cc66"/>
                </a:solidFill>
                <a:latin typeface="Arial"/>
                <a:ea typeface="Times New Roman"/>
              </a:rPr>
              <a:t>Random</a:t>
            </a:r>
            <a:r>
              <a:rPr b="1" lang="ru-RU" sz="3000" spc="-1" strike="noStrike">
                <a:solidFill>
                  <a:srgbClr val="ffcc66"/>
                </a:solidFill>
                <a:latin typeface="Arial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ffcc66"/>
                </a:solidFill>
                <a:latin typeface="Arial"/>
                <a:ea typeface="Times New Roman"/>
              </a:rPr>
              <a:t>b</a:t>
            </a:r>
            <a:r>
              <a:rPr b="1" lang="ru-RU" sz="3000" spc="-1" strike="noStrike">
                <a:solidFill>
                  <a:srgbClr val="ffcc66"/>
                </a:solidFill>
                <a:latin typeface="Arial"/>
                <a:ea typeface="Times New Roman"/>
              </a:rPr>
              <a:t>-</a:t>
            </a:r>
            <a:r>
              <a:rPr b="1" lang="en-US" sz="3000" spc="-1" strike="noStrike">
                <a:solidFill>
                  <a:srgbClr val="ffcc66"/>
                </a:solidFill>
                <a:latin typeface="Arial"/>
                <a:ea typeface="Times New Roman"/>
              </a:rPr>
              <a:t>a</a:t>
            </a:r>
            <a:r>
              <a:rPr b="1" lang="ru-RU" sz="3000" spc="-1" strike="noStrike">
                <a:solidFill>
                  <a:srgbClr val="ffcc66"/>
                </a:solidFill>
                <a:latin typeface="Arial"/>
                <a:ea typeface="Times New Roman"/>
              </a:rPr>
              <a:t>)+</a:t>
            </a:r>
            <a:r>
              <a:rPr b="1" lang="en-US" sz="3000" spc="-1" strike="noStrike">
                <a:solidFill>
                  <a:srgbClr val="ffcc66"/>
                </a:solidFill>
                <a:latin typeface="Arial"/>
                <a:ea typeface="Times New Roman"/>
              </a:rPr>
              <a:t>a</a:t>
            </a:r>
            <a:r>
              <a:rPr b="1" lang="ru-RU" sz="3000" spc="-1" strike="noStrike">
                <a:solidFill>
                  <a:srgbClr val="ffcc66"/>
                </a:solidFill>
                <a:latin typeface="Arial"/>
                <a:ea typeface="Times New Roman"/>
              </a:rPr>
              <a:t>.</a:t>
            </a:r>
            <a:r>
              <a:rPr b="1" lang="ru-RU" sz="3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BEDB-ABA1-440C-B3DB-5AD02D152897}" type="slidenum">
              <a:t>16</a:t>
            </a:fld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BD21297_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990720" cy="906480"/>
          </a:xfrm>
          <a:prstGeom prst="rect">
            <a:avLst/>
          </a:prstGeom>
          <a:ln w="0">
            <a:noFill/>
          </a:ln>
        </p:spPr>
      </p:pic>
      <p:pic>
        <p:nvPicPr>
          <p:cNvPr id="244" name="BD21297_" descr=""/>
          <p:cNvPicPr/>
          <p:nvPr/>
        </p:nvPicPr>
        <p:blipFill>
          <a:blip r:embed="rId2"/>
          <a:stretch/>
        </p:blipFill>
        <p:spPr>
          <a:xfrm>
            <a:off x="7543800" y="3193920"/>
            <a:ext cx="914400" cy="835200"/>
          </a:xfrm>
          <a:prstGeom prst="rect">
            <a:avLst/>
          </a:prstGeom>
          <a:ln w="0">
            <a:noFill/>
          </a:ln>
        </p:spPr>
      </p:pic>
      <p:pic>
        <p:nvPicPr>
          <p:cNvPr id="245" name="BD21297_" descr=""/>
          <p:cNvPicPr/>
          <p:nvPr/>
        </p:nvPicPr>
        <p:blipFill>
          <a:blip r:embed="rId3"/>
          <a:stretch/>
        </p:blipFill>
        <p:spPr>
          <a:xfrm>
            <a:off x="7467480" y="5638680"/>
            <a:ext cx="914400" cy="835200"/>
          </a:xfrm>
          <a:prstGeom prst="rect">
            <a:avLst/>
          </a:prstGeom>
          <a:ln w="0">
            <a:noFill/>
          </a:ln>
        </p:spPr>
      </p:pic>
      <p:pic>
        <p:nvPicPr>
          <p:cNvPr id="246" name="BD21297_" descr=""/>
          <p:cNvPicPr/>
          <p:nvPr/>
        </p:nvPicPr>
        <p:blipFill>
          <a:blip r:embed="rId4"/>
          <a:stretch/>
        </p:blipFill>
        <p:spPr>
          <a:xfrm>
            <a:off x="2209680" y="5562720"/>
            <a:ext cx="990720" cy="9046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819520" y="3505320"/>
            <a:ext cx="5029200" cy="27432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2d2d00"/>
              </a:gs>
              <a:gs pos="100000">
                <a:srgbClr val="ffff00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1000"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ычно в паре с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dom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спользуется оператор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domize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устанавливающий зависимость случайных чисел от времени запуска программы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ize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I:=1 to 10 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[I]:=random(15)-10;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(ma[I],' ');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B96C-B22F-41C9-B30E-DCB36A0403B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  <a:ea typeface="Arial"/>
              </a:rPr>
              <a:t>Нахождение суммы, произведения, количества элементов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762120" y="1523880"/>
          <a:ext cx="7772400" cy="289584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извед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личе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:=0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 I:=1 to n 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f &lt;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ловие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gt; then S:=S+a(i);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:=1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 I:=1 to n 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f &lt;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ловие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gt; then P:=P*a(i);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=0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 I=1 to n 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f &lt;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ловие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gt; then K=K+1;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62120" y="502920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есь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сумма,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произведение,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количество элементов массива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5F52-6329-484B-8617-478816B036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     </a:t>
            </a:r>
            <a:r>
              <a:rPr b="1" lang="ru-RU" sz="3200" spc="-1" strike="noStrike">
                <a:solidFill>
                  <a:srgbClr val="ffcc66"/>
                </a:solidFill>
                <a:latin typeface="Monotype Corsiva"/>
                <a:ea typeface="Times New Roman"/>
              </a:rPr>
              <a:t>Какие задачи решают следующие фрагменты программ?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762120" y="1676520"/>
          <a:ext cx="7772400" cy="45370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22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 S:=0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 I:=1 to n 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f a(i) mod 2=0 then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:=S+a(i)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) T:=0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 I:=1 to n 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f a(i)&lt;=i  then T:=T+1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) S:=0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 I:=1 to n 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f (a(i) &lt;5)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 (a(i)&gt;8.5) then S:=S+a(i)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) R:=1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 I:=1 to n 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:=R*a(i)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5BEE-2169-4880-AEE6-418A572006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5410080" y="4495680"/>
            <a:ext cx="3200400" cy="2057400"/>
            <a:chOff x="5410080" y="4495680"/>
            <a:chExt cx="3200400" cy="2057400"/>
          </a:xfrm>
        </p:grpSpPr>
        <p:sp>
          <p:nvSpPr>
            <p:cNvPr id="92" name=""/>
            <p:cNvSpPr/>
            <p:nvPr/>
          </p:nvSpPr>
          <p:spPr>
            <a:xfrm>
              <a:off x="5410080" y="60958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72200" y="60958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4320" y="60958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96080" y="60958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38680" y="53341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00800" y="53341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62920" y="53341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24680" y="53341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44956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29400" y="44956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91520" y="44956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53280" y="44956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819520" y="304920"/>
            <a:ext cx="3429000" cy="1295280"/>
          </a:xfrm>
          <a:prstGeom prst="flowChartMultidocument">
            <a:avLst/>
          </a:prstGeom>
          <a:gradFill rotWithShape="0">
            <a:gsLst>
              <a:gs pos="0">
                <a:srgbClr val="000099"/>
              </a:gs>
              <a:gs pos="50000">
                <a:srgbClr val="00ccff"/>
              </a:gs>
              <a:gs pos="100000">
                <a:srgbClr val="0000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ассив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</a:rPr>
              <a:t>Массив</a:t>
            </a:r>
            <a:r>
              <a:rPr b="1" i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– совокупность однотипных элементов, объединённых общим именем.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сивы бывают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Times New Roman"/>
              </a:rPr>
              <a:t>                                        </a:t>
            </a:r>
            <a:r>
              <a:rPr b="1" lang="ru-RU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143000" y="4648320"/>
            <a:ext cx="2514600" cy="1828800"/>
            <a:chOff x="1143000" y="4648320"/>
            <a:chExt cx="2514600" cy="1828800"/>
          </a:xfrm>
        </p:grpSpPr>
        <p:sp>
          <p:nvSpPr>
            <p:cNvPr id="108" name=""/>
            <p:cNvSpPr/>
            <p:nvPr/>
          </p:nvSpPr>
          <p:spPr>
            <a:xfrm>
              <a:off x="1828800" y="55627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4600" y="51055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46483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43000" y="601992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 txBox="1"/>
          <p:nvPr/>
        </p:nvSpPr>
        <p:spPr>
          <a:xfrm rot="19488600">
            <a:off x="609120" y="4495320"/>
            <a:ext cx="2940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дномерными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 rot="19488600">
            <a:off x="5029200" y="4343040"/>
            <a:ext cx="3244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многономерными</a:t>
            </a:r>
            <a:endParaRPr b="0" lang="en-US" sz="2400" spc="1" strike="noStrike">
              <a:ln w="324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ECAE-5588-486A-BA34-8D8708AA0C8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267080" y="228600"/>
            <a:ext cx="3429000" cy="838080"/>
          </a:xfrm>
          <a:prstGeom prst="flowChartMultidocument">
            <a:avLst/>
          </a:prstGeom>
          <a:gradFill rotWithShape="0">
            <a:gsLst>
              <a:gs pos="0">
                <a:srgbClr val="000099"/>
              </a:gs>
              <a:gs pos="50000">
                <a:srgbClr val="00ccff"/>
              </a:gs>
              <a:gs pos="100000">
                <a:srgbClr val="0000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486400" y="4114800"/>
            <a:ext cx="3200400" cy="2057400"/>
            <a:chOff x="5486400" y="4114800"/>
            <a:chExt cx="3200400" cy="2057400"/>
          </a:xfrm>
        </p:grpSpPr>
        <p:sp>
          <p:nvSpPr>
            <p:cNvPr id="116" name=""/>
            <p:cNvSpPr/>
            <p:nvPr/>
          </p:nvSpPr>
          <p:spPr>
            <a:xfrm>
              <a:off x="5486400" y="57150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48520" y="57150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10640" y="57150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72400" y="57150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15000" y="495324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77120" y="495324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39240" y="495324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01000" y="495324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943600" y="41148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05720" y="41148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67840" y="41148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229600" y="41148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676520" y="2438280"/>
            <a:ext cx="2514600" cy="1828800"/>
            <a:chOff x="1676520" y="2438280"/>
            <a:chExt cx="2514600" cy="1828800"/>
          </a:xfrm>
        </p:grpSpPr>
        <p:sp>
          <p:nvSpPr>
            <p:cNvPr id="129" name=""/>
            <p:cNvSpPr/>
            <p:nvPr/>
          </p:nvSpPr>
          <p:spPr>
            <a:xfrm>
              <a:off x="2362320" y="33526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48120" y="28954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33920" y="24382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76520" y="380988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laptop"/>
          <p:cNvSpPr/>
          <p:nvPr/>
        </p:nvSpPr>
        <p:spPr>
          <a:xfrm>
            <a:off x="304920" y="380880"/>
            <a:ext cx="3267000" cy="2133720"/>
          </a:xfrm>
          <a:prstGeom prst="pie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Массив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Размер массива ограничивается только объёмом рабочей памяти ПЭВМ.</a:t>
            </a:r>
            <a:r>
              <a:rPr b="1" lang="ru-RU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математике и информатике массив называется одномерным, если для получения доступа к его элементам достаточно одной индексной  переменной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Times New Roman"/>
              </a:rPr>
              <a:t>Элементы двумерного массива имеют 2 индекса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C54C-7BDB-4158-8BBD-681E24EC90D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6172200" y="4648320"/>
            <a:ext cx="2590560" cy="1980720"/>
            <a:chOff x="6172200" y="4648320"/>
            <a:chExt cx="2590560" cy="1980720"/>
          </a:xfrm>
        </p:grpSpPr>
        <p:sp>
          <p:nvSpPr>
            <p:cNvPr id="137" name=""/>
            <p:cNvSpPr/>
            <p:nvPr/>
          </p:nvSpPr>
          <p:spPr>
            <a:xfrm>
              <a:off x="6878520" y="5638680"/>
              <a:ext cx="470880" cy="4950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85200" y="5143320"/>
              <a:ext cx="470880" cy="4950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291880" y="4648320"/>
              <a:ext cx="470880" cy="4950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72200" y="6134040"/>
              <a:ext cx="470880" cy="4950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A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имя_массив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: ARRAY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нач_индек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кон_индекс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]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ип данных;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Например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AR      mas: ARRAY[1..25] OF Integer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им образом, мы объявили одномерный массив mas целых чисел.  Номер (индекс) первого элемента 1, последний - 25.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urier New"/>
                <a:ea typeface="Times New Roman"/>
              </a:rPr>
              <a:t>Объявление одномерного  массива  выглядит  следующим образом:</a:t>
            </a:r>
            <a:r>
              <a:rPr b="0" lang="ru-RU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B84D-5B4D-49DB-B502-439824359184}" type="slidenum">
              <a:t>4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2000"/>
          </a:bodyPr>
          <a:p>
            <a:pPr marL="31536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явление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сивов может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п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изво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т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я и немного другим способ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ачала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является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льзовател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в нашем случае типа "ARRAY"), а затем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менная на основе этого типа данных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апример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TYPE   tab=ARRAY[1..25] OF Integer; 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VAR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mas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tab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;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324480" y="4800600"/>
            <a:ext cx="2514600" cy="1828800"/>
            <a:chOff x="6324480" y="4800600"/>
            <a:chExt cx="2514600" cy="1828800"/>
          </a:xfrm>
        </p:grpSpPr>
        <p:sp>
          <p:nvSpPr>
            <p:cNvPr id="145" name=""/>
            <p:cNvSpPr/>
            <p:nvPr/>
          </p:nvSpPr>
          <p:spPr>
            <a:xfrm>
              <a:off x="7010280" y="57150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96080" y="52578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381880" y="48006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24480" y="617220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41C6-D3D8-47D3-BD79-6E78E07C66E3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3200400"/>
            <a:ext cx="8839080" cy="1295280"/>
          </a:xfrm>
          <a:prstGeom prst="flowChartMultidocument">
            <a:avLst/>
          </a:prstGeom>
          <a:gradFill rotWithShape="0">
            <a:gsLst>
              <a:gs pos="0">
                <a:srgbClr val="6600ff"/>
              </a:gs>
              <a:gs pos="50000">
                <a:srgbClr val="2f0075"/>
              </a:gs>
              <a:gs pos="100000">
                <a:srgbClr val="6600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4876920"/>
            <a:ext cx="8839080" cy="1295280"/>
          </a:xfrm>
          <a:prstGeom prst="flowChartMultidocument">
            <a:avLst/>
          </a:prstGeom>
          <a:gradFill rotWithShape="0">
            <a:gsLst>
              <a:gs pos="0">
                <a:srgbClr val="6600ff"/>
              </a:gs>
              <a:gs pos="50000">
                <a:srgbClr val="2f0075"/>
              </a:gs>
              <a:gs pos="100000">
                <a:srgbClr val="6600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676520"/>
            <a:ext cx="8915400" cy="1295280"/>
          </a:xfrm>
          <a:prstGeom prst="flowChartMultidocument">
            <a:avLst/>
          </a:prstGeom>
          <a:gradFill rotWithShape="0">
            <a:gsLst>
              <a:gs pos="0">
                <a:srgbClr val="6600ff"/>
              </a:gs>
              <a:gs pos="50000">
                <a:srgbClr val="2f0075"/>
              </a:gs>
              <a:gs pos="100000">
                <a:srgbClr val="6600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 следующем  примере объявлено несколько переменных типа массив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609840" y="1295280"/>
            <a:ext cx="9753480" cy="55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4" marL="76212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AR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762120" indent="0">
              <a:lnSpc>
                <a:spcPct val="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76212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mas_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: ARRAY[1..10] OF Real;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76212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76212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mas_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: ARRAY[5 .. 16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 2..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] OF Integer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76212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76212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ss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: ARRAY[-20..40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 1..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] OF Char;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762120" indent="0" algn="just">
              <a:lnSpc>
                <a:spcPct val="10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6D61-C8D6-4A32-B9EE-7D7EF184E632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2895480"/>
            <a:ext cx="6019920" cy="3276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2d2d00"/>
              </a:gs>
              <a:gs pos="100000">
                <a:srgbClr val="ffff00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66880" y="457200"/>
            <a:ext cx="6019920" cy="1981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2d2d00"/>
              </a:gs>
              <a:gs pos="100000">
                <a:srgbClr val="ffff00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057400" y="457200"/>
            <a:ext cx="6477120" cy="2209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4" marL="76212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Тип элементов, составляющих массив, может быть любым (в том числе и сложным).</a:t>
            </a:r>
            <a:r>
              <a:rPr b="0" lang="ru-RU" sz="3000" spc="-1" strike="noStrike">
                <a:solidFill>
                  <a:srgbClr val="3333cc"/>
                </a:solidFill>
                <a:latin typeface="Arial"/>
                <a:ea typeface="Times New Roman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1143000" y="2971800"/>
            <a:ext cx="7543800" cy="34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индексов элементов массива может быть только простым, хотя наиболее часто в качестве индексов  элементов  массива  применяют целые числа.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BD21297_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760680" cy="695160"/>
          </a:xfrm>
          <a:prstGeom prst="rect">
            <a:avLst/>
          </a:prstGeom>
          <a:ln w="0">
            <a:noFill/>
          </a:ln>
        </p:spPr>
      </p:pic>
      <p:pic>
        <p:nvPicPr>
          <p:cNvPr id="159" name="BD21297_" descr=""/>
          <p:cNvPicPr/>
          <p:nvPr/>
        </p:nvPicPr>
        <p:blipFill>
          <a:blip r:embed="rId2"/>
          <a:stretch/>
        </p:blipFill>
        <p:spPr>
          <a:xfrm>
            <a:off x="228600" y="5867280"/>
            <a:ext cx="760320" cy="695520"/>
          </a:xfrm>
          <a:prstGeom prst="rect">
            <a:avLst/>
          </a:prstGeom>
          <a:ln w="0">
            <a:noFill/>
          </a:ln>
        </p:spPr>
      </p:pic>
      <p:pic>
        <p:nvPicPr>
          <p:cNvPr id="160" name="BD21297_" descr=""/>
          <p:cNvPicPr/>
          <p:nvPr/>
        </p:nvPicPr>
        <p:blipFill>
          <a:blip r:embed="rId3"/>
          <a:stretch/>
        </p:blipFill>
        <p:spPr>
          <a:xfrm>
            <a:off x="228600" y="5867280"/>
            <a:ext cx="760320" cy="695520"/>
          </a:xfrm>
          <a:prstGeom prst="rect">
            <a:avLst/>
          </a:prstGeom>
          <a:ln w="0">
            <a:noFill/>
          </a:ln>
        </p:spPr>
      </p:pic>
      <p:pic>
        <p:nvPicPr>
          <p:cNvPr id="161" name="BD21297_" descr=""/>
          <p:cNvPicPr/>
          <p:nvPr/>
        </p:nvPicPr>
        <p:blipFill>
          <a:blip r:embed="rId4"/>
          <a:stretch/>
        </p:blipFill>
        <p:spPr>
          <a:xfrm>
            <a:off x="1066680" y="457200"/>
            <a:ext cx="760680" cy="695160"/>
          </a:xfrm>
          <a:prstGeom prst="rect">
            <a:avLst/>
          </a:prstGeom>
          <a:ln w="0">
            <a:noFill/>
          </a:ln>
        </p:spPr>
      </p:pic>
      <p:pic>
        <p:nvPicPr>
          <p:cNvPr id="162" name="BD21297_" descr=""/>
          <p:cNvPicPr/>
          <p:nvPr/>
        </p:nvPicPr>
        <p:blipFill>
          <a:blip r:embed="rId5"/>
          <a:stretch/>
        </p:blipFill>
        <p:spPr>
          <a:xfrm>
            <a:off x="533520" y="1143000"/>
            <a:ext cx="760320" cy="695160"/>
          </a:xfrm>
          <a:prstGeom prst="rect">
            <a:avLst/>
          </a:prstGeom>
          <a:ln w="0">
            <a:noFill/>
          </a:ln>
        </p:spPr>
      </p:pic>
      <p:pic>
        <p:nvPicPr>
          <p:cNvPr id="163" name="BD21297_" descr=""/>
          <p:cNvPicPr/>
          <p:nvPr/>
        </p:nvPicPr>
        <p:blipFill>
          <a:blip r:embed="rId6"/>
          <a:stretch/>
        </p:blipFill>
        <p:spPr>
          <a:xfrm>
            <a:off x="1523880" y="1143000"/>
            <a:ext cx="760680" cy="695160"/>
          </a:xfrm>
          <a:prstGeom prst="rect">
            <a:avLst/>
          </a:prstGeom>
          <a:ln w="0">
            <a:noFill/>
          </a:ln>
        </p:spPr>
      </p:pic>
      <p:pic>
        <p:nvPicPr>
          <p:cNvPr id="164" name="BD21297_" descr=""/>
          <p:cNvPicPr/>
          <p:nvPr/>
        </p:nvPicPr>
        <p:blipFill>
          <a:blip r:embed="rId7"/>
          <a:stretch/>
        </p:blipFill>
        <p:spPr>
          <a:xfrm>
            <a:off x="7238880" y="3809880"/>
            <a:ext cx="1447920" cy="13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7114-54C7-49EE-B8BF-A061FF33CB2F}" type="slidenum">
              <a:t>7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BD21297_" descr=""/>
          <p:cNvPicPr/>
          <p:nvPr/>
        </p:nvPicPr>
        <p:blipFill>
          <a:blip r:embed="rId1"/>
          <a:stretch/>
        </p:blipFill>
        <p:spPr>
          <a:xfrm>
            <a:off x="7848720" y="5638680"/>
            <a:ext cx="760320" cy="6955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М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ассивы, содержащие элементы разных типов, и индексы различных простых типов: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ff66"/>
                </a:solidFill>
                <a:latin typeface="Arial"/>
                <a:ea typeface="Times New Roman"/>
              </a:rPr>
              <a:t>VAR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3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ffcc66"/>
                </a:solidFill>
                <a:latin typeface="Arial"/>
                <a:ea typeface="Times New Roman"/>
              </a:rPr>
              <a:t>ma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1" lang="en-US" sz="3400" spc="-1" strike="noStrike">
                <a:solidFill>
                  <a:srgbClr val="99ff66"/>
                </a:solidFill>
                <a:latin typeface="Arial"/>
                <a:ea typeface="Times New Roman"/>
              </a:rPr>
              <a:t>array [1..15] of real;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описан массив из 15 вещественных чисел}       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66"/>
                </a:solidFill>
                <a:latin typeface="Arial"/>
                <a:ea typeface="Times New Roman"/>
              </a:rPr>
              <a:t>www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99ff66"/>
                </a:solidFill>
                <a:latin typeface="Arial"/>
                <a:ea typeface="Times New Roman"/>
              </a:rPr>
              <a:t>array [(mon,tue,wed)] of integer;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описан массив  из  трёх целых чисел,  индексы элементов массива имеютперечислимый тип и принимают значение названий дней недели  mon,  tue,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d}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BD21297_" descr=""/>
          <p:cNvPicPr/>
          <p:nvPr/>
        </p:nvPicPr>
        <p:blipFill>
          <a:blip r:embed="rId2"/>
          <a:stretch/>
        </p:blipFill>
        <p:spPr>
          <a:xfrm>
            <a:off x="8077320" y="5867280"/>
            <a:ext cx="760320" cy="6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D27B-AC32-4646-B887-F58A7C4C7ED8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69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М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ассивы, содержащие элементы разных типов, и индексы различных простых типов:</a:t>
            </a: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66"/>
                </a:solidFill>
                <a:latin typeface="Arial"/>
                <a:ea typeface="Times New Roman"/>
              </a:rPr>
              <a:t>ast</a:t>
            </a:r>
            <a:r>
              <a:rPr b="1" lang="en-US" sz="3400" spc="-1" strike="noStrike">
                <a:solidFill>
                  <a:srgbClr val="99ff66"/>
                </a:solidFill>
                <a:latin typeface="Arial"/>
                <a:ea typeface="Times New Roman"/>
              </a:rPr>
              <a:t>: array ['A'..'Z'] of boolean;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описан массив элементов логического типа,  тип индексов – ограниченый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вольный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3962520"/>
            <a:ext cx="8381880" cy="20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66"/>
                </a:solidFill>
                <a:latin typeface="Arial"/>
                <a:ea typeface="Times New Roman"/>
              </a:rPr>
              <a:t>art</a:t>
            </a:r>
            <a:r>
              <a:rPr b="1" lang="en-US" sz="3400" spc="-1" strike="noStrike">
                <a:solidFill>
                  <a:srgbClr val="99ff66"/>
                </a:solidFill>
                <a:latin typeface="Arial"/>
                <a:ea typeface="Times New Roman"/>
              </a:rPr>
              <a:t>: array [(black,white)] of 11..20;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описан массив целых чисел с индексами black,  white.  Каждый  элемент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сива может принимать значения от 11 до 20} 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BD21297_" descr=""/>
          <p:cNvPicPr/>
          <p:nvPr/>
        </p:nvPicPr>
        <p:blipFill>
          <a:blip r:embed="rId1"/>
          <a:stretch/>
        </p:blipFill>
        <p:spPr>
          <a:xfrm>
            <a:off x="8153280" y="2895480"/>
            <a:ext cx="760680" cy="695520"/>
          </a:xfrm>
          <a:prstGeom prst="rect">
            <a:avLst/>
          </a:prstGeom>
          <a:ln w="0">
            <a:noFill/>
          </a:ln>
        </p:spPr>
      </p:pic>
      <p:pic>
        <p:nvPicPr>
          <p:cNvPr id="173" name="BD21297_" descr=""/>
          <p:cNvPicPr/>
          <p:nvPr/>
        </p:nvPicPr>
        <p:blipFill>
          <a:blip r:embed="rId2"/>
          <a:stretch/>
        </p:blipFill>
        <p:spPr>
          <a:xfrm>
            <a:off x="7848720" y="3276720"/>
            <a:ext cx="760320" cy="695160"/>
          </a:xfrm>
          <a:prstGeom prst="rect">
            <a:avLst/>
          </a:prstGeom>
          <a:ln w="0">
            <a:noFill/>
          </a:ln>
        </p:spPr>
      </p:pic>
      <p:pic>
        <p:nvPicPr>
          <p:cNvPr id="174" name="BD21297_" descr=""/>
          <p:cNvPicPr/>
          <p:nvPr/>
        </p:nvPicPr>
        <p:blipFill>
          <a:blip r:embed="rId3"/>
          <a:stretch/>
        </p:blipFill>
        <p:spPr>
          <a:xfrm>
            <a:off x="228600" y="5943600"/>
            <a:ext cx="760320" cy="69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3906-B452-4DAD-82DB-F074C8439A85}" type="slidenum">
              <a:t>9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ульдина</cp:lastModifiedBy>
  <dcterms:modified xsi:type="dcterms:W3CDTF">2004-04-19T11:22:22Z</dcterms:modified>
  <cp:revision>11</cp:revision>
  <dc:subject/>
  <dc:title>Презентация PowerPoint</dc:title>
</cp:coreProperties>
</file>