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CA8-BA83-4201-B863-64540473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7BE-2033-43B0-A533-9DD6B416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F46-A9D5-4176-91CA-397C8CAE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9F5-0147-4CB5-88DD-DEA38DE7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5CEC-7F4D-4665-BBFD-E2A427F1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D5D1-9040-4B4F-997F-10C5EEE3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7EF0-0F9E-4F5E-9DF7-571115C4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1E5E-1799-4AEA-A96A-79E586F7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B3EC-58CB-42D1-88FB-57A49377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5BE8-5046-4D25-8BC3-5F99D95E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9DE-F3F3-495D-9B58-89F288A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9C5-6506-4A79-8CEF-E698F4F5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F5E8-9B64-45BB-BBC2-87BD116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53CD-738D-4422-B587-0D43D81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B75F-8AA5-4BFB-9935-CEA57B47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9808-7CFD-483A-8D76-C2203522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6B9F-9B15-4314-B88E-C3056E81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87B-1BC3-4E5E-8562-EB58C6D0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775-9805-46B9-8119-531FEDF7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D62-3F5B-4733-B3EC-CD5F9462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10F-8FDA-40D9-B454-5283DA96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24F-8ADF-4CF0-9BCE-D830116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062-950C-447C-9491-A73F33BA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47E-73C7-4FDC-80F0-C4C56628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61F7-992C-4190-B726-A8B0294E89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F3D5-733C-4070-A91F-C122BF4B2E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62320" y="1905120"/>
            <a:ext cx="5105160" cy="2590560"/>
          </a:xfrm>
          <a:prstGeom prst="flowChartMultidocument">
            <a:avLst/>
          </a:prstGeom>
          <a:gradFill rotWithShape="0">
            <a:gsLst>
              <a:gs pos="0">
                <a:srgbClr val="000099"/>
              </a:gs>
              <a:gs pos="50000">
                <a:srgbClr val="00ccff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ffff00"/>
                </a:solidFill>
                <a:latin typeface="Arial"/>
              </a:rPr>
              <a:t>Массивы</a:t>
            </a:r>
            <a:endParaRPr b="0" lang="en-US" sz="6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BD21297_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760320" cy="69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1CFD-0A0D-4DAA-8618-1EB540EA3E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2286000"/>
            <a:ext cx="8458200" cy="3886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100000">
                <a:srgbClr val="21218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6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svz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: array [byte] of integer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из 256 целых чисел с индексами  стандартного  типа byte (от 0 до 255)}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ffcc66"/>
                </a:solidFill>
                <a:latin typeface="Times New Roman"/>
              </a:rPr>
              <a:t>Какие массивы описаны ниже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3400" spc="-1" strike="noStrike">
                <a:solidFill>
                  <a:srgbClr val="ffcc66"/>
                </a:solidFill>
                <a:latin typeface="Arial"/>
              </a:rPr>
              <a:t>Vin: array [‘a’..’d’] of 1..20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3400" spc="-1" strike="noStrike">
                <a:solidFill>
                  <a:srgbClr val="ffcc66"/>
                </a:solidFill>
                <a:latin typeface="Arial"/>
              </a:rPr>
              <a:t>En: array [a, g, t, d] of real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3400" spc="-1" strike="noStrike">
                <a:solidFill>
                  <a:srgbClr val="ffcc66"/>
                </a:solidFill>
                <a:latin typeface="Arial"/>
              </a:rPr>
              <a:t>Otti: array [byte] of boolean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579-6903-436B-9D51-8A8F88B67E24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Объясните значение следующих понятий: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uzzle5"/>
          <p:cNvSpPr/>
          <p:nvPr/>
        </p:nvSpPr>
        <p:spPr>
          <a:xfrm>
            <a:off x="4894200" y="2530440"/>
            <a:ext cx="3792600" cy="21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uzzle2"/>
          <p:cNvSpPr/>
          <p:nvPr/>
        </p:nvSpPr>
        <p:spPr>
          <a:xfrm>
            <a:off x="2666880" y="4605480"/>
            <a:ext cx="3792600" cy="19476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uzzle3"/>
          <p:cNvSpPr/>
          <p:nvPr/>
        </p:nvSpPr>
        <p:spPr>
          <a:xfrm>
            <a:off x="5562720" y="3886200"/>
            <a:ext cx="2396880" cy="26668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uzzle4"/>
          <p:cNvSpPr/>
          <p:nvPr/>
        </p:nvSpPr>
        <p:spPr>
          <a:xfrm>
            <a:off x="3429000" y="2514600"/>
            <a:ext cx="2252520" cy="2857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By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uzzle5"/>
          <p:cNvSpPr/>
          <p:nvPr/>
        </p:nvSpPr>
        <p:spPr>
          <a:xfrm>
            <a:off x="533520" y="2514600"/>
            <a:ext cx="3792240" cy="2189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uzzle3"/>
          <p:cNvSpPr/>
          <p:nvPr/>
        </p:nvSpPr>
        <p:spPr>
          <a:xfrm>
            <a:off x="1216080" y="3908520"/>
            <a:ext cx="2398680" cy="2568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Тип элементов       масси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uzzle2"/>
          <p:cNvSpPr/>
          <p:nvPr/>
        </p:nvSpPr>
        <p:spPr>
          <a:xfrm>
            <a:off x="2670120" y="1468440"/>
            <a:ext cx="3792600" cy="171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ндек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uzzle3"/>
          <p:cNvSpPr/>
          <p:nvPr/>
        </p:nvSpPr>
        <p:spPr>
          <a:xfrm>
            <a:off x="5562720" y="762120"/>
            <a:ext cx="2398680" cy="24080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uzzle3"/>
          <p:cNvSpPr/>
          <p:nvPr/>
        </p:nvSpPr>
        <p:spPr>
          <a:xfrm>
            <a:off x="1220760" y="770040"/>
            <a:ext cx="2397240" cy="24080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4280" y="15238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Масси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7240" y="342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oo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3276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6280" y="335268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1600">
            <a:off x="3276360" y="5257440"/>
            <a:ext cx="350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Объявление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40200">
            <a:off x="4495320" y="548640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масси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8960" y="457200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Формиров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масс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1600200"/>
            <a:ext cx="129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89D-BF61-4C9D-BE04-D3554111388D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2120" y="0"/>
            <a:ext cx="77724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Impact"/>
              </a:rPr>
              <a:t>Способы 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Impact"/>
              </a:rPr>
              <a:t>формирования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Impact"/>
              </a:rPr>
              <a:t>массивов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219320" y="4038480"/>
            <a:ext cx="3200400" cy="2057400"/>
            <a:chOff x="1219320" y="4038480"/>
            <a:chExt cx="3200400" cy="2057400"/>
          </a:xfrm>
        </p:grpSpPr>
        <p:sp>
          <p:nvSpPr>
            <p:cNvPr id="197" name=""/>
            <p:cNvSpPr/>
            <p:nvPr/>
          </p:nvSpPr>
          <p:spPr>
            <a:xfrm>
              <a:off x="121932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8144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56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532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1004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216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652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64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076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267080" y="4038480"/>
            <a:ext cx="3200400" cy="2057400"/>
            <a:chOff x="4267080" y="4038480"/>
            <a:chExt cx="3200400" cy="2057400"/>
          </a:xfrm>
        </p:grpSpPr>
        <p:sp>
          <p:nvSpPr>
            <p:cNvPr id="210" name=""/>
            <p:cNvSpPr/>
            <p:nvPr/>
          </p:nvSpPr>
          <p:spPr>
            <a:xfrm>
              <a:off x="426708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2920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9568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780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992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2428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852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1028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C2B-C65D-4251-95DF-2FD08F9382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BD21297_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1143000" cy="1044360"/>
          </a:xfrm>
          <a:prstGeom prst="rect">
            <a:avLst/>
          </a:prstGeom>
          <a:ln w="0">
            <a:noFill/>
          </a:ln>
        </p:spPr>
      </p:pic>
      <p:pic>
        <p:nvPicPr>
          <p:cNvPr id="223" name="BD21297_" descr=""/>
          <p:cNvPicPr/>
          <p:nvPr/>
        </p:nvPicPr>
        <p:blipFill>
          <a:blip r:embed="rId2"/>
          <a:stretch/>
        </p:blipFill>
        <p:spPr>
          <a:xfrm>
            <a:off x="7620120" y="914400"/>
            <a:ext cx="1143000" cy="1044720"/>
          </a:xfrm>
          <a:prstGeom prst="rect">
            <a:avLst/>
          </a:prstGeom>
          <a:ln w="0">
            <a:noFill/>
          </a:ln>
        </p:spPr>
      </p:pic>
      <p:pic>
        <p:nvPicPr>
          <p:cNvPr id="224" name="BD21297_" descr=""/>
          <p:cNvPicPr/>
          <p:nvPr/>
        </p:nvPicPr>
        <p:blipFill>
          <a:blip r:embed="rId3"/>
          <a:stretch/>
        </p:blipFill>
        <p:spPr>
          <a:xfrm>
            <a:off x="7391520" y="4724280"/>
            <a:ext cx="1143000" cy="1044720"/>
          </a:xfrm>
          <a:prstGeom prst="rect">
            <a:avLst/>
          </a:prstGeom>
          <a:ln w="0">
            <a:noFill/>
          </a:ln>
        </p:spPr>
      </p:pic>
      <p:pic>
        <p:nvPicPr>
          <p:cNvPr id="225" name="BD21297_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1143000" cy="1044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43000" y="1447920"/>
            <a:ext cx="7086600" cy="3962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80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66"/>
                </a:solidFill>
                <a:uFillTx/>
                <a:latin typeface="Monotype Corsiva"/>
                <a:ea typeface="Times New Roman"/>
              </a:rPr>
              <a:t>Способы формирования массивов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массивами, в зависимости от условия могут использоваться разные типы циклов. Мы воспользуемся цикло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O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O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…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O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”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5D3-0CAF-492B-8448-5754F78EB6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BD21297_" descr=""/>
          <p:cNvPicPr/>
          <p:nvPr/>
        </p:nvPicPr>
        <p:blipFill>
          <a:blip r:embed="rId1"/>
          <a:stretch/>
        </p:blipFill>
        <p:spPr>
          <a:xfrm>
            <a:off x="7848720" y="563868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30" name="BD21297_" descr=""/>
          <p:cNvPicPr/>
          <p:nvPr/>
        </p:nvPicPr>
        <p:blipFill>
          <a:blip r:embed="rId2"/>
          <a:stretch/>
        </p:blipFill>
        <p:spPr>
          <a:xfrm>
            <a:off x="7848720" y="365760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31" name="BD21297_" descr=""/>
          <p:cNvPicPr/>
          <p:nvPr/>
        </p:nvPicPr>
        <p:blipFill>
          <a:blip r:embed="rId3"/>
          <a:stretch/>
        </p:blipFill>
        <p:spPr>
          <a:xfrm>
            <a:off x="609480" y="55627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232" name="BD21297_" descr=""/>
          <p:cNvPicPr/>
          <p:nvPr/>
        </p:nvPicPr>
        <p:blipFill>
          <a:blip r:embed="rId4"/>
          <a:stretch/>
        </p:blipFill>
        <p:spPr>
          <a:xfrm>
            <a:off x="609480" y="372744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43000" y="3962520"/>
            <a:ext cx="7086600" cy="190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9000"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.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Запрос значений элементов в ходе выполнения програм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Нижеприведённый фрагмент демонстрирует запрос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элементов массива с именем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K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‘Введите’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‘ элемент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ива’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I:=1 to n do   read(K[I]);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701-9E09-4F31-BCE7-9EB2E05F6922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BD21297_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37" name="BD21297_" descr=""/>
          <p:cNvPicPr/>
          <p:nvPr/>
        </p:nvPicPr>
        <p:blipFill>
          <a:blip r:embed="rId2"/>
          <a:stretch/>
        </p:blipFill>
        <p:spPr>
          <a:xfrm>
            <a:off x="7467480" y="35053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238" name="BD21297_" descr=""/>
          <p:cNvPicPr/>
          <p:nvPr/>
        </p:nvPicPr>
        <p:blipFill>
          <a:blip r:embed="rId3"/>
          <a:stretch/>
        </p:blipFill>
        <p:spPr>
          <a:xfrm>
            <a:off x="7391520" y="563868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39" name="BD21297_" descr=""/>
          <p:cNvPicPr/>
          <p:nvPr/>
        </p:nvPicPr>
        <p:blipFill>
          <a:blip r:embed="rId4"/>
          <a:stretch/>
        </p:blipFill>
        <p:spPr>
          <a:xfrm>
            <a:off x="2209680" y="5562720"/>
            <a:ext cx="914400" cy="834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819520" y="3657600"/>
            <a:ext cx="5029200" cy="2286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9000"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   Формирование массива с помощью арифметического выражения.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и таком способе формирования для наглядности желательно выводить полученный массив на экран, т.к. глядя на формулу, бывает трудно сразу определить, чему равны его элементы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I:=1 to n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gin   K[I]:=3*sqr(I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K[I],’ ‘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1F6C-FA8A-4B93-964F-4D775638C89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7000"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 Формирование массива с помощью генератора случайных чисе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используется ключевое слово</a:t>
            </a:r>
            <a:r>
              <a:rPr b="1" lang="ru-RU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Random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n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r>
              <a:rPr b="1" lang="ru-RU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генератор случайных целых чисел в промежутке [0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ребуется сформировать массив, элементы которого лежат в диапазоне от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о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спользуется выражени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Random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b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a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)+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a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.</a:t>
            </a:r>
            <a:r>
              <a:rPr b="1" lang="ru-RU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111-1686-4B0F-991F-D75B0BFD94A5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BD21297_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990720" cy="906480"/>
          </a:xfrm>
          <a:prstGeom prst="rect">
            <a:avLst/>
          </a:prstGeom>
          <a:ln w="0">
            <a:noFill/>
          </a:ln>
        </p:spPr>
      </p:pic>
      <p:pic>
        <p:nvPicPr>
          <p:cNvPr id="244" name="BD21297_" descr=""/>
          <p:cNvPicPr/>
          <p:nvPr/>
        </p:nvPicPr>
        <p:blipFill>
          <a:blip r:embed="rId2"/>
          <a:stretch/>
        </p:blipFill>
        <p:spPr>
          <a:xfrm>
            <a:off x="7543800" y="319392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45" name="BD21297_" descr=""/>
          <p:cNvPicPr/>
          <p:nvPr/>
        </p:nvPicPr>
        <p:blipFill>
          <a:blip r:embed="rId3"/>
          <a:stretch/>
        </p:blipFill>
        <p:spPr>
          <a:xfrm>
            <a:off x="7467480" y="563868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46" name="BD21297_" descr=""/>
          <p:cNvPicPr/>
          <p:nvPr/>
        </p:nvPicPr>
        <p:blipFill>
          <a:blip r:embed="rId4"/>
          <a:stretch/>
        </p:blipFill>
        <p:spPr>
          <a:xfrm>
            <a:off x="2209680" y="5562720"/>
            <a:ext cx="990720" cy="904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819520" y="3505320"/>
            <a:ext cx="5029200" cy="2743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1000"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ычно в паре с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спользуется оператор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станавливающий зависимость случайных чисел от времени запуска программ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:=1 to 10 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[I]:=random(15)-10;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(ma[I],' ')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91C-7BC8-4267-9037-7A1E62FEAA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Нахождение суммы, произведения, количества элементов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62120" y="1523880"/>
          <a:ext cx="7772400" cy="28958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из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: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&lt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 then S:=S+a(i)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:=1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&lt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 then P:=P*a(i)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&lt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 then K=K+1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62120" y="50292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сумма,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роизведение,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личество элементов массив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EAB-6D63-42C4-8C5E-70132F4881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 </a:t>
            </a:r>
            <a:r>
              <a:rPr b="1" lang="ru-RU" sz="32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Какие задачи решают следующие фрагменты программ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62120" y="1676520"/>
          <a:ext cx="7772400" cy="4537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2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 S: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a(i) mod 2=0 then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:=S+a(i)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) T: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a(i)&lt;=i  then T:=T+1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) S: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(a(i) &lt;5)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 (a(i)&gt;8.5) then S:=S+a(i)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) R:=1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:=R*a(i)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30F-43A7-44BA-96C7-25E29CAA8A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410080" y="4495680"/>
            <a:ext cx="3200400" cy="2057400"/>
            <a:chOff x="5410080" y="4495680"/>
            <a:chExt cx="3200400" cy="2057400"/>
          </a:xfrm>
        </p:grpSpPr>
        <p:sp>
          <p:nvSpPr>
            <p:cNvPr id="92" name=""/>
            <p:cNvSpPr/>
            <p:nvPr/>
          </p:nvSpPr>
          <p:spPr>
            <a:xfrm>
              <a:off x="5410080" y="6095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6095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4320" y="6095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96080" y="6095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38680" y="5334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800" y="5334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62920" y="5334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5334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4495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29400" y="4495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91520" y="4495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4495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819520" y="304920"/>
            <a:ext cx="3429000" cy="1295280"/>
          </a:xfrm>
          <a:prstGeom prst="flowChartMultidocument">
            <a:avLst/>
          </a:prstGeom>
          <a:gradFill rotWithShape="0">
            <a:gsLst>
              <a:gs pos="0">
                <a:srgbClr val="000099"/>
              </a:gs>
              <a:gs pos="50000">
                <a:srgbClr val="00ccff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асси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Массив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– совокупность однотипных элементов, объединённых общим именем.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ивы бываю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Times New Roman"/>
              </a:rPr>
              <a:t>                                       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43000" y="4648320"/>
            <a:ext cx="2514600" cy="1828800"/>
            <a:chOff x="1143000" y="4648320"/>
            <a:chExt cx="2514600" cy="1828800"/>
          </a:xfrm>
        </p:grpSpPr>
        <p:sp>
          <p:nvSpPr>
            <p:cNvPr id="108" name=""/>
            <p:cNvSpPr/>
            <p:nvPr/>
          </p:nvSpPr>
          <p:spPr>
            <a:xfrm>
              <a:off x="1828800" y="55627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1055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6483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6019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 rot="19488600">
            <a:off x="609120" y="4495320"/>
            <a:ext cx="294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дномерными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 rot="19488600">
            <a:off x="5029200" y="4343040"/>
            <a:ext cx="3244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ногономерными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7871-B438-4E01-B2B0-DE19F12028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67080" y="228600"/>
            <a:ext cx="3429000" cy="838080"/>
          </a:xfrm>
          <a:prstGeom prst="flowChartMultidocument">
            <a:avLst/>
          </a:prstGeom>
          <a:gradFill rotWithShape="0">
            <a:gsLst>
              <a:gs pos="0">
                <a:srgbClr val="000099"/>
              </a:gs>
              <a:gs pos="50000">
                <a:srgbClr val="00ccff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86400" y="4114800"/>
            <a:ext cx="3200400" cy="2057400"/>
            <a:chOff x="5486400" y="4114800"/>
            <a:chExt cx="3200400" cy="2057400"/>
          </a:xfrm>
        </p:grpSpPr>
        <p:sp>
          <p:nvSpPr>
            <p:cNvPr id="116" name=""/>
            <p:cNvSpPr/>
            <p:nvPr/>
          </p:nvSpPr>
          <p:spPr>
            <a:xfrm>
              <a:off x="548640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64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15000" y="49532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7120" y="49532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39240" y="49532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01000" y="49532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72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784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2960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76520" y="2438280"/>
            <a:ext cx="2514600" cy="1828800"/>
            <a:chOff x="1676520" y="2438280"/>
            <a:chExt cx="2514600" cy="1828800"/>
          </a:xfrm>
        </p:grpSpPr>
        <p:sp>
          <p:nvSpPr>
            <p:cNvPr id="129" name=""/>
            <p:cNvSpPr/>
            <p:nvPr/>
          </p:nvSpPr>
          <p:spPr>
            <a:xfrm>
              <a:off x="2362320" y="3352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895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3920" y="24382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6520" y="3809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laptop"/>
          <p:cNvSpPr/>
          <p:nvPr/>
        </p:nvSpPr>
        <p:spPr>
          <a:xfrm>
            <a:off x="304920" y="380880"/>
            <a:ext cx="3267000" cy="2133720"/>
          </a:xfrm>
          <a:prstGeom prst="pie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асси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Размер массива ограничивается только объёмом рабочей памяти ПЭВМ.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математике и информатике массив называется одномерным, если для получения доступа к его элементам достаточно одной индексной  переменной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Элементы двумерного массива имеют 2 индекс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B0F7-22D7-40C0-B1AB-473C08F631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172200" y="4648320"/>
            <a:ext cx="2590560" cy="1980720"/>
            <a:chOff x="6172200" y="4648320"/>
            <a:chExt cx="2590560" cy="1980720"/>
          </a:xfrm>
        </p:grpSpPr>
        <p:sp>
          <p:nvSpPr>
            <p:cNvPr id="137" name=""/>
            <p:cNvSpPr/>
            <p:nvPr/>
          </p:nvSpPr>
          <p:spPr>
            <a:xfrm>
              <a:off x="6878520" y="5638680"/>
              <a:ext cx="470880" cy="495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85200" y="5143320"/>
              <a:ext cx="470880" cy="495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91880" y="4648320"/>
              <a:ext cx="470880" cy="495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72200" y="6134040"/>
              <a:ext cx="470880" cy="495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имя_масси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ARRAY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нач_индек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_индек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п данных;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пример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      mas: ARRAY[1..25] OF Integer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 образом, мы объявили одномерный массив mas целых чисел.  Номер (индекс) первого элемента 1, последний - 25.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  <a:ea typeface="Times New Roman"/>
              </a:rPr>
              <a:t>Объявление одномерного  массива  выглядит  следующим образом: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19F-0E28-419C-B16B-1E892B632D29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2000"/>
          </a:bodyPr>
          <a:p>
            <a:pPr marL="31536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вле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ивов може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п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изв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я и немного другим способ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чала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вляется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льзовател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 нашем случае типа "ARRAY"), а затем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менная на основе этого типа данны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пример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YPE   tab=ARRAY[1..25] OF Integer; 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AR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s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ab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324480" y="4800600"/>
            <a:ext cx="2514600" cy="1828800"/>
            <a:chOff x="6324480" y="4800600"/>
            <a:chExt cx="2514600" cy="1828800"/>
          </a:xfrm>
        </p:grpSpPr>
        <p:sp>
          <p:nvSpPr>
            <p:cNvPr id="145" name=""/>
            <p:cNvSpPr/>
            <p:nvPr/>
          </p:nvSpPr>
          <p:spPr>
            <a:xfrm>
              <a:off x="701028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96080" y="5257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1880" y="4800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4480" y="61722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E7B-AEF4-4BF0-836E-62C76C053EC0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200400"/>
            <a:ext cx="8839080" cy="1295280"/>
          </a:xfrm>
          <a:prstGeom prst="flowChartMultidocument">
            <a:avLst/>
          </a:prstGeom>
          <a:gradFill rotWithShape="0">
            <a:gsLst>
              <a:gs pos="0">
                <a:srgbClr val="6600ff"/>
              </a:gs>
              <a:gs pos="50000">
                <a:srgbClr val="2f0075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876920"/>
            <a:ext cx="8839080" cy="1295280"/>
          </a:xfrm>
          <a:prstGeom prst="flowChartMultidocument">
            <a:avLst/>
          </a:prstGeom>
          <a:gradFill rotWithShape="0">
            <a:gsLst>
              <a:gs pos="0">
                <a:srgbClr val="6600ff"/>
              </a:gs>
              <a:gs pos="50000">
                <a:srgbClr val="2f0075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676520"/>
            <a:ext cx="8915400" cy="1295280"/>
          </a:xfrm>
          <a:prstGeom prst="flowChartMultidocument">
            <a:avLst/>
          </a:prstGeom>
          <a:gradFill rotWithShape="0">
            <a:gsLst>
              <a:gs pos="0">
                <a:srgbClr val="6600ff"/>
              </a:gs>
              <a:gs pos="50000">
                <a:srgbClr val="2f0075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следующем  примере объявлено несколько переменных типа массив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609840" y="1295280"/>
            <a:ext cx="9753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4" marL="76212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mas_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ARRAY[1..10] OF Real;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mas_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ARRAY[5 .. 16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2..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 OF Intege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ARRAY[-20..4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1..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 OF Char;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 algn="just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55F-0BC8-4EDF-98A6-CF64F81C157F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2895480"/>
            <a:ext cx="6019920" cy="327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457200"/>
            <a:ext cx="6019920" cy="19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057400" y="457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4" marL="76212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элементов, составляющих массив, может быть любым (в том числе и сложным).</a:t>
            </a:r>
            <a:r>
              <a:rPr b="0" lang="ru-RU" sz="30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143000" y="2971800"/>
            <a:ext cx="7543800" cy="34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индексов элементов массива может быть только простым, хотя наиболее часто в качестве индексов  элементов  массива  применяют целые числа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BD21297_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760680" cy="695160"/>
          </a:xfrm>
          <a:prstGeom prst="rect">
            <a:avLst/>
          </a:prstGeom>
          <a:ln w="0">
            <a:noFill/>
          </a:ln>
        </p:spPr>
      </p:pic>
      <p:pic>
        <p:nvPicPr>
          <p:cNvPr id="159" name="BD21297_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760320" cy="695520"/>
          </a:xfrm>
          <a:prstGeom prst="rect">
            <a:avLst/>
          </a:prstGeom>
          <a:ln w="0">
            <a:noFill/>
          </a:ln>
        </p:spPr>
      </p:pic>
      <p:pic>
        <p:nvPicPr>
          <p:cNvPr id="160" name="BD21297_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760320" cy="695520"/>
          </a:xfrm>
          <a:prstGeom prst="rect">
            <a:avLst/>
          </a:prstGeom>
          <a:ln w="0">
            <a:noFill/>
          </a:ln>
        </p:spPr>
      </p:pic>
      <p:pic>
        <p:nvPicPr>
          <p:cNvPr id="161" name="BD21297_" descr=""/>
          <p:cNvPicPr/>
          <p:nvPr/>
        </p:nvPicPr>
        <p:blipFill>
          <a:blip r:embed="rId4"/>
          <a:stretch/>
        </p:blipFill>
        <p:spPr>
          <a:xfrm>
            <a:off x="1066680" y="457200"/>
            <a:ext cx="760680" cy="695160"/>
          </a:xfrm>
          <a:prstGeom prst="rect">
            <a:avLst/>
          </a:prstGeom>
          <a:ln w="0">
            <a:noFill/>
          </a:ln>
        </p:spPr>
      </p:pic>
      <p:pic>
        <p:nvPicPr>
          <p:cNvPr id="162" name="BD21297_" descr=""/>
          <p:cNvPicPr/>
          <p:nvPr/>
        </p:nvPicPr>
        <p:blipFill>
          <a:blip r:embed="rId5"/>
          <a:stretch/>
        </p:blipFill>
        <p:spPr>
          <a:xfrm>
            <a:off x="533520" y="1143000"/>
            <a:ext cx="760320" cy="695160"/>
          </a:xfrm>
          <a:prstGeom prst="rect">
            <a:avLst/>
          </a:prstGeom>
          <a:ln w="0">
            <a:noFill/>
          </a:ln>
        </p:spPr>
      </p:pic>
      <p:pic>
        <p:nvPicPr>
          <p:cNvPr id="163" name="BD21297_" descr=""/>
          <p:cNvPicPr/>
          <p:nvPr/>
        </p:nvPicPr>
        <p:blipFill>
          <a:blip r:embed="rId6"/>
          <a:stretch/>
        </p:blipFill>
        <p:spPr>
          <a:xfrm>
            <a:off x="1523880" y="1143000"/>
            <a:ext cx="760680" cy="695160"/>
          </a:xfrm>
          <a:prstGeom prst="rect">
            <a:avLst/>
          </a:prstGeom>
          <a:ln w="0">
            <a:noFill/>
          </a:ln>
        </p:spPr>
      </p:pic>
      <p:pic>
        <p:nvPicPr>
          <p:cNvPr id="164" name="BD21297_" descr=""/>
          <p:cNvPicPr/>
          <p:nvPr/>
        </p:nvPicPr>
        <p:blipFill>
          <a:blip r:embed="rId7"/>
          <a:stretch/>
        </p:blipFill>
        <p:spPr>
          <a:xfrm>
            <a:off x="7238880" y="3809880"/>
            <a:ext cx="1447920" cy="13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A8C-A60B-4D21-A94A-8CC0D7662784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BD21297_" descr=""/>
          <p:cNvPicPr/>
          <p:nvPr/>
        </p:nvPicPr>
        <p:blipFill>
          <a:blip r:embed="rId1"/>
          <a:stretch/>
        </p:blipFill>
        <p:spPr>
          <a:xfrm>
            <a:off x="7848720" y="5638680"/>
            <a:ext cx="760320" cy="695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ассивы, содержащие элементы разных типов, и индексы различных простых типов: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VA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ma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array [1..15] of real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из 15 вещественных чисел}     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www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array [(mon,tue,wed)] of integer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 из  трёх целых чисел,  индексы элементов массива имеютперечислимый тип и принимают значение названий дней недели  mon,  tue,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d}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BD21297_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760320" cy="6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575-274B-4F28-B9AE-A92F78BAC435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9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ассивы, содержащие элементы разных типов, и индексы различных простых типов: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ast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: array ['A'..'Z'] of boolean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элементов логического типа,  тип индексов – ограниченый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вольный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3962520"/>
            <a:ext cx="838188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art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: array [(black,white)] of 11..20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целых чисел с индексами black,  white.  Каждый  элемент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ива может принимать значения от 11 до 20} 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BD21297_" descr=""/>
          <p:cNvPicPr/>
          <p:nvPr/>
        </p:nvPicPr>
        <p:blipFill>
          <a:blip r:embed="rId1"/>
          <a:stretch/>
        </p:blipFill>
        <p:spPr>
          <a:xfrm>
            <a:off x="8153280" y="2895480"/>
            <a:ext cx="760680" cy="695520"/>
          </a:xfrm>
          <a:prstGeom prst="rect">
            <a:avLst/>
          </a:prstGeom>
          <a:ln w="0">
            <a:noFill/>
          </a:ln>
        </p:spPr>
      </p:pic>
      <p:pic>
        <p:nvPicPr>
          <p:cNvPr id="173" name="BD21297_" descr=""/>
          <p:cNvPicPr/>
          <p:nvPr/>
        </p:nvPicPr>
        <p:blipFill>
          <a:blip r:embed="rId2"/>
          <a:stretch/>
        </p:blipFill>
        <p:spPr>
          <a:xfrm>
            <a:off x="7848720" y="3276720"/>
            <a:ext cx="760320" cy="695160"/>
          </a:xfrm>
          <a:prstGeom prst="rect">
            <a:avLst/>
          </a:prstGeom>
          <a:ln w="0">
            <a:noFill/>
          </a:ln>
        </p:spPr>
      </p:pic>
      <p:pic>
        <p:nvPicPr>
          <p:cNvPr id="174" name="BD21297_" descr=""/>
          <p:cNvPicPr/>
          <p:nvPr/>
        </p:nvPicPr>
        <p:blipFill>
          <a:blip r:embed="rId3"/>
          <a:stretch/>
        </p:blipFill>
        <p:spPr>
          <a:xfrm>
            <a:off x="228600" y="5943600"/>
            <a:ext cx="760320" cy="69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163-FC2B-4D97-A594-1514703B0EFA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ульдина</cp:lastModifiedBy>
  <dcterms:modified xsi:type="dcterms:W3CDTF">2004-04-19T11:22:22Z</dcterms:modified>
  <cp:revision>11</cp:revision>
  <dc:subject/>
  <dc:title>Презентация PowerPoint</dc:title>
</cp:coreProperties>
</file>