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09D-DF8A-4851-B9A3-CE191C03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BC6-F865-4D5E-A0BA-BB388A50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830-53D8-4DCB-9676-C543142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EB1-881D-4120-8887-64C0DC33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0DC06-B6AE-4AA0-899C-62BF5793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B8693-4269-4A5A-B2C0-E027F7B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C4D5B-6C21-404F-9BB5-845A4567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637E1-2C1B-4660-972D-5BCCD7D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FB6A-165E-49F9-A3A0-F23763C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1701-2030-4C32-AD3E-E075B7C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9BA0F-FED4-4B6B-9B06-55DA5AD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85B-C559-402A-A718-32404885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C51C-6C23-40E6-98C3-D9691775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413B-5A5C-43DA-BF16-C0EFA51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8593A-DE20-4A40-928A-F1287D3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9DB66-D1F2-4601-B846-57B37168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C53D1-735B-4ABE-951D-F6671AF2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C27-6A2E-47AA-A914-EC929EC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232-ACA0-4D6D-B567-CA4B83D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7F9-7AA1-4843-BB9F-449669A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97F-FC2C-4D1A-94FC-20C79BBA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6C5-3D08-4FF5-9A46-C9298B9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F4C-BD3D-4F59-B74B-E0545C5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4B2-064F-4C97-A6C7-EAA957F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30F-7302-44D3-9A95-7C10269CF8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BFD-1F97-4194-B1F0-3DFE3D4B9E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5.radikal.ru/i150/0808/e6/4566a155ba7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КОУ «БоголюбовскаяСОШ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360" y="4797000"/>
            <a:ext cx="41972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ениц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уёва Окс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учитель физи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ясищева Е.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22 из 15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421000"/>
            <a:ext cx="424800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2124000" y="1341360"/>
            <a:ext cx="52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Тайны мыльных пузы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чему мыльный пузырь имеет форму сфер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екулы воды внутри удерживаются силами водородной связи со всех сторон, а молекулы на поверхности только с од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в итоге сила притяжения направлена внутрь жидкости. Образуется тонкая, упругая, невидимая пл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верхностное натяжение и фор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ерическая форма пузыря также получается за счёт поверхностного натяжения , которое делает поведение поверхности похожим на поведение чего-нибудь эластичного. Но пузырь только из воды нестабилен и быстро лоп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VCA358X7YCADIWRE7CAL6XYEGCAYLXCORCAUTE94KCAPVNVNCCA2N82GDCAD9P835CA2BG2HDCASM0UW4CA5WBZGBCAJT7B1KCA34TJ9CCAEDLKUMCAII7J97CABDTOPHCAC6Y4A3CAHAAOPLCASLJB3VCA6AECXQ"/>
          <p:cNvPicPr/>
          <p:nvPr/>
        </p:nvPicPr>
        <p:blipFill>
          <a:blip r:embed="rId1"/>
          <a:stretch/>
        </p:blipFill>
        <p:spPr>
          <a:xfrm>
            <a:off x="468360" y="2133720"/>
            <a:ext cx="36734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оявляется окраска мыльных пузырей? И почему же одни имеют радужную окраску, а другие – не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мненье, вера, пыл живых стра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а воздушных мыльных пузыр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 радугой блеснул, а этот - сер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разлетятся в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жизнь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http://im4-tub.yandex.net/i?id=51104748&amp;tov=4"/>
          <p:cNvPicPr/>
          <p:nvPr/>
        </p:nvPicPr>
        <p:blipFill>
          <a:blip r:embed="rId1"/>
          <a:stretch/>
        </p:blipFill>
        <p:spPr>
          <a:xfrm>
            <a:off x="539640" y="2133720"/>
            <a:ext cx="3384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куда эта красота?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 отражается от внешн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нутренней стенки плен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 их общий результ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меняется от толщины пленки. Красный-сине-зеленый – желтый – синий – зеленый – пурпурный-синий –золотисто -желтый –невидим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це стенка пузыря становится тоньше, чем длина волны видимого света, и мы перестаем видеть отражение совсем Когда это происходит, пузырь скоро лопн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стоящее время часто можно услышать: «Очередной кредитный союз в столице лопнул как мыльный пузырь». Словосочетанием «мыльный пузырь» характеризуют что-то недолговеч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пнул мыльный пузырь ненадежного зыбкого счастья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умев долететь к долгожданным седым облакам                                                (Зенкевич Александр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о удлиняет срок жизни пузы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ы пузырь жи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ьше, в в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воряют мы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о усилива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бые участки пузыр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давая им растягиваться дальше. Заодно предохраняет воду от испа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надуть красивый мыльный пузыр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Самый простой способ — использовать специальную жидкость для мыльных пузыр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Самостоятельно составить смесь, использу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дкое мыло или детский шампунь. Чем более чистое мыло , тем лучше результа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ицерин( купить в аптеке) или саха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!!!!!! Вода.В идеале дистиллированн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бегайте пузьрьков или пены на поверхности смеси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бегайте пыльного воздуха или ветра. Лучше делать пузыри в дождливый д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й рецеп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ющее средство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попробовала сделать мыльные пузыри и вот что у меня получилос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SDC10241"/>
          <p:cNvPicPr/>
          <p:nvPr/>
        </p:nvPicPr>
        <p:blipFill>
          <a:blip r:embed="rId1"/>
          <a:stretch/>
        </p:blipFill>
        <p:spPr>
          <a:xfrm>
            <a:off x="1835280" y="1916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SDC10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, почему образуются мыльные пузы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Почему они так краси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Что такое поверхностное натяжение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Где это явление можно использ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ывод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льные пузыри образуются за счет поверхностного натяжения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красивые мыльные плё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 бывает разный из-за интерференции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х можно наполнять любым газ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еще это просто чудесное зрелищ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ин Б.Д., Аликберова Л.Ю. Книга по химии для домашнего чтения. - М.: Химия, 1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www.alhimik.ru http://www.passion.ru/beauty/water/index.html http://www.samros.ru/news.shtml?id=992410915 http://www.pers.ru/mylnyipuzyry/index.html http://edu.rin.ru/cgi-bin/article.pl?ids=1&amp;id=7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ьные пузыри это переливающиеся всеми цветами радуги пле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21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705960" y="3263760"/>
            <a:ext cx="362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«Мыльный пузырь, пожалуй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самое восхитительное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самое изысканное явление природы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Марк Тв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исхождение мыльного пузыр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нь рождения мыльного пузыря и по сей день остаётся загадкой. Но доподлинно известно, что при раскопках древней Помпеи археологи обнаружили необычные фрески с изображением юных помпейцев выдувающих мыльные пузыри. Видимо, у них были свои секреты производства мы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редних веках изображение ангела, пускающего пузыри, помещали на надгробья и добавляли надпись: «От этого никто не уйдёт». Этим, по-видимому, хотели сказать, что жизнь хрупка, как мыльный пузы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 веке выпускали открытки с изображением мальчика пускающего пузыр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76360" y="1700280"/>
            <a:ext cx="5779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знаете ли вы, что имя самого удачливого «надувателя» мыльных пузырей из Берна вошло в книгу рекордов Гиннеса: в 1985 году мастер публично выдул пузырь длиной 4,5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9512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о такое мыльный пузыр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льный пузырь — тонкая пленка мыльной воды, которая формирует шар с переливчатой поверх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енка пузыря состоит из тонкого слоя воды, заключенного между двумя слоями молекул, чаще всего мы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0CAVGWHL0CADHKWFBCASGCWECCAJD7Y5ICAIP2HAFCA3K73KVCAAS7J7GCAI3KNIWCAI2FD1YCAVA1FC7CA4RW0XQCACICUBXCARBXDOYCA2UJFLBCAKYJBHKCA7L3FBQCAIWZ2HWCA5KYMW6CAZSCJDJCAFHVTKX"/>
          <p:cNvPicPr/>
          <p:nvPr/>
        </p:nvPicPr>
        <p:blipFill>
          <a:blip r:embed="rId1"/>
          <a:stretch/>
        </p:blipFill>
        <p:spPr>
          <a:xfrm>
            <a:off x="539640" y="2276640"/>
            <a:ext cx="345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слои состоят из достаточно сложных молекул - русалок - одна часть которых является гидрофильной (любит контактировать с водой), а другая гидрофобной (избегают подобного контакта, «боятся» воды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74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, пузырь, сделанный только из воды, нестабилен и быстро лопается. Для того чтобы стабилизировать его состояние, в воде растворяют поверхностно-активные вещества, например, мыло и глицери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03:56Z</dcterms:created>
  <dc:creator>DIN_VIN</dc:creator>
  <dc:description/>
  <dc:language>en-US</dc:language>
  <cp:lastModifiedBy>User</cp:lastModifiedBy>
  <dcterms:modified xsi:type="dcterms:W3CDTF">2013-04-02T06:40:17Z</dcterms:modified>
  <cp:revision>74</cp:revision>
  <dc:subject/>
  <dc:title>Гипотеза</dc:title>
</cp:coreProperties>
</file>