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4FB7-5BA6-4D8D-8519-77ADE5F0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3990-DEAA-4388-8B43-CB3CF48F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D553-CE8A-4EAA-A2FF-6774A32D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15C4-094A-47AD-BC02-18B36139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2B0C8-A901-457C-A13E-EA20ECEC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DF7AF-E9C0-4730-A1C2-1B0B1582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5120A-485E-4B66-935D-7ACB5C50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5B16F-331D-4773-B0F2-9774FBE1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59F2E-EEA9-41D8-8958-BDC88E1D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29719-7DD2-4848-BC21-B8EDDCEA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4B82B-942C-446E-BFF6-9D112513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802A-4BB7-41FC-8C76-22D90135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18F28-3FC3-4558-8F4E-0E07D998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9DE6E-7965-4D68-993F-5E35FD68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38BA9-1237-475A-90CA-9D378A41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672B1-7190-4D32-8A37-317FF2FA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2526D-CC2B-4BD8-902C-3BA134550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F3A6-D834-4F3A-B338-221596A2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5229-DB46-44C8-BC55-5DFAF1FA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6AF1-7895-4424-850A-401B8AAE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F37C-FEC5-44CE-BC39-9C81A40C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8F5-50E1-4BF2-BF83-53F52BD9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9829-46E5-4B79-9AC9-2D4A2A4F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ACAE-D348-42DD-8279-50570C79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D191-25EA-4C3B-8B3A-B37F52327A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C8E3-6747-41A9-83EA-17A5FF9D14B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55.radikal.ru/i150/0808/e6/4566a155ba75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КОУ «БоголюбовскаяСОШ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00360" y="4797000"/>
            <a:ext cx="419724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олнила учениц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лас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жуёва Окса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ководитель: учитель физик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ясищева Е.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i-main-pic" descr="Картинка 22 из 151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421000"/>
            <a:ext cx="424800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WordArt 6"/>
          <p:cNvSpPr txBox="1"/>
          <p:nvPr/>
        </p:nvSpPr>
        <p:spPr>
          <a:xfrm>
            <a:off x="2124000" y="1341360"/>
            <a:ext cx="5219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Тайны мыльных пузыр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очему мыльный пузырь имеет форму сфер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лекулы воды внутри удерживаются силами водородной связи со всех сторон, а молекулы на поверхности только с одн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в итоге сила притяжения направлена внутрь жидкости. Образуется тонкая, упругая, невидимая плен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4643280" y="1916280"/>
            <a:ext cx="4038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верхностное натяжение и форм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ферическая форма пузыря также получается за счёт поверхностного натяжения , которое делает поведение поверхности похожим на поведение чего-нибудь эластичного. Но пузырь только из воды нестабилен и быстро лопае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7" descr="VCA358X7YCADIWRE7CAL6XYEGCAYLXCORCAUTE94KCAPVNVNCCA2N82GDCAD9P835CA2BG2HDCASM0UW4CA5WBZGBCAJT7B1KCA34TJ9CCAEDLKUMCAII7J97CABDTOPHCAC6Y4A3CAHAAOPLCASLJB3VCA6AECXQ"/>
          <p:cNvPicPr/>
          <p:nvPr/>
        </p:nvPicPr>
        <p:blipFill>
          <a:blip r:embed="rId1"/>
          <a:stretch/>
        </p:blipFill>
        <p:spPr>
          <a:xfrm>
            <a:off x="468360" y="2133720"/>
            <a:ext cx="367344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появляется окраска мыльных пузырей? И почему же одни имеют радужную окраску, а другие – нет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мненье, вера, пыл живых страс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гра воздушных мыльных пузыре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т радугой блеснул, а этот - сер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разлетятся вс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т жизнь люд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7" descr="http://im4-tub.yandex.net/i?id=51104748&amp;tov=4"/>
          <p:cNvPicPr/>
          <p:nvPr/>
        </p:nvPicPr>
        <p:blipFill>
          <a:blip r:embed="rId1"/>
          <a:stretch/>
        </p:blipFill>
        <p:spPr>
          <a:xfrm>
            <a:off x="539640" y="2133720"/>
            <a:ext cx="338472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ткуда эта красота?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ет отражается от внешне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внутренней стенки пленк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дим их общий результа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меняется от толщины пленки. Красный-сине-зеленый – желтый – синий – зеленый – пурпурный-синий –золотисто -желтый –невидимы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конце стенка пузыря становится тоньше, чем длина волны видимого света, и мы перестаем видеть отражение совсем Когда это происходит, пузырь скоро лопн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настоящее время часто можно услышать: «Очередной кредитный союз в столице лопнул как мыльный пузырь». Словосочетанием «мыльный пузырь» характеризуют что-то недолговечн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опнул мыльный пузырь ненадежного зыбкого счастья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сумев долететь к долгожданным седым облакам                                                (Зенкевич Александр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ло удлиняет срок жизни пузыр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бы пузырь жи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льше, в вод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творяют мыл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ло усиливае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абые участки пузыр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давая им растягиваться дальше. Заодно предохраняет воду от испар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к надуть красивый мыльный пузырь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Самый простой способ — использовать специальную жидкость для мыльных пузыр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Самостоятельно составить смесь, использу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дкое мыло или детский шампунь. Чем более чистое мыло , тем лучше результа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лицерин( купить в аптеке) или саха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истая!!!!!! Вода.В идеале дистиллированна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бегайте пузьрьков или пены на поверхности смеси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бегайте пыльного воздуха или ветра. Лучше делать пузыри в дождливый ден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ой рецепт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ющее средство «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O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ицер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Я попробовала сделать мыльные пузыри и вот что у меня получилось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6" descr="SDC10241"/>
          <p:cNvPicPr/>
          <p:nvPr/>
        </p:nvPicPr>
        <p:blipFill>
          <a:blip r:embed="rId1"/>
          <a:stretch/>
        </p:blipFill>
        <p:spPr>
          <a:xfrm>
            <a:off x="1835280" y="19162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SDC102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ь рабо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следовать, почему образуются мыльные пузыр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Почему они так красив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Что такое поверхностное натяжение в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)Где это явление можно использ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Вывод: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ыльные пузыри образуются за счет поверхностного натяжения в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красивые мыльные плён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вет бывает разный из-за интерференции све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х можно наполнять любым газ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еще это просто чудесное зрелищ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итератур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ин Б.Д., Аликберова Л.Ю. Книга по химии для домашнего чтения. - М.: Химия, 19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www.alhimik.ru http://www.passion.ru/beauty/water/index.html http://www.samros.ru/news.shtml?id=992410915 http://www.pers.ru/mylnyipuzyry/index.html http://edu.rin.ru/cgi-bin/article.pl?ids=1&amp;id=7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ипотез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льные пузыри это переливающиеся всеми цветами радуги плен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4038480" cy="3213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4038840" cy="41148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"/>
          <p:cNvSpPr/>
          <p:nvPr/>
        </p:nvSpPr>
        <p:spPr>
          <a:xfrm>
            <a:off x="705960" y="3263760"/>
            <a:ext cx="3623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66"/>
                </a:solidFill>
                <a:latin typeface="Tahoma"/>
              </a:rPr>
              <a:t>«Мыльный пузырь, пожалуй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66"/>
                </a:solidFill>
                <a:latin typeface="Tahoma"/>
              </a:rPr>
              <a:t>самое восхитительное 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ff0066"/>
                </a:solidFill>
                <a:latin typeface="Tahoma"/>
              </a:rPr>
              <a:t>самое изысканное явление природы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66"/>
                </a:solidFill>
                <a:latin typeface="Tahoma"/>
              </a:rPr>
              <a:t>Марк Тве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роисхождение мыльного пузыр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нь рождения мыльного пузыря и по сей день остаётся загадкой. Но доподлинно известно, что при раскопках древней Помпеи археологи обнаружили необычные фрески с изображением юных помпейцев выдувающих мыльные пузыри. Видимо, у них были свои секреты производства мыл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редних веках изображение ангела, пускающего пузыри, помещали на надгробья и добавляли надпись: «От этого никто не уйдёт». Этим, по-видимому, хотели сказать, что жизнь хрупка, как мыльный пузыр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9 веке выпускали открытки с изображением мальчика пускающего пузыр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76360" y="1700280"/>
            <a:ext cx="57798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знаете ли вы, что имя самого удачливого «надувателя» мыльных пузырей из Берна вошло в книгу рекордов Гиннеса: в 1985 году мастер публично выдул пузырь длиной 4,5 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2951280" cy="29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Что такое мыльный пузырь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льный пузырь — тонкая пленка мыльной воды, которая формирует шар с переливчатой поверхность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енка пузыря состоит из тонкого слоя воды, заключенного между двумя слоями молекул, чаще всего мыл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6" descr="0CAVGWHL0CADHKWFBCASGCWECCAJD7Y5ICAIP2HAFCA3K73KVCAAS7J7GCAI3KNIWCAI2FD1YCAVA1FC7CA4RW0XQCACICUBXCARBXDOYCA2UJFLBCAKYJBHKCA7L3FBQCAIWZ2HWCA5KYMW6CAZSCJDJCAFHVTKX"/>
          <p:cNvPicPr/>
          <p:nvPr/>
        </p:nvPicPr>
        <p:blipFill>
          <a:blip r:embed="rId1"/>
          <a:stretch/>
        </p:blipFill>
        <p:spPr>
          <a:xfrm>
            <a:off x="539640" y="2276640"/>
            <a:ext cx="3456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и слои состоят из достаточно сложных молекул - русалок - одна часть которых является гидрофильной (любит контактировать с водой), а другая гидрофобной (избегают подобного контакта, «боятся» воды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5003640" y="2133720"/>
            <a:ext cx="37450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ако, пузырь, сделанный только из воды, нестабилен и быстро лопается. Для того чтобы стабилизировать его состояние, в воде растворяют поверхностно-активные вещества, например, мыло и глицерин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6:03:56Z</dcterms:created>
  <dc:creator>DIN_VIN</dc:creator>
  <dc:description/>
  <dc:language>en-US</dc:language>
  <cp:lastModifiedBy>User</cp:lastModifiedBy>
  <dcterms:modified xsi:type="dcterms:W3CDTF">2013-04-02T06:40:17Z</dcterms:modified>
  <cp:revision>74</cp:revision>
  <dc:subject/>
  <dc:title>Гипотеза</dc:title>
</cp:coreProperties>
</file>