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29B8-E082-4135-A546-5B52D96C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1B0-CF98-4786-A6F8-D1569C79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186-D800-4E29-A8A8-E3D538CC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8DE-AC26-4ED1-8546-BAC499E3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EC15-E344-4386-A26D-A4BC6E0F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D81E-6C0C-40EB-8EB7-98648DE7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8F52-680A-457F-BC0E-E2E7A071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90F7-EAD7-40DC-BB87-D022AFFF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47CC-2975-44C1-95E9-2906D753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5C13-28AD-4231-B116-66E20757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9FD9-F84C-4B70-BA6A-2250E969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988-494A-4D3A-BDA7-F92B72E7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9261-FF57-4EB3-A668-998CAEDA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F06F-8280-4536-B46F-9B433326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3B67-3BC1-48B5-99C0-566F07D1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4042-BC0B-468A-8E68-2228DD5B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4CFF-81C9-488E-84C2-1AC4CA6E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5E6A0-5D3D-43D7-88B5-AF4BDF18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4578B-B5F3-41B3-A8CF-B9FFCFFA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5F431-2078-42C8-BD99-64B2D537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406B5-D8B4-4E4E-913E-C550DEFD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70DAF-B04C-498D-A7AF-8B927F44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20B-01A4-415D-81CD-F4B1BF33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507E8-797B-443B-B557-7366D345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D641C-63F8-4903-BF69-8A296C12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2C114-DD52-4EDB-B535-54B3B6EE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A5E0E-5929-434C-877F-9506D31D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35C07-9A72-4ED1-B3E1-3D678628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78827-2E03-427C-97D5-7A4B2361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30C7D-3EFA-4D5A-B2DE-1EA722F5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23A78-E5D1-4028-9B44-4BB7F5E5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862C9-0D97-4979-9B57-D7713E72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69CC9-9A91-4559-B8E0-BECB8B5A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8812-FC16-43F3-9E8F-1A6EA749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8D8C0-ADBF-4FA7-BED4-BE32AA66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6D666-2276-45F8-B0D8-229187FD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EF554-E00D-4F59-AFD2-0A62CFEF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1F47E-D860-431E-8623-20D7323C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C1CE8-FD99-4BB5-B1AD-36177184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FB110-28E5-4FF0-9C2D-1CB49894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5D4F8-3ACD-4E89-80FF-C26EF36E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9F292-4F6B-4EA9-AD79-15D20734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AD2B8-F8A9-4421-9DB0-CAE76F65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5C797-F47A-4AE7-A8A5-A5620F47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02E-1A69-48F7-A738-7613BC03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5A463-ACF9-4A2F-A64F-CC698E7F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9D0E9-5951-4865-B3CA-3337F32C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95BFE-6300-415A-A6C7-087A1590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A2E7D-E9F0-43EE-AF09-7753A3AF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D9670-2332-429C-A247-D293667E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A1DE8-754A-4453-A041-13D7D7AD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16418-9D19-4B85-A71E-4EE8AC13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B67DD-8B75-4222-B565-B63C881C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19C01-A042-41CC-82E3-64B10C63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9CC9C-F54B-4283-9F62-FAB92473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B2F-AACF-4F37-8071-9B2065F7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C2E1A-6558-45C1-9866-73801BD3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B94C3-3B4F-4BD9-B673-0B0D8E43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C6724-227A-499F-83C8-AB1306A4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D70B3-C34F-4527-A6BB-3AD420FF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29700-1AC0-457C-92F5-C51BBA3B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F0EE8-450D-4EED-8537-7B2C4213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9E85C-AB36-4000-A048-6DCE170A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71603-A59A-4831-B4A6-9E4C073B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1BC6C-6333-4C61-B440-C654AD44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E09C5-AC6B-4B93-AB15-D8D7D4CC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4FE-6865-408F-8A58-A26C56F3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7917B-323F-41F1-868C-D325CA5D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74CC7-5755-42E0-9042-2E99EDB3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0A169-8F04-4419-BC9B-D75DE77D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E6779-2B60-488A-9830-3705B2AB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9FA9C-30A6-485A-B60F-F6C9BDEA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C4A27-F32A-4493-AA61-C22AFF57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01D65-2E82-4CF7-89E8-9419F3B6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97A83-FB54-4D58-8968-4967C233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179F6-8414-4DD5-95B6-D04571C3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64C33-582A-40C9-9297-008E964C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FFA-8845-451D-BC90-CBC66AB1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C32DF-5FCA-4C47-8DD3-E3E4C1D8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250CE-566B-42EF-BB5E-FB31CADB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643C3-D85F-4A10-8D5A-E435A392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5E0B9-B7F7-4FA6-861C-6F8978A5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39EED-5DE5-4E42-BBD1-80C5ED40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5F7-C82F-4844-A116-492501E1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5087-D266-4733-9AA8-47D2BDE57F4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7FED-08F6-4FC2-9AAD-D47B931B026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3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4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2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15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16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17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18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19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0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1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2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23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24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25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26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59D8-E077-49AE-BF32-EAFBC24E596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04BE-0497-43F8-9B9E-F486232D869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FCE4-1E3A-4A86-ADA8-901507386FB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A83B-C006-4042-9419-874A3B30C98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14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15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16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13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10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11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12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17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18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19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20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AB12-7C57-41DE-883D-B7CD9A44E8C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Недаром  помнит вся Россия                                                                                           Про день Бородина!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6 ученик (слайд 8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428840"/>
            <a:ext cx="77724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Я, Кутузов Михаил Илларионович,- светлейший князь Смоленский. Ученик Суворова, русский полководец, генерал-фельдмаршал 1812г. Я прибыл в ставку русской армии и принял решение дать генеральное сражение французам у села Бородино в 120 км. от Москвы. Я выбрал Бородинское поле не случайно: курганы подходили для установки артиллерии. Более 12 часов шел ожесточенный бой. Правый фланг русской армии возглавил Барклай-де-Толли, а левый- Багратион. Бой был жестоким. Наполеон ударил в центр, захватил батарею генерала Раевского. Французы потеряли убитыми 58 тыс.человек, 47 лучших генералов выбыли из строя. Из всех моих поражений самое ужасное то, которое я дал под Москвой. Французы показали себя в нем достойными одержать победу, а русские стяжали право быть непобедимыми. Я знал главное: если страна сохранит живую силу армии, - она не побеждена, если потеряет, то поражение неизбежно. Когда уничтожится армия, погибнут Москва и Россия. Поэтому  после военного совета в деревне Фили под Москвой я  все-таки принял решение сдать врагу Москву без боя. В деревенской избе в Филях присутствовало 10 генералов русской армии, шестеро из которых проголосовали за то, чтобы оставить Москву, четверо были против такого решения.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Великий день Бородина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Мы братской тризной поминали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Твердили: Шли же племена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дой России угрожая.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Не вся ль Европа тут был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А чья звезда ее вел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Но стали ж мы пятою твердой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Грудью приняли напор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лемен, послушных воле гордой,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И равен был неравный спор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7 ученик (слайд 9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Я, ДЕНИС ДАВЫДОВ,- командующий гусарского полка и партизанского отряда.                14 сентября русские покинули Москву. Русская армия шла по пятам Наполеоновской армии. Партизаны помогали истреблять французов, налетая  на оные отряды, захватывая французов  в плен, отбирая награбленное. Война приобрела народный характер: крестьяне угоняли скот, жгли избы, уходили в леса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Тебе , певцу, тебе, герою!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Не удалось мне за тобою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ри громе пушечном, в огне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Скакать на бешеном коне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8 ученик (слайд 10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Я,  ТОЛЬ,- граф, штабной генерал Действующей армии, докладываю: «Бородинское сражение пребудет вечным памятником мужества русских войск. Все единодушно желали лучше погибнуть на месте сражения, нежели уступить оное неприятелю. Французская армия под предводительством императора Наполеона и с превосходившими силами не могла поколебать твердости духа и несравненных российских воинов, жертвовавших охотно жизнью за  государя и отечество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Сразились, Русский-победитель!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И вспять бежит надменный галл,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О, бородинские кровавые поля!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Не вы неистовству и гордости пределы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Увы! На башнях галл Кремля!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9 ученик (слайд 11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Я, КАРАМЗИН, –историк, оставался в Москве до вступления в город армии Наполеона. Наши добрые москвитяне изъявили готовность умереть за честь древней столицы: вооружаясь саблями и пиками. Все: купцы, ремесленники, мещане, фабричные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10 ученик 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Я, гвардеец наполеоновской армии сержант БУРГОНЬ. Мы рассчитывали, что с захватом Москвы война завершится. В эту минуту забывалось все- опасности, труды, усталость, лишения, и думалось только об удовольствии вступить в Москву, добраться до удобных квартир на зиму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11 ученик (слайд 12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Я, участник войны 1812 г. ЯКУШКИН, свидетельствую, что цель наша состояла в том, чтобы изгнать вторгшихся в Россию галлов и с ними двунадесять языцы. При приближении французов жители удалялись в леса и болота, оставляя свои жилища на сожжение. Все народонаселение Москвы вместе с армией выступило из древней столицы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ылай , великая Москва!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Настали времена другие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Исчезни краткий наш позор,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Благослави  Москву , Россия!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4 ученик (слайд 13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400" y="1500120"/>
            <a:ext cx="77724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Я,  НАПОЛЕОН . У меня нет ни малейших сомнений, что русские сожгли город, чтобы он не достался французам. 14 сентября  русские покинули Москву  и город тут же запылал. Пожар не только уничтожил продовольственные запасы, но и жилища, нужные для расквартирования армии французской. Увезены были все пожарные трубы и приспособления для тушения огня, были задержаны поджигатели с факелами. Огонь распространялся по деревянной Москве и уничтожал продовольствия, жилье, палаты для раненых. Разозленные солдаты занимались мародерством и грабежом уцелевшего добра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Края Москвы, края родные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И вы их видели, врагов моей отчизны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И вас багрила кровь и пламень пожирал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Исчезли здания вельможей и царей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Все пламень истребил…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И там, где роскошь обитала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Там ныне угли, пепел, крах…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Все мертво, все молчит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eeff"/>
                </a:solidFill>
                <a:latin typeface="Consolas"/>
              </a:rPr>
              <a:t>(слайд 14)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500120"/>
            <a:ext cx="77724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Я обратился к Александру 1 с предложением мира, но русский царь был непреклонен, оставив мои послания без ответа. 7 октября я принял решение уйти из Москвы. В отместку Александру и всей стране я велел взорвать Кремль, но начавшийся дождь спас его от уничтожения .  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Как сердца русских не достигнул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Ты с высоты отважных дум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еликодушного пожара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Не предузнав, уж ты мечтал,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Что мира вновь мы ждем как дар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Но поздно русских разгадал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6 ученик (слайд 15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1642680"/>
            <a:ext cx="77724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Я, КУТУЗОВ,   узнал, что Наполеон пошел на Калугу, где рассчитывал пополнить запасы продовольствия. Я распорядился преградить противнику путь . Это заставило Наполеона возвращаться по разоренной Можайской дороге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12 ученик 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Я, НЕЙ, –командующий арьергардом Великой армии. Во время отступления французских войск из Москвы негде было достать ни еды, ни теплой одежды, а с ноября ударили 30-ти градусные морозы. Люди так ослабели, что не могли подняться и замерзали. Вся дорога была устлана трупами. . Благодаря моей храбрости и энергичности были спасены тысячи французских солдат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Утешься, мать градов России,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Воззри на гибель пришлеца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Взгляни: они бегут, озреться не дерзают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Их кровь не престает в снегах реками течь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Бегут- и  в тьме ночной их глад и смерть стретают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А с тыла гонит россов меч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4 ученик (слайд 16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Я, НАПОЛЕОН ,  понимал: надо перейти Березину раньше, чем русские отрежут переправу, иначе мне и остаткам моей армии грозил плен. Во время этой операции мы потеряли более 20 тыс. человек, часть из которых погибли, остальные попали в плен. 18 декабря я передал командование Мюрату и уехал в Париж, наказав маршалам хранить  в тайне мой отъезд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1  ученик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Я, ТАЛЕЙРАН, с самого начала войны осознавал, что побежденный Наполеон должен был исчезнуть с мировой сцены, такова судьба узурпаторов, потерпевших поражение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Чудесный жребий совершился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Угас великий человек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В неволе мрачной затаился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Наполеона грозный век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Исчез властитель осужденный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Могучий баловень побед.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13 ученик (слайд 17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Я, РЯДОВОЙ.  Мы оставили Россию и идем теперь в иностранные земли, но не для овладения оными, а для их спасения. Надо даровать мир и спокойствие Европе, говорит наш государь нам, и мы идем на Запад с войною для мира. До сих пор мы сражались для спокойствия нашего Отечества, теперь будем сражаться для спокойствия всей  Европы. Надо пользоваться расстройством неприятеля, чтоб не дать ему усилиться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Оцепеневшими руками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Схватив железный свой венец,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Он бездну видит пред очами,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Он гибнет, гибнет наконец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Бежит Европы ополченье,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Окровавленные снега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Провозгласили их паденье,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И тает с ними след врага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Rectangle 1"/>
          <p:cNvSpPr/>
          <p:nvPr/>
        </p:nvSpPr>
        <p:spPr>
          <a:xfrm>
            <a:off x="857160" y="680760"/>
            <a:ext cx="714384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ЦЕЛИ  и  ЗАДАЧ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С помощью музыкально-поэтической композиции воссоздать хронику событий той эпох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Сформировать сознание учащихся в плане понимания исторической важности и значимости победы России в войне 1812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Пробудить чувства патриотизма и любви к своему Отечеств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ТИП  УРОКА : Урок изучения нового учебного материала с элементами нетрадиционной формы урока (театрализованный урок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ОБОРУДОВАНИЕ : компьютер, сканер, мультимедийный проекто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Стихи А.С.Пушкина, посвященные войне 1812 г., документальные материалы, литературные издания. Рисунки учащихся, приуроченные к данному урок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Презентация «Отечественная война 1812 года» (более 20 репродукций: военные баталии и портреты Талейрана, Меттерниха, Наполеона, Кутузова, Александра 1, Д.Давыдова и др.) в сопровождении музыки П.И.Чайковского «Война 1812 г.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ПЛАН  УРО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Оргмомен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Вступительное слово учите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Постановка цели и зада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Повтор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Презент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Подведение итог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Домашнее зад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5 ученик (слайд 18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Я, АЛЕКСАНДР 1,  сообщаю: 18 марта 1814 года  союзные армии взяли Париж. Французы капитулировали. Наполеон отрекся от престола и был сослан на остров Эльбу. В 1815 г. после неудачной попытки снова взять власть, был отправлен на остров Святой Елены, где и умер. После поражения  Наполеона я решил увековечить победу русского оружия в храме, который бы одновременно стал памятником 1812 г., так началась история возведения храма Христа  Спасителя в Москве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Изгнанник помнил звук мечей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И льдистый ужас полуночи!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И небо Франции своей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Забыв войну, потомство, трон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Один, один, о милом сыне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В унынье горьком думал он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14 ученик (слайд 19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В честь Отечественной войны 1812 г. воздвигнута грандиозная триумфальная арка в Москве. Существует величественная Панорама «Бородинская битва», в которой воссоздана военная баталия 1812г. Панорама была открыта в Москве на Кутузовском проспекте В память о героях 1812 года учреждена государственная награда-орден Кутузова 3-ей степени. . На стенах  галереи в Эрмитаже в Петербурге размещено свыше 300 портретов генералов русской армии эпохи Отечественной войны 1812г. Среди них портреты М.И.Кутузова и его боевых соратников- Багратиона, Ермолова, Раевского, Дениса Давыдова и др. Портреты написаны известным английским художником Доу, 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который</a:t>
            </a: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 более 10 лет с помощью русских живописцев  работал в Зимнем дворце над выполнением этого заказа. Отечественной войне 1812г. посвящали стихи такие великие поэты как Пушкин и Лермонтов. Лев Николаевич Толстой написал знаменитый роман «Война и мир», а режиссер Бондарчук экранизировал это произведение, увековечив память о войне 1812года.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.У русского царя в чертогах есть палата: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Она не золотом, не бархатом богата..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Не в ней алмаз венца хранится за стеклами.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Но сверху, до низу, во всю длину, кругом,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Своею кистию свободной и широкой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Её разрисовал художник быстроокий.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Тут нет …ни плясок, ни охот: а всё плащи, да шпаги,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Да лица полные воинственной отваги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Толпою тесною художник поместил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Сюда начальников народных наших сил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Покрытых славою чудесного похода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И вечной памятью двенадцатого года.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(слайд 20)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14400" y="1071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6. Подведем итоги.  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Каждый из вас прекрасно справился с ролью. Из  предоставленного исторического материала мы  понимаем, что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Отечественная война 1812 г. была справедливой, народной войной. Благодаря победе России в этой войне , наша  страна не стала порабощенной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«Война 1812г. пробудила народ русский к жизни и составляет важный период в его политическом существовании. Мне теперь еще помнятся слова шедшего около меня солдата: «Ну, слава богу, вся Россия в поход пошла!». Каждый чувствовал, что он призван содействовать в великом деле», – отрывок из «записок» участника войны 1812г., декабриста И.Д.Якушина о характере войны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7.Домашнее задание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В качестве домашнего задания  я рекомендую самостоятельно подготовить материал о  героях войны 1812 года (полководцах ,партизанах ) ,о которых мы поговорим на следующем уроке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Барклай-де-Толли и Багратион –командующие русской армией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Ермолов и Коновницын –состояли при штабе армии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Раевский –батарея Раевского бесстрашно действовала под Смоленском и Бородино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Неверовский – командовал дивизией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Платов –командовал казачьим корпусом. В Бородинском сражении совершил рейд в тыл противника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Кутайсов – начальник артиллерии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Милорадович – командовал авангардом при преследовании наполеоновской армии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Братья Тучковы –участники бородинского сражение, геройски погибли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Сеславин – командовал партизанским отрядом. Обнаружил отход французов из Москвы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Д.Давыдов – герой войны, поэт, командующий гусарского полка и партизанского отряда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Курин Герасим –возглавлял пятитысячный отряд партизан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Кожина Василиса – стояла во главе партизанского отряда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Тихон Щербатый –прославился удалью и храбростью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Дьяк -  о его победах написано в романе Толстого «Война и мир». Будучи начальником партизанского отряда он за один только месяц взял в плен сотни французов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О, ринь меня на бой, ты опытный в боях,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Ты, голосом своим рождающий в полках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Погибели врагов предчувственные клики,</a:t>
            </a: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Вождь гомерический, Багратион великий!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Простри мне длань сою, Раевский,мой герой!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Ермолов! Я лечу- веди меня, я твой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14400" y="2999880"/>
            <a:ext cx="7772400" cy="33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928800" y="510120"/>
            <a:ext cx="771516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ХОД  УРО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1. Оргмомен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Здравствуйте, дети. Сегодня урок истории будет проходить в кабинете, который технически оснащен, что предаст нашему  занятию более яркий и образный характер. Урок сегодня необычный: пройдет он в виде театрализованного представления. Учащиеся заранее подобрали необходимый текстовой материал и распределили роли, а также выучили стихи, посвященные историческим событиям 1812 г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2. Вступительное слово учител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Сегодня урок посвяшен знаменательной дате – 200-летию со дня победы в Отечественной войне 1812г. Нашему народу удалось сокрушить «непобедимую» французскую армию, которую возглавлял Наполеон-Бонапарт-император Франции- стремился к мировому господству. В 1807 году он принудил Россию подписать Тильзитский мир, который наносил огромный ущерб ее хозяйству и ее государственному престижу. Наполеон завоевал к тому времени почти всю Европу. Россия оставалась главным препятствием к осуществлению его замысла: покорить весь мир. В июне 1812г. войска Наполеона вторглись в Россию, что явилось началом войны.                               3.Цель и задачи.                                                                                                                                                                   Цель урока состоит в том, чтобы с помощью музыкально-поэтической композиции соприкоснуться с историей нашей страны, прочувствовать и осознать грандиозное значение победы России в Отечественной войне 1812г. Для реализации цели нашего урока подготовлена музыкально-поэтическая композиция , которая выдержана в рамках хроники событий войны 1812 года. Впечатления и высказывания о реалиях той эпохи даны от первого лица, очевидцев и участников исторических событий 1812 года. Композиция с участием детей будет проходить на фоне презентации «Отечественная война 1812 года».                                                                                                               4.Повтор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Совершим экскурс в историю. Вспомним хронику событий войны 1812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12 июня – вторжение наполеоновских войск в Россию и начало вой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Июль-август – Смоленское сра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26 августа –Бородинское сра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1 сентября –Совет в Филя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2 сентября –вступление Наполеона в Москву и начало пожа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Октябрь-ноябрь – отступление и переправа французских войск через Березин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Декабрь 1812 г. –Изгнание наполеоновских войск из Росс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1813-1814 гг. – Заграничные походы русской арм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18 марта 1814г. – Вступление союзных войск в Париж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5.Выступление учащихся (Презентация)                                                      1 ученик  (слайд  2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Прямоугольник 3"/>
          <p:cNvSpPr/>
          <p:nvPr/>
        </p:nvSpPr>
        <p:spPr>
          <a:xfrm>
            <a:off x="1714680" y="2857680"/>
            <a:ext cx="600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Я «слуга всех господ» и «отец лжи» Талейран. Я потомок аристократического рода. Я принял духовный сан. Меня пророчили в кардиналы, но благодаря таланту политика и дипломата я стал министром иностранных дел. Именно я помог Наполеону прийти к  в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2 ученик (слайд 3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146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Я, Меттерних,-дипломат, всю жизнь посвятил служению австрийскому императору Францу . Будучи дипломатом я стремился сохранить мир в Европе. Именно я в 1810 г. устроил бракосочетание Наполеона с Марией-Луизой Австрийской в надежде обеспечить мир с Францией. Но мои расчеты не оправдались. Австрия стала «слугой» Наполеона.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Rectangle 2"/>
          <p:cNvSpPr/>
          <p:nvPr/>
        </p:nvSpPr>
        <p:spPr>
          <a:xfrm flipH="1">
            <a:off x="9143280" y="-55800"/>
            <a:ext cx="107172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Я Меттерних-дипломат, всю жизнь посвятил служению австрийскому императору Францу . Будучи дипломатом я стремился сохранить мир в Европе. Именно я в 1810 г. устроил бракосочетание Наполеона с Марией-Луизой Австрийской в надежде обеспечить мир с Францией. Но мои расчеты не оправдались. Австрия стала «слугой» Наполеона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3 </a:t>
            </a: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ученик (слайд 4) 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500120"/>
            <a:ext cx="77724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Я, Жозефина, –первая жена Наполеона. У нас не было совместных детей и мы развелись в 1809 году. Однако всю жизнь мы поддерживали с Бонапартом  теплые и сердечные отношения. На Марии-Луизе он женился не по любви, а из политических соображений, выбирая между двумя невестами-дочерью российского императора Павла1 Анной и дочерью австрийского императора Марией-Луизой, сделал предложение последн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4 </a:t>
            </a: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ученик (слайд 5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500120"/>
            <a:ext cx="77724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Я, Наполеон Бонапарт, в 24 года стал генералом, в 35 лет Я Наполеон Бонапарт в 24 года стал генералом, в 35 лет-императором Франции. Я завоевал всю Европу. Я превратил Францию в ведущую силу на континенте, соперничать с которой могла лишь Англия-владычица морей. Я родился в 1769г. на Корсике, в семье дворянина, закончил Парижскую военную школу. В годы революции сделал стремительную военную карьеру. В 1802 г. я принял полномочия пожизненного консула. В 1804 году я был коронован императором. Я сделал эмблемой своей империи пчелу, потому что улей символизирует «республику с одним правителем». В 1812 году совершил роковую ошибку: вторгся в Россию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Тогда гроза двенадцатого год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Еще спала. Еще Наполеон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Не испытал великого народ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Еще грозил и колебался он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14280" y="5000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5 </a:t>
            </a: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ученик (слайд 6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Я, Александр Павлович Романов ,- император государства Российского. 12 марта 1801 г. я вступил на престол и объявил, что буду царствовать «по законам и по сердцу в бозе почивающей августейшей бабки», и начал с отмены наиболее одиозных указов своего родителя. 24 июня 1812г. войска Наполеона вторглись в Россию. Наполеон ввел в Россию около 600 тыс. человек, против которых стояло у западной границы всего 210 тыс. русских войск. Наполеон быстро продвигался в глубь страны. Был захвачен город Смоленск. Я недолюбливал Кутузова, но под давлением общественности был вынужден подписать 8 августа 1812 г. подписать указ о назначении Кутузова главнокомандующим русских войск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Воспитанный под барабаном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Наш царь лихим был капитаном: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од Аустерлицем он бежал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В двенадцатом году дрожал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1 ученик (слайд 7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Я,  ТАЛЕЙРАН, заявляю  «Когда, отвергая всякое разумное соглашение, Наполеон бросился в 1812г. в роковой поход против России, всякий рассудительный человек мог заранее указать день, преследуемый оскорбленными им державами, он будет вынужден перейти Рейн и утратить власть, дарованную ему судьбой.»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Страшись, о рать, иноплеменных!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России двинулись сыны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Восстал и стар, и млад: летят на дерзновенных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Сердца их мщеньем возжены Вострепещи, тиран! Уж близок час паденья!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Ты в каждом ратнике узришь богатыря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Их цель: иль победить, иль пасть в пылу сраженья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За веру, за царя!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0T11:48:01Z</dcterms:created>
  <dc:creator>User</dc:creator>
  <dc:description/>
  <dc:language>en-US</dc:language>
  <cp:lastModifiedBy>User</cp:lastModifiedBy>
  <dcterms:modified xsi:type="dcterms:W3CDTF">2012-11-30T07:52:44Z</dcterms:modified>
  <cp:revision>56</cp:revision>
  <dc:subject/>
  <dc:title>Отечественная война 1812 года</dc:title>
</cp:coreProperties>
</file>