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3F5-7D22-4747-83EA-9D35CC77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514-0B2F-48FE-9BF7-C5A0D26F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94E-182A-45CA-84C1-1FE14E59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746-EF0C-4725-8E87-719E97F7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BDF1-0DC4-44BE-8374-FE25D3BF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DB5D-7CFE-4DEE-A2F1-AB2A44CE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5AE7-881F-43BD-B1E2-63A6069E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D406-63FC-4DBC-AAA6-83B784EE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6937-085C-4389-BEA7-1223CABB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6873-C94A-486F-9D43-48ADF7DC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6EBA-C556-416D-A1CC-295FC2EA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AE3-1908-44F9-B2A7-A6F6D3DA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B160-D983-40DB-BC39-61BBCF7D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8502-9107-4106-875A-E0E6E646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50BC-B8EC-432D-8D81-F4BED5AD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2128-83C1-4C15-902F-339EF8CA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32AD-271B-4F52-BE8D-00EC10CD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511ED-4C8E-4313-8F52-7DD4DBFB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0C6C2-2F19-4824-A179-EE43E744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3E0DC-07DC-4C84-B20B-CD15769A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C76BB-5E7C-4795-8052-312B0C17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9C4C-2429-4995-B982-E18ACE82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4ED-5A06-4E51-A33D-5EE29A4B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00B20-0039-4529-A169-7F3A13E0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AD94-557F-44CE-955A-9E2E8206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C79E7-E1FE-49F3-81A1-D3141555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EA437-820C-482B-9E04-EBBEC971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8B30B-6963-4BA3-9F02-7E6FCE94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1ED83-5474-45EC-B401-F05CB64E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D489D-786D-4D6C-82D0-065A953B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BEE38-B188-47E7-B5DF-4968166E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51411-818B-48FF-899A-BAE01CDD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AA052-03F0-4848-B431-039DAA19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AFD-6CA6-4AC2-BFE6-7542DDDB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C6C0C-0D25-4FBB-85B4-BE5D3095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E53E5-2A5E-4057-BE48-222CE671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A4D97-E881-4185-8D21-64BAA751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BBB62-5AF7-4CB9-AFAE-32317A29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53962-0E09-496E-9B15-AC7C4F5B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4BAE0-C427-46BF-BEE8-36769910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C6B03-455B-4A42-8C06-03CC4CB3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44685-EF5D-4F20-92B9-2052266C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A2B9C-3B8A-467A-9CFC-D4BD0F63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6B4B7-E26F-4D0E-BAEF-90E25C54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4E5-B199-4A5A-B926-40467DFB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C541C-52A1-4EC0-BC37-CE74C405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87946-581D-40A2-A2B6-C0163250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AB4CA-4B92-43A4-8C15-B6AAC692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88EE4-3F17-4E1D-B443-2B7D3AB9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E2C3E-4B7A-4D50-8AA7-BE75692C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DBC3E-5B8D-4D1D-B708-97DAFE18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D8A02-A816-4706-A91B-951785D4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03904-4871-4529-B065-F40FBB71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6E91C-D1B8-4E49-8B49-BF3E7D92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A88A5-80D8-41C5-8CC9-B3B4BC63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3A3-62BA-4019-8239-3E6FF7EB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41A99-6BF8-4F19-88A4-835446F0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B12ED-FD61-432A-9377-01F0D7FA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675A1-0524-4EAD-9B3D-BCF9C04D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F4ACA-95E5-4888-A922-9FED7779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777FB-752A-47C5-8A72-50A82A20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77529-96D6-4F35-A5EE-34B2FBD1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2FA71-1998-48A2-9D78-60766334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B07A6-0CF7-4A29-B75B-18D370BE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BCE92-56DE-4F64-AD8B-818083F7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5F446-725F-4867-81CD-452D6D20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4C1-89D7-4144-8CB8-CE998982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09CB5-DAFD-4A2F-82FD-1BF80800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C905E-DF1A-4083-BA88-0577F472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22532-2593-4231-A24C-82E70563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48A9B-158E-42C9-B690-3CC658D8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13CF9-660E-4B2B-9DFF-90AE338D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6CD50-4E78-41F2-89DB-902F2764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5BD97-0251-4E2E-BA83-1AF852E0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3FEAB-C3BF-4377-B54E-0C91F911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97260-36E4-483B-A6E2-258912CA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73B1E-718D-494B-8506-00054772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235-A684-4E6E-9487-D707F5AD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B99BF-BEBA-41FD-BA55-E77A0FE5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F5235-4396-4D22-A425-1D9B2CD4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53506-1CE0-499A-8D4A-765BCF42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3B257-0B23-4A6B-ABC5-AA11CA26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9130B-5904-4F71-8ABE-2383E24D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672-5920-4C03-AD30-CABE8285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5B25-F2B2-49B0-84D9-3905266241B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AEF2-1BCC-4E20-A0A2-863B24EC222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3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4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2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15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16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17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18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19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0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1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2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23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24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25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26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7CE4-99E9-447B-9FB9-641AF061E04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2DE0-CEA8-44F2-9F51-86665B8DC1E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2453-BB99-46F0-84E7-8D912B0E6E9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DACC-02BD-4F01-80FE-27CA1E978C8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14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15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16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13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10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11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12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17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18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19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20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9FA5-DB0D-45E8-A6E3-F8C43BE1BF8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Недаром  помнит вся Россия                                                                                           Про день Бородина!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6 ученик (слайд 8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428840"/>
            <a:ext cx="77724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Я, Кутузов Михаил Илларионович,- светлейший князь Смоленский. Ученик Суворова, русский полководец, генерал-фельдмаршал 1812г. Я прибыл в ставку русской армии и принял решение дать генеральное сражение французам у села Бородино в 120 км. от Москвы. Я выбрал Бородинское поле не случайно: курганы подходили для установки артиллерии. Более 12 часов шел ожесточенный бой. Правый фланг русской армии возглавил Барклай-де-Толли, а левый- Багратион. Бой был жестоким. Наполеон ударил в центр, захватил батарею генерала Раевского. Французы потеряли убитыми 58 тыс.человек, 47 лучших генералов выбыли из строя. Из всех моих поражений самое ужасное то, которое я дал под Москвой. Французы показали себя в нем достойными одержать победу, а русские стяжали право быть непобедимыми. Я знал главное: если страна сохранит живую силу армии, - она не побеждена, если потеряет, то поражение неизбежно. Когда уничтожится армия, погибнут Москва и Россия. Поэтому  после военного совета в деревне Фили под Москвой я  все-таки принял решение сдать врагу Москву без боя. В деревенской избе в Филях присутствовало 10 генералов русской армии, шестеро из которых проголосовали за то, чтобы оставить Москву, четверо были против такого решения.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Великий день Бородина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Мы братской тризной поминали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Твердили: Шли же племена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едой России угрожая.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Не вся ль Европа тут был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А чья звезда ее вел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Но стали ж мы пятою твердой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Грудью приняли напор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лемен, послушных воле гордой,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И равен был неравный спор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7 ученик (слайд 9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Я, ДЕНИС ДАВЫДОВ,- командующий гусарского полка и партизанского отряда.                14 сентября русские покинули Москву. Русская армия шла по пятам Наполеоновской армии. Партизаны помогали истреблять французов, налетая  на оные отряды, захватывая французов  в плен, отбирая награбленное. Война приобрела народный характер: крестьяне угоняли скот, жгли избы, уходили в леса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Тебе , певцу, тебе, герою!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Не удалось мне за тобою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ри громе пушечном, в огне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Скакать на бешеном коне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8 ученик (слайд 10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Я,  ТОЛЬ,- граф, штабной генерал Действующей армии, докладываю: «Бородинское сражение пребудет вечным памятником мужества русских войск. Все единодушно желали лучше погибнуть на месте сражения, нежели уступить оное неприятелю. Французская армия под предводительством императора Наполеона и с превосходившими силами не могла поколебать твердости духа и несравненных российских воинов, жертвовавших охотно жизнью за  государя и отечество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Сразились, Русский-победитель!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И вспять бежит надменный галл,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О, бородинские кровавые поля!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Не вы неистовству и гордости пределы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Увы! На башнях галл Кремля!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9 ученик (слайд 11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Я, КАРАМЗИН, –историк, оставался в Москве до вступления в город армии Наполеона. Наши добрые москвитяне изъявили готовность умереть за честь древней столицы: вооружаясь саблями и пиками. Все: купцы, ремесленники, мещане, фабричные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10 ученик 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Я, гвардеец наполеоновской армии сержант БУРГОНЬ. Мы рассчитывали, что с захватом Москвы война завершится. В эту минуту забывалось все- опасности, труды, усталость, лишения, и думалось только об удовольствии вступить в Москву, добраться до удобных квартир на зиму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11 ученик (слайд 12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Я, участник войны 1812 г. ЯКУШКИН, свидетельствую, что цель наша состояла в том, чтобы изгнать вторгшихся в Россию галлов и с ними двунадесять языцы. При приближении французов жители удалялись в леса и болота, оставляя свои жилища на сожжение. Все народонаселение Москвы вместе с армией выступило из древней столицы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ылай , великая Москва!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Настали времена другие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Исчезни краткий наш позор,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Благослави  Москву , Россия!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4 ученик (слайд 13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400" y="1500120"/>
            <a:ext cx="77724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Я,  НАПОЛЕОН . У меня нет ни малейших сомнений, что русские сожгли город, чтобы он не достался французам. 14 сентября  русские покинули Москву  и город тут же запылал. Пожар не только уничтожил продовольственные запасы, но и жилища, нужные для расквартирования армии французской. Увезены были все пожарные трубы и приспособления для тушения огня, были задержаны поджигатели с факелами. Огонь распространялся по деревянной Москве и уничтожал продовольствия, жилье, палаты для раненых. Разозленные солдаты занимались мародерством и грабежом уцелевшего добра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Края Москвы, края родные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И вы их видели, врагов моей отчизны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И вас багрила кровь и пламень пожирал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Исчезли здания вельможей и царей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Все пламень истребил…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И там, где роскошь обитала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Там ныне угли, пепел, крах…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Все мертво, все молчит.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eeff"/>
                </a:solidFill>
                <a:latin typeface="Consolas"/>
              </a:rPr>
              <a:t>(слайд 14)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500120"/>
            <a:ext cx="77724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Я обратился к Александру 1 с предложением мира, но русский царь был непреклонен, оставив мои послания без ответа. 7 октября я принял решение уйти из Москвы. В отместку Александру и всей стране я велел взорвать Кремль, но начавшийся дождь спас его от уничтожения .  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Как сердца русских не достигнул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Ты с высоты отважных дум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еликодушного пожара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Не предузнав, уж ты мечтал,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Что мира вновь мы ждем как дар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Но поздно русских разгадал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6 ученик (слайд 15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14400" y="1642680"/>
            <a:ext cx="77724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Я, КУТУЗОВ,   узнал, что Наполеон пошел на Калугу, где рассчитывал пополнить запасы продовольствия. Я распорядился преградить противнику путь . Это заставило Наполеона возвращаться по разоренной Можайской дороге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12 ученик 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Я, НЕЙ, –командующий арьергардом Великой армии. Во время отступления французских войск из Москвы негде было достать ни еды, ни теплой одежды, а с ноября ударили 30-ти градусные морозы. Люди так ослабели, что не могли подняться и замерзали. Вся дорога была устлана трупами. . Благодаря моей храбрости и энергичности были спасены тысячи французских солдат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Утешься, мать градов России,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Воззри на гибель пришлеца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Взгляни: они бегут, озреться не дерзают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Их кровь не престает в снегах реками течь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Бегут- и  в тьме ночной их глад и смерть стретают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А с тыла гонит россов меч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4 ученик (слайд 16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Я, НАПОЛЕОН ,  понимал: надо перейти Березину раньше, чем русские отрежут переправу, иначе мне и остаткам моей армии грозил плен. Во время этой операции мы потеряли более 20 тыс. человек, часть из которых погибли, остальные попали в плен. 18 декабря я передал командование Мюрату и уехал в Париж, наказав маршалам хранить  в тайне мой отъезд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1  ученик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Я, ТАЛЕЙРАН, с самого начала войны осознавал, что побежденный Наполеон должен был исчезнуть с мировой сцены, такова судьба узурпаторов, потерпевших поражение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Чудесный жребий совершился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Угас великий человек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В неволе мрачной затаился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Наполеона грозный век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Исчез властитель осужденный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Могучий баловень побед.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13 ученик (слайд 17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Я, РЯДОВОЙ.  Мы оставили Россию и идем теперь в иностранные земли, но не для овладения оными, а для их спасения. Надо даровать мир и спокойствие Европе, говорит наш государь нам, и мы идем на Запад с войною для мира. До сих пор мы сражались для спокойствия нашего Отечества, теперь будем сражаться для спокойствия всей  Европы. Надо пользоваться расстройством неприятеля, чтоб не дать ему усилиться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Оцепеневшими руками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Схватив железный свой венец,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Он бездну видит пред очами,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Он гибнет, гибнет наконец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Бежит Европы ополченье,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Окровавленные снега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Провозгласили их паденье,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И тает с ними след врага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242892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Rectangle 1"/>
          <p:cNvSpPr/>
          <p:nvPr/>
        </p:nvSpPr>
        <p:spPr>
          <a:xfrm>
            <a:off x="857160" y="680760"/>
            <a:ext cx="714384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ЦЕЛИ  и  ЗАДАЧ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С помощью музыкально-поэтической композиции воссоздать хронику событий той эпох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Сформировать сознание учащихся в плане понимания исторической важности и значимости победы России в войне 1812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Пробудить чувства патриотизма и любви к своему Отечеств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ТИП  УРОКА : Урок изучения нового учебного материала с элементами нетрадиционной формы урока (театрализованный урок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ОБОРУДОВАНИЕ : компьютер, сканер, мультимедийный проекто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Стихи А.С.Пушкина, посвященные войне 1812 г., документальные материалы, литературные издания. Рисунки учащихся, приуроченные к данному урок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Презентация «Отечественная война 1812 года» (более 20 репродукций: военные баталии и портреты Талейрана, Меттерниха, Наполеона, Кутузова, Александра 1, Д.Давыдова и др.) в сопровождении музыки П.И.Чайковского «Война 1812 г.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ПЛАН  УРО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Оргмомен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Вступительное слово учите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Постановка цели и зада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Повтор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Презент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Подведение итог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Домашнее зад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바탕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5 ученик (слайд 18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Я, АЛЕКСАНДР 1,  сообщаю: 18 марта 1814 года  союзные армии взяли Париж. Французы капитулировали. Наполеон отрекся от престола и был сослан на остров Эльбу. В 1815 г. после неудачной попытки снова взять власть, был отправлен на остров Святой Елены, где и умер. После поражения  Наполеона я решил увековечить победу русского оружия в храме, который бы одновременно стал памятником 1812 г., так началась история возведения храма Христа  Спасителя в Москве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Изгнанник помнил звук мечей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И льдистый ужас полуночи!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И небо Франции своей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Забыв войну, потомство, трон,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Один, один, о милом сыне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В унынье горьком думал он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14 ученик (слайд 19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В честь Отечественной войны 1812 г. воздвигнута грандиозная триумфальная арка в Москве. Существует величественная Панорама «Бородинская битва», в которой воссоздана военная баталия 1812г. Панорама была открыта в Москве на Кутузовском проспекте В память о героях 1812 года учреждена государственная награда-орден Кутузова 3-ей степени. . На стенах  галереи в Эрмитаже в Петербурге размещено свыше 300 портретов генералов русской армии эпохи Отечественной войны 1812г. Среди них портреты М.И.Кутузова и его боевых соратников- Багратиона, Ермолова, Раевского, Дениса Давыдова и др. Портреты написаны известным английским художником Доу, 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который</a:t>
            </a: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 более 10 лет с помощью русских живописцев  работал в Зимнем дворце над выполнением этого заказа. Отечественной войне 1812г. посвящали стихи такие великие поэты как Пушкин и Лермонтов. Лев Николаевич Толстой написал знаменитый роман «Война и мир», а режиссер Бондарчук экранизировал это произведение, увековечив память о войне 1812года.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.У русского царя в чертогах есть палата: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Она не золотом, не бархатом богата..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Не в ней алмаз венца хранится за стеклами.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Но сверху, до низу, во всю длину, кругом,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Своею кистию свободной и широкой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Её разрисовал художник быстроокий.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Тут нет …ни плясок, ни охот: а всё плащи, да шпаги,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Да лица полные воинственной отваги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Толпою тесною художник поместил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Сюда начальников народных наших сил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Покрытых славою чудесного похода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rbel"/>
              </a:rPr>
              <a:t>И вечной памятью двенадцатого года.</a:t>
            </a: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(слайд 20)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14400" y="1071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6. Подведем итоги.  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Каждый из вас прекрасно справился с ролью. Из  предоставленного исторического материала мы  понимаем, что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Отечественная война 1812 г. была справедливой, народной войной. Благодаря победе России в этой войне , наша  страна не стала порабощенной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«Война 1812г. пробудила народ русский к жизни и составляет важный период в его политическом существовании. Мне теперь еще помнятся слова шедшего около меня солдата: «Ну, слава богу, вся Россия в поход пошла!». Каждый чувствовал, что он призван содействовать в великом деле», – отрывок из «записок» участника войны 1812г., декабриста И.Д.Якушина о характере войны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7.Домашнее задание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В качестве домашнего задания  я рекомендую самостоятельно подготовить материал о  героях войны 1812 года (полководцах ,партизанах ) ,о которых мы поговорим на следующем уроке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Барклай-де-Толли и Багратион –командующие русской армией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Ермолов и Коновницын –состояли при штабе армии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Раевский –батарея Раевского бесстрашно действовала под Смоленском и Бородино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Неверовский – командовал дивизией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Платов –командовал казачьим корпусом. В Бородинском сражении совершил рейд в тыл противника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Кутайсов – начальник артиллерии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Милорадович – командовал авангардом при преследовании наполеоновской армии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Братья Тучковы –участники бородинского сражение, геройски погибли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Сеславин – командовал партизанским отрядом. Обнаружил отход французов из Москвы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Д.Давыдов – герой войны, поэт, командующий гусарского полка и партизанского отряда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Курин Герасим –возглавлял пятитысячный отряд партизан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Кожина Василиса – стояла во главе партизанского отряда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Тихон Щербатый –прославился удалью и храбростью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Дьяк -  о его победах написано в романе Толстого «Война и мир». Будучи начальником партизанского отряда он за один только месяц взял в плен сотни французов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О, ринь меня на бой, ты опытный в боях,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Ты, голосом своим рождающий в полках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Погибели врагов предчувственные клики,</a:t>
            </a: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Вождь гомерический, Багратион великий!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Простри мне длань сою, Раевский,мой герой!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Ермолов! Я лечу- веди меня, я твой.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312120" indent="-260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14400" y="2999880"/>
            <a:ext cx="7772400" cy="33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928800" y="510120"/>
            <a:ext cx="771516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ХОД  УРО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1. Оргмомен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Здравствуйте, дети. Сегодня урок истории будет проходить в кабинете, который технически оснащен, что предаст нашему  занятию более яркий и образный характер. Урок сегодня необычный: пройдет он в виде театрализованного представления. Учащиеся заранее подобрали необходимый текстовой материал и распределили роли, а также выучили стихи, посвященные историческим событиям 1812 г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2. Вступительное слово учител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Сегодня урок посвяшен знаменательной дате – 200-летию со дня победы в Отечественной войне 1812г. Нашему народу удалось сокрушить «непобедимую» французскую армию, которую возглавлял Наполеон-Бонапарт-император Франции- стремился к мировому господству. В 1807 году он принудил Россию подписать Тильзитский мир, который наносил огромный ущерб ее хозяйству и ее государственному престижу. Наполеон завоевал к тому времени почти всю Европу. Россия оставалась главным препятствием к осуществлению его замысла: покорить весь мир. В июне 1812г. войска Наполеона вторглись в Россию, что явилось началом войны.                               3.Цель и задачи.                                                                                                                                                                   Цель урока состоит в том, чтобы с помощью музыкально-поэтической композиции соприкоснуться с историей нашей страны, прочувствовать и осознать грандиозное значение победы России в Отечественной войне 1812г. Для реализации цели нашего урока подготовлена музыкально-поэтическая композиция , которая выдержана в рамках хроники событий войны 1812 года. Впечатления и высказывания о реалиях той эпохи даны от первого лица, очевидцев и участников исторических событий 1812 года. Композиция с участием детей будет проходить на фоне презентации «Отечественная война 1812 года».                                                                                                               4.Повтор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Совершим экскурс в историю. Вспомним хронику событий войны 1812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12 июня – вторжение наполеоновских войск в Россию и начало вой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Июль-август – Смоленское сра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26 августа –Бородинское сра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1 сентября –Совет в Филя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2 сентября –вступление Наполеона в Москву и начало пожа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Октябрь-ноябрь – отступление и переправа французских войск через Березин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Декабрь 1812 г. –Изгнание наполеоновских войск из Росс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1813-1814 гг. – Заграничные походы русской арм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18 марта 1814г. – Вступление союзных войск в Париж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5.Выступление учащихся (Презентация)                                                      1 ученик  (слайд  2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Прямоугольник 3"/>
          <p:cNvSpPr/>
          <p:nvPr/>
        </p:nvSpPr>
        <p:spPr>
          <a:xfrm>
            <a:off x="1714680" y="2857680"/>
            <a:ext cx="600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Я «слуга всех господ» и «отец лжи» Талейран. Я потомок аристократического рода. Я принял духовный сан. Меня пророчили в кардиналы, но благодаря таланту политика и дипломата я стал министром иностранных дел. Именно я помог Наполеону прийти к  вл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2 ученик (слайд 3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1468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Я, Меттерних,-дипломат, всю жизнь посвятил служению австрийскому императору Францу . Будучи дипломатом я стремился сохранить мир в Европе. Именно я в 1810 г. устроил бракосочетание Наполеона с Марией-Луизой Австрийской в надежде обеспечить мир с Францией. Но мои расчеты не оправдались. Австрия стала «слугой» Наполеона.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Rectangle 2"/>
          <p:cNvSpPr/>
          <p:nvPr/>
        </p:nvSpPr>
        <p:spPr>
          <a:xfrm flipH="1">
            <a:off x="9143280" y="-55800"/>
            <a:ext cx="107172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바탕"/>
              </a:rPr>
              <a:t>Я Меттерних-дипломат, всю жизнь посвятил служению австрийскому императору Францу . Будучи дипломатом я стремился сохранить мир в Европе. Именно я в 1810 г. устроил бракосочетание Наполеона с Марией-Луизой Австрийской в надежде обеспечить мир с Францией. Но мои расчеты не оправдались. Австрия стала «слугой» Наполеона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3 </a:t>
            </a: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ученик (слайд 4) 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500120"/>
            <a:ext cx="77724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Я, Жозефина, –первая жена Наполеона. У нас не было совместных детей и мы развелись в 1809 году. Однако всю жизнь мы поддерживали с Бонапартом  теплые и сердечные отношения. На Марии-Луизе он женился не по любви, а из политических соображений, выбирая между двумя невестами-дочерью российского императора Павла1 Анной и дочерью австрийского императора Марией-Луизой, сделал предложение последне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4 </a:t>
            </a: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ученик (слайд 5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500120"/>
            <a:ext cx="77724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Я, Наполеон Бонапарт, в 24 года стал генералом, в 35 лет Я Наполеон Бонапарт в 24 года стал генералом, в 35 лет-императором Франции. Я завоевал всю Европу. Я превратил Францию в ведущую силу на континенте, соперничать с которой могла лишь Англия-владычица морей. Я родился в 1769г. на Корсике, в семье дворянина, закончил Парижскую военную школу. В годы революции сделал стремительную военную карьеру. В 1802 г. я принял полномочия пожизненного консула. В 1804 году я был коронован императором. Я сделал эмблемой своей империи пчелу, потому что улей символизирует «республику с одним правителем». В 1812 году совершил роковую ошибку: вторгся в Россию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Тогда гроза двенадцатого год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Еще спала. Еще Наполеон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Не испытал великого народ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Еще грозил и колебался он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14280" y="5000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5 </a:t>
            </a: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ученик (слайд 6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Я, Александр Павлович Романов ,- император государства Российского. 12 марта 1801 г. я вступил на престол и объявил, что буду царствовать «по законам и по сердцу в бозе почивающей августейшей бабки», и начал с отмены наиболее одиозных указов своего родителя. 24 июня 1812г. войска Наполеона вторглись в Россию. Наполеон ввел в Россию около 600 тыс. человек, против которых стояло у западной границы всего 210 тыс. русских войск. Наполеон быстро продвигался в глубь страны. Был захвачен город Смоленск. Я недолюбливал Кутузова, но под давлением общественности был вынужден подписать 8 августа 1812 г. подписать указ о назначении Кутузова главнокомандующим русских войск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Воспитанный под барабаном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Наш царь лихим был капитаном: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Под Аустерлицем он бежал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В двенадцатом году дрожал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1 ученик (слайд 7)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Я,  ТАЛЕЙРАН, заявляю  «Когда, отвергая всякое разумное соглашение, Наполеон бросился в 1812г. в роковой поход против России, всякий рассудительный человек мог заранее указать день, преследуемый оскорбленными им державами, он будет вынужден перейти Рейн и утратить власть, дарованную ему судьбой.»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Страшись, о рать, иноплеменных!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России двинулись сыны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Восстал и стар, и млад: летят на дерзновенных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Сердца их мщеньем возжены Вострепещи, тиран! Уж близок час паденья!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Ты в каждом ратнике узришь богатыря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Их цель: иль победить, иль пасть в пылу сраженья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За веру, за царя!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0T11:48:01Z</dcterms:created>
  <dc:creator>User</dc:creator>
  <dc:description/>
  <dc:language>en-US</dc:language>
  <cp:lastModifiedBy>User</cp:lastModifiedBy>
  <dcterms:modified xsi:type="dcterms:W3CDTF">2012-11-30T07:52:44Z</dcterms:modified>
  <cp:revision>56</cp:revision>
  <dc:subject/>
  <dc:title>Отечественная война 1812 года</dc:title>
</cp:coreProperties>
</file>