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8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0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210.xml" ContentType="application/vnd.openxmlformats-officedocument.presentationml.slide+xml"/>
  <Override PartName="/ppt/slides/slide148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58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76A3-9869-4750-B816-815AB4207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FE6-0360-4CC9-9481-8F868F61F8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_________ провозглашается демократическим федеративным правовым __________ с республиканской формой правления. При этом главой государства, как и высшим должностным лицом, является, как и в ряде других демократических стран, ______, наделенный большими полномочиями. Он определяет основные направления внешней и внутренней _______ государства; решает вопросы ________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Гражд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езид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Федерация. Грамотная оценка предвыборной _______ - важное, но не единственное условие безошибочного выбора ______ в политические деятели. ________ всегда интересно знать, кому он вручает _____ доверия, что это за человек, каковы его _______ и даже личн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Биограф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Избир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Кандид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Манд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Програм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C9B-DD85-4C1E-8FB0-C3988B5D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032-996B-4F0B-87E8-4E5DB523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B98-4A81-4C6B-A0CC-4E6F401A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6D1-4603-42CF-9176-C0C42F63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D98-3626-47E2-89D5-DACC3569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141-D131-447A-B677-0AB96C3E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076B-0659-4099-9F2D-3B3A8D8B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E753-EAEC-47DA-AF3D-6533BCB3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E878-7A13-4D80-8D46-E8A5F3AD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4D7-7B3F-4FD6-A016-9DD4CFCD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F448-FCD9-477A-9776-21FD6698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DC2-D0A2-49CE-B282-7C57EF8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682-D73B-4913-99B8-4E81BDD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D4C3-CDB9-4412-99EE-B3E5E05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2E4F-FAAA-472A-B20C-164E109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12B3-86E3-44F4-9493-AAD5A093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281-3AF1-4D7A-B5B1-AAA8E65D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491-D75C-4041-AB3D-5ED78C0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38F-E8FA-41B6-B0B5-5F5C6BA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68E-C04A-4BEF-9D5B-A3147D16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852-1022-4E35-AA42-9E77CE8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2C3-6EEF-4804-9352-99BB950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EB0-31B3-47D0-8415-8A75F9F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F6A-1498-460E-9255-A36077A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000-9701-4440-B38B-0B7841118F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B558-D3BA-4C4A-9258-5CEF20280D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дагогическая технология: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Ключевое понятие»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хипова Елена Ю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подаватель технологического колледж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Великий Новгор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hipova_e@mail.natm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й раздел- «ПОЛИТ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торой раздел- «ЭКОНОМ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ий раздел- «КУЛЬТУ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вертый раздел- «РЕЛИ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ятый раздел- «Юриспруденц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стой раздел- «СОЦИОЛО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МХАТ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ериод в культурном и идейном развитии стран Западной и Центральной Европы, переходный от средневековой культуры к культуре нового времен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Одна из универсальных форм бытия материального мира в человеческом сознании, раскрывающая эстетический смысл явлений, которые вызывают удовольствие, моральное удовлетворе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искусства, в котором художественные образы формируются с помощью звук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Вид духовного освоения действительности человеком. имеющий целью формирование и развитие его способности творчески преобразовывать мир и самого себя по законам красот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Способность человека находить форму общения с другими людьми в зависимости от конкретных обстоятельств и ситуац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Взаимная привязанность двух или более людей, основанная на любви, уважении, общих интересах и симпатиях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Следование правилам приличия, их соблюдени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Умение тонко чувствовать и реагировать на состояние, когда знакомый или близкий человек оказался в затруднительном состоянии или положен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Особая форма взаимоотношений, в которой люди обмениваются опытом, информацией, умениями и навыкам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скусство жить с другими людьми по-человечески и быть человеком в любом проявлении своей натуры, уважая достоинства других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Совокупность совершаемых в обществе поступков и действ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включающий рисунок и печатные художественные произведения (гравюра, литография)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Форма культурного поведения человека, для которого уважение к людям стало привычным способом обще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Умение держать себя в обществе, уважая достоинство и благополучие других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Наука, исследующая многообразные проявления эстетического отношения, основанного на чувстве прекрасного, на представлениях о красивом и безобразно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Исторически определенная ступень развития общества и человека, выраженная (опредмеченная) в результатах материальной и духовной деятельности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специфика которого заключается в представлении при помощи красок, нанесенных на поверхность образов действительно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искусства, целью которого является создание сооружений, отвечающих утилитарным потребностям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Вид искусства, специфика которого заключается в объемном претворении художественной формы  в пространств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Бенефис. 2) Библиотека. 3) Богема. 4) Буффонада. 5) Бы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Вальс. 2) Ваяние. 3) Вестерн. 4) Водевиль. 5)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Московский художественный академический театр. 2)Возрождение.3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 4) Музыка. 5) 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Такт. 2) Дружба. 3) Этикет. 4) Деликатность. 5) 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Воспитанность. 2) Поведение. 3) Графика. 4) Вежливость. 5) 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Эстетика. 2) Культура. 3) Живопись. 4) Архитектура. 5) Скульп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______ надо понимать исторически определенный ______ развития общества, творческих сил и ______ человека, выраженных в типах и формах жизни и _________ людей, в их взаимоотношениях, а также в создаваемых ими материальных и духовных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Де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Куль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пособ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Уров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Ц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гие годы русская ______ развивалась под влиянием языческой _____, языческого _______. С принятием Русью христианства положение резко изменилось. Новая религия претендовала на то, чтобы изменить мировоззрение людей, их восприятие всей жизни, а значит, и представления о ______ , художественном _______, эстетическом влия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Крас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Куль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Мировоззр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Религ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Творче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нности различаются по содержанию: наслаждение, польза, слава, власть, безопасность, красота, ____, добро, счастье и т.д. Ценности различаются по знаку - на положительные и отрицательные: наслаждение- ____, польза- ______, слава- ______, красота- _______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Безобраз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Вр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Ист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оз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Стр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умное ______ тогда является нравственным, когда оно руководствуется искренними _________. И наоборот. Чувственное поведение только тогда превращается в нравственное, когда им руководит 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увства и разум не могут жить врозь. Когда они действуют поодиночке, очень велика _____ скатиться в пропасть ______. Между ними должен быть крепкий сою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мора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пас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ве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Разу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ув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же в древности была глубоко осмыслена _____ непреодолимой связи добра и ___. Один из древних ______ сказал: кто не узнал и не пережил ___, тот не может быть по настоящему доб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 ______ сопротивляться злу недостаточно понимания зла и противостояния злу. Само по себе это не приведет к доб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Готов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Добр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Зл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Иде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Мудрец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ерв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олит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адокс ______ заключается в разрыве между знанием и делом: благодаря _____, обучению в школе, _____ книг, воздействию печати и ______, люди в цивилизованном обществе знают, что такое Добродетель, но многие (а иногда и большинство) поступают порочно. Что это __________, которые в принципе нельзя осуществить на практике, или некоторые особенности поведения человек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бстрактные зн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Воспит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Доброде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Телеви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т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1;3-3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1;3-3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1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1;4-3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4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уров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3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4" dur="5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6" dur="5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4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2" dur="500" fill="hold"/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0" dur="5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тичные философ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987640" y="3573360"/>
            <a:ext cx="1655640" cy="144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28-327 г до н 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Аристокл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5940360" y="2781360"/>
            <a:ext cx="100800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енон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6372360" y="4437000"/>
            <a:ext cx="14396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офист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284720" y="256536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Фед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Oval 8"/>
          <p:cNvSpPr/>
          <p:nvPr/>
        </p:nvSpPr>
        <p:spPr>
          <a:xfrm>
            <a:off x="1763640" y="2997360"/>
            <a:ext cx="107964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Закон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1476360" y="5157720"/>
            <a:ext cx="1727280" cy="986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олити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203640" y="5013360"/>
            <a:ext cx="720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 flipH="1" flipV="1">
            <a:off x="2771280" y="3715920"/>
            <a:ext cx="287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4427640" y="342864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4643280" y="3789000"/>
            <a:ext cx="14414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21"/>
          <p:cNvSpPr/>
          <p:nvPr/>
        </p:nvSpPr>
        <p:spPr>
          <a:xfrm>
            <a:off x="4500720" y="4724280"/>
            <a:ext cx="18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Четверт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Рели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8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4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2" dur="500" fill="hold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8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0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4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:14;15;17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5;9;11;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3;7;9;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4;5;6;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4;5;6;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;5;6;9;1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Главная книга христиан, в которой отражены различные политические и социальные воззрения. Состоит из Ветхого и Нового завет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 католической церкви лица, после их смерти объявленные «богоугодными»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В религиозных верованиях сверхъестественное существ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В брахманизме и индуизме один из трех высших богов, бог-создатель, творец Вселенной и всего сущег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мых христианами 6 января в память о рождении Христ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огласно большей части религиозных учений, местопребывание душ грешников, обреченных на вечные муче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В некоторых религиях воздержание на определенный срок от приема всякой пищи или отдельных ее видов (особенно мяса)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Центр римско-католической церкви, резиденция ее главы- папы римског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Один из двунадесятых праздников, празднуется в последнее воскресенье перед Пасхо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Имя, данное основателю буддизм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ербное воскресень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Буд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атик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П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Тяжелые железные цепи, обручи и тому подобное, носимые на голом теле, форма самоистязания религиозных фанатик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амая древняя часть библ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Город в Палестине, к югу от Иерусалима. Согласно Библии, родина царя Давида и место рождения  Иисуса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 православной церкви заместитель епископа, епископ без епарх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тся 27 сентябр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ифле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Ветхий за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икар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оздви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Вери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Один из религиозных двунадесятых праздников, празднуется на 40 день после     Пасх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Название в Древней Руси служителей дохристианских культов, знахарей, считавшихся чародея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мифологии ряда народов «божья кара», ниспосланная на человечество и на все живое на земл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Христианская церковная служба с вечера до окончания ноч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Название бога у мусульман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семирный пото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лл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ознес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сенощн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Волхв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о многих религиях главное место храма, где совершаются священнодейств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отивник Иисуса Христа, который, согласно Апокалипсису, должен появиться на Земле незадолго до Второго пришествия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христианской мистике – пророчество о «конце мира» и Страшном Суд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Одно из высших духовных званий в православ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В исламе – борьба за веру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Антихр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лта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Джих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Архиеписко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Апокалипси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Формула вероучения, считающаяся неоспоримой и неизменно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 Церковно-административная единица, объединяющая несколько приходов и монастырей на данной территор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Религиозные течения, отступающие от официальной церковной доктрины и осужденные Церков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Настоятель монастыря или настоятель храм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«Исповедание», вероисповеда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Ерес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Игум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Догм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Епарх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Конфесс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 Д; 3) Б; 4)А; 5)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 Д; 3) Г; 4) А; 5)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 Б; 3) А) 4) В; 5)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 Д); 3) А; 4) Г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А; 3) Д; 4) Г; 5) В.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В; 2) Г; 3) А; 4) Б; 5)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Главная книга христиан, в которой отражены различные политические и социальные воззрения. Состоит из Ветхого и Нового завет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В католической церкви лица, после их смерти объявленные «богоугодными»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религиозных верованиях сверхъестественное существ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 брахманизме и индуизме один из трех высших богов, бог-создатель, творец Вселенной и всего сущег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мых христианами 6 января в память о крещении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Согласно большей части религиозных учений, местопребывание душ грешников, обреченных на вечные мучен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В некоторых религиях воздержание на определенный срок от приема всякой пищи или отдельных ее видов (особенно мяса)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Центр римско-католической церкви, резиденция ее главы- папы римского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Один из двунадесятых праздников, празднуется в последнее воскресенье перед Пасхо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Имя, данное основателю буддиз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Тяжелые железные цепи, обручи и тому подобное, носимые на голом теле, форма самоистязания религиозных фанатиков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Самая древняя часть библ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Город в Палестине, к югу от Иерусалима. Согласно Библии, родина царя Давида и место рождения  Иисуса Хрис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В православной церкви заместитель епископа, епископ без епарх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тся 27 сентябр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Один из религиозных двунадесятых праздников, празднуется на 40 день после     Пасх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Название в Древней Руси служителей дохристианских культов, знахарей, считавшихся чародеям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 мифологии ряда народов «божья кара», ниспосланная на человечество и на все живое на земл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Христианская церковная служба с вечера до окончания ноч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Название бога у мусульман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о многих религиях главное место храма, где совершаются священнодейств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отивник Иисуса Христа, который, согласно Апокалипсису, должен появиться на Земле незадолго до Второго пришествия Хрис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 христианской мистике – пророчество о «конце мира» и Страшном Суд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Одно из высших духовных званий в православ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В исламе – борьба за веру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Формула вероучения, считающаяся неоспоримой и неизменно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 Церковно-административная единица, объединяющая несколько приходов и монастырей на данной территор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Религиозные течения, отступающие от официальной церковной доктрины и осужденные Церковью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Настоятель монастыря или настоятель хра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«Исповедание», вероисповедани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иблия. 2) Блаженные. 3) Бог. 4) Брахма. 5) Богоявл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д. 2) Пост. 3) Ватикан. 4) Вербное воскресенье. 5) Буд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ериги. 2) Ветхий завет. 3) Вифлеем. 4) Викарий. 5) Воздви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ознесение. 2) Волхвы. 3) Всемирный потоп. 4) Всенощная. 5) Алл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лтарь. 2) Антихрист. 3) Апокалипсис. 4) Архиепископ. 5) Джих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Догмат. 2) Епархия. 3) Ереси. 4) Игумен. 5) Конфесс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редине первого тысячелетия до н.э. философ _________ (551-479гг. до н. э.) создал _____, которому суждено стать плотью и кровью _______. Цель его философской _______ состояла в том, чтобы сделать государство идеальным, основанным на твердых нравственных ________, с гармоничными социальными отнош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онфу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инци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ивилиз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_________ относился с уважением и к иудаизму, и к _______, обладающими, как он считал, богодухновенными книгами. В ______ - священной книге _____, содержащей откровения, которые были ниспосланы Мухаммеду, заметно влияние обеих 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Исл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Кор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Мухамме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Рели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Христиан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ая _____ призывала человека к постоянной тяжелой ______ над самим собой, к пересозданию собственной ______. _______ теперь зависела не от выполнения кастовых предписаний, а от поступков и ______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Кар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Лич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Раб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Помыс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Рели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у ______ составляет учение об искупительной _____ сына божьего __________. Христиане верят в то, что Иисус был послан на землю _____, чтобы пострадать за грехи людей. Он был казнен правителем Иудеи ______, но затем воскрес и вознесся на неб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Б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Жер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Иисус Христ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онтий Пил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Христиа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щение - одно из 7 христианских _______ (_____, причащение, священство, исповедь, миропомазание, брак и ________), которые знаменуют принятие человека в ____ церкв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 _____ крещения «человек умирает для жизни плотской, греховной и возрождается в жизнь духовную, святую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р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Ло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Результ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обор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Таи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еодальной _______ христианское _______ было привилегированным ______ и крупным собственником.  _________  существенно изменила положение духовенства. Большинство протестантских течений провозгласило принцип «всеобщего священства» и служители культа - ____, пресвитер не считаются «священным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Духове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Европ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аст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еформ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Сосло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5;3-4;4-2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2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2;3-3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4;3-5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1;3-5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уров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и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0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2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4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6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0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4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8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2" dur="500" fill="hold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ят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раво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0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8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8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0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8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6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4" dur="5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0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0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2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2;3;4;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3;4;23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;20;21;22;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8;9;16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4;16;17;18;1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10;11;12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мущество предприятия, в состав которого входят основные средства, другие долгосрочные вложения (включая нематериальные активы), оборотные средства, финансовые актив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Косвенный налог, включаемый в цену товара и оплачиваемый покупателем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нятие, означающее нахождение обвиняемого в другом месте в момент совершения преступления, является доказательством невиновно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редства на содержание в семейном праве членов семь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ное или частичное освобождение от наказания лиц, совершивших преступлен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Алимен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Акциз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Акти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Третейский суд. Разновидность судов, осуществляющих правосудие путем разрешения экономических спор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 уголовно-процессуальном праве мера пресечения, состоящая в заключении под стражу обвиняемог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очередная продажа реальных товаров на основе конкурса покупател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В уголовном праве одно из наиболее опасных преступлений, посягающих на основы общественной безопасности и порядк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Неспособность должника удовлетворить требования кредиторов по оплате товаров (работ. услуг), включая неспособность обеспечить обязательные платежи в бюджет и во внебюджетные фонд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Арес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Аукци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Банкрот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Арбитраж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Банди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Государственная регистрация в органах записи актов гражданского состояния отношений между мужчиной и женщино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Акт, приостанавливающий или не допускающий вступления в силу решений, законов-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исьменное долговое обязательство строго установленной формы, дающее его владельцу бесспорное право по истечении определенного срока требовать с должника уплаты указанной денежной сумм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едмет природный или созданный человеком, является объектом гражданских прав-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Психическое отношение лица к совершенному им противоправному деянию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Ви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Бра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Векс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Вещ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Ве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Специальное разрешение органов иностранного правительства на въезд, выезд, проживание или проезд через территорию государ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Фактическое обладание вещью, создающее для обладателя возможность непосредственного воздействия на вещь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пособность человека отдавать отчет в своих действиях, руководить ими, нести ответственность за свои действия или бездейств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Элемент нормы права, указывающий на условия ее действия (время, место, субъективный состав и т.п.), которые определяются путем закрепления юридических факт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Устойчивая правовая связь лица с государством, взаимоотношения между государством и лицами, находящимися под его властью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Гипотез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Граждан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Влад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Вменяем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Высшее административное  назначаемое или выборное лицо, управляющее определенной территориальной единиц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Соглашение двух или нескольких лиц об установлении, изменение или прекращении гражданских прав и обязанност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Физическое или юридическое лицо, которое не выполняет или в ближайшее время не сможет выполнить свои обязательства перед кредитора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обращения человека в органы государственной власти, местные органы самоуправления, к администрации организаций, в общественные объединения по поводу нарушения своих прав и законных интерес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Распоряжение гражданина своим имуществом на случай смерти, сделанное в установленном законом порядк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Губернато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вещани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Должни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Догово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Жалоб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Нормативный акт, принятый в особом порядке органом законодательной власти, референдумом, выражающий волю народа, обладающий высшей юридической силой, регулирующий наиболее важные общественные отношения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Гражданско-правовое действие, дающее право кредитору по обеспеченному залогом обязательству (залогодержатель) в случае неисполнения должником этого обязательства получить удовлетворение из стоимости заложенного имущества преимущественно перед другими кредитора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редство защиты через суд нарушенного или оспариваемого права, охраняемого законом интерес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Случайное действие, имеющее признаки правонарушения, не имеющее вины, не влекущее ответствен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Законодательный акт, в котором объединены и систематизированы нормы права, регулирующие определенную область общественных отношени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Залог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ко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одек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Казу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Ис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ы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В; 3)А; 4)Б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Б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Д; 3)В; 4)Г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В; 3)Г; 4)А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А; 2)Г; 3)В; 4)Д; 5) 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А; 3)Д; 4)Г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мущество предприятия, в состав которого входят основные средства, другие долгосрочные вложения (включая нематериальные активы), оборотные средства, финансовые актив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Косвенный налог, включаемый в цену товара и оплачиваемый покупателем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онятие, означающее нахождение обвиняемого в другом месте в момент совершения преступления, является доказательством невинов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редства на содержание в семейном праве членов семь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олное или частичное освобождение от наказания лиц, совершивших преступлени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ч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а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еренд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у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льп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сте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Третейский суд. Разновидность судов, осуществляющих правосудие путем разрешения экономических спор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В уголовно-процессуальном праве мера пресечения, состоящая в заключении под стражу обвиняемого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оочередная продажа реальных товаров на основе конкурса покупател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В уголовном праве одно из наиболее опасных преступлений, посягающих на основы общественной безопасности и порядк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Неспособность должника удовлетворить требования кредиторов по оплате товаров (работ. услуг), включая неспособность обеспечить обязательные платежи в бюджет и во внебюджетные фонд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Государственная регистрация в органах записи актов гражданского состояния отношений между мужчиной и женщино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Акт, приостанавливающий или не допускающий вступления в силу решений, законов-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исьменное долговое обязательство строго установленной формы, дающее его владельцу бесспорное право по истечении определенного срока требовать с должника уплаты указанной денежной сумм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Предмет природный или созданный человеком, является объектом гражданских прав-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сихическое отношение лица к совершенному им противоправному деянию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циальное разрешение органов иностранного правительства на въезд, выезд, проживание или проезд через территорию государ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Фактическое обладание вещью, создающее для обладателя возможность непосредственного воздействия на вещь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пособность человека отдавать отчет в своих действиях, руководить ими, нести ответственность за свои действия или бездейств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Элемент нормы права, указывающий на условия ее действия (время, место, субъективный состав и т.п.), которые определяются путем закрепления юридических факт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Устойчивая правовая связь лица с государством, взаимоотношения между государством и лицами, находящимися под его власт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ысшее административное  назначаемое или выборное лицо, управляющее определенной территориальной единиц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оглашение двух или нескольких лиц об установлении, изменение или прекращении гражданских прав и обязанност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Физическое или юридическое лицо, которое не выполняет или в ближайшее время не сможет выполнить свои обязательства перед кредитора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обращения человека в органы государственной власти, местные органы самоуправления, к администрации организаций, в общественные объединения по поводу нарушения своих прав и законных интерес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Распоряжение гражданина своим имуществом на случай смерти, сделанное в установленном законом порядк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Нормативный акт, принятый в особом порядке органом законодательной власти, референдумом, выражающий волю народа, обладающий высшей юридической силой, регулирующий наиболее важные общественные отноше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Гражданско-правовое действие, дающее право кредитору по обеспеченному залогом обязательству (залогодержатель) в случае неисполнения должником этого обязательства получить удовлетворение из стоимости заложенного имущества преимущественно перед другими кредитора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редство защиты через суд нарушенного или оспариваемого права, охраняемого законом интерес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Случайное действие, имеющее признаки правонарушения, не имеющее вины, не влекущее ответственно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Законодательный акт, в котором объединены и систематизированы нормы права, регулирующие определенную область общественных отношений-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ктивы. 2) Акциз. 3) Алиби. 4) Алименты. 5) Амнис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рбитраж. 2) Арест. 3) Аукцион. 4) Бандитизм. 5) Банкрот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рак. 2) Вето. 3) Вексель. 4) Вещь. 5)В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иза. 2) Владение. 3) Вменяемость. 4) Гипотеза. 5) Гражда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Губернатор. 2) Договор. 3) Должник. 4) Жалоба. 5) Завещ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Закон. 2) Залог. 3) Иск. 4) Казус. 5) Кодек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а и основные ______ с рождения принадлежат каждому человеку, они неотъемлемы и гарантируются законами. Их защита и содействие им – первейшая ______ государства. Их ______ - существенная гарантия против чрезмерной ______ государства. Их соблюдение и полное осуществление – основа свободы, справедливости и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Вл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Ми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Обяза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воб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ва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одлежит уголовной _______ лицо. Которое не сознавало фактический ______ и общественную ______ своих деяний, либо было в состоянии психического _______, слабоумия, либо иного болезненного состояния, которое называется 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Невменяе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Опас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Ответствен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Расстрой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Характ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иболее опасными являются _____ против ____ конституционного _____ и безопасности государства, поскольку они затрагивают основы общественного, политического и государственного строя РФ, ее _______, внутреннюю и внешнюю 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Безопас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Осно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Преступл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Стр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Суверенит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_____ - это особая ______ правовых ____, не входящих в какую-либо национальную систему права. Международное право не является системой, абсолютно обособленной от национального права ______ международного _____, так как прогрессивные нормы государств каждой новой исторической эпох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Н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Об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р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час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12;20;23;2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4;15;17;22;29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11;17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15;21;23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;15;20;21;2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;14;21;22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Заключительном ___ Совещания по безопасности и сотрудничеству в Европе от 1 августа 1975г. были закреплены новые принципы: принцип _____ основных прав человека, принцип нерушимости _____, принцип территориальной целостности государства. В систему основных ______ следует включить принцип разоружения, принцип международно-правовой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к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Грани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Ответ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ринци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ва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ущественные ______ в сфере образования – это отношения, выражающие правовое _____ образовательного ______: основания возникновения и порядок осуществления права _____, договорные и иные обязательные, имущественные и связанные с ними личные неимущественные отношения образовательных учреждений с другими организациями и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Гражда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оло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равоотнош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об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чрежд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5;3-2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1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3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5;3-1;4-2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3;3-5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Шесто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оциоло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2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6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5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8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2" dur="500" fill="hold"/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6" dur="500" fill="hold"/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2" dur="500" fill="hold"/>
                                        <p:tgtEl>
                                          <p:spTgt spid="5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4" dur="500" fill="hold"/>
                                        <p:tgtEl>
                                          <p:spTgt spid="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8" dur="500" fill="hold"/>
                                        <p:tgtEl>
                                          <p:spTgt spid="5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5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2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6" dur="500" fill="hold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0" dur="5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4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2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8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2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0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4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Резиденция президента США в Вашингтоне -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Основное орудие политической власти в обществ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В США, Великобритании и ряде других стран законопроект, внесенный на рассмотрение парламента, а также название отдельных закон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Обман, преднамеренным извращением фактов, лживыми обещаниями, лестью; лицемерное подлаживание под вкусы малосознательных масс для достижения политических цел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Господствующий класс капиталистического общества, собственник средств производства, использующий наемный труд-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5;27;28;29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;21;24;26;30. 19;21;24;26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5;16;25;27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;14;17;24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10;12;23;2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3;19;23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Определенная  совокупность людей, имеющих общие социальные признаки, например общественный класс, профессия, место проживания и т.п.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Относительно устойчивые социальные группы людей, имеющих общие интересы, ценности и нормы поведения, складывающиеся в рамках исторически определенного обществ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овокупность исторически сложившихся форм  совместной деятельности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Денежное обеспечение, получаемое гражданами в старости, при потере трудоспособности, за выслугу лет и по случаю потери кормильц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Коллективное прекращение работы рабочими и служащими, предъявляющими предпринимателям или правительству экономические и политические требования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Страт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бастовк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бщество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Общность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Пенс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Глава, руководитель политической партии или общественной организаци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Исторически сложившийся вид устойчивой социальной группировки людей, представленный племенем, народностью, наци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Концепции, основу которых составляют положения о физической и психической  неравноценности человеческих  рас и о решающем влиянии расовых различий на историю и культуру обществ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Языковая, территориальная, экономическая и культурная общность людей, следующая за племенем и предшествующая наци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Малая группа, основанная на браке или кровном родстве, члены которой связаны общностью быта, взаимной помощью и оральной ответственностью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Народ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Лиде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Семь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Этно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Рас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зменение индивидом или группой места, занимаемого в социальной структур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Система взаимосвязанных реакций, осуществляемых живыми организмами для приспособления к сред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толкновение сторон, мнений, сил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остояние напряжения, возникающее у человека или животного под влиянием сильных воздейств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Социально-демографическая группа, выделяемая на основе совокупности возрастных характеристик, особенностей социального положения; современные возрастные границы от 14-16 до 25-30 лет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вед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Конфлик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оциальная мобильн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Молодеж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Распространенная система зарубежного внешкольного воспитания, сложилась в конце 19-начале 20 веков в Великобритан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Наука о населении и закономерностях его развития в общественно-исторической обусловленно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Род трудовой деятельности, требующий определенной подготовки и являющийся обычно источником существова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пециалист, осуществляющий воспитание, образование и обучение подрастающего поколе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Социально-профессиональная группа, учащиеся ВУЗ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офесс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Демограф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туденче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Скау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Учи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циалист с высшим медицинским образование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дин из основных классов современного общества, наемные работники, живущие продажей своей рабочей сил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се население определенной стран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Наука об обществе как целостной системе и об отдельных социальных институтах, процессах, общественных группа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Лицо, частично или полностью утратившее трудоспособность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Социолог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Инвали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рач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Наро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Рабочий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Населенный пункт, достигший определенной людности и выполняющий преимущественно промышленные, транспортные, торговые, культурные и административно-политические функц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Отдельный человек; личность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Кровная связь между людьми, с наличием которой закон связывает определенные       права и обязанности-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оцесс привыкания человека к определенной сред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Значимость, привлекательность, приписываемая в общественном сознании различным сторонам деятельности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Род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Индивидуу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Адаптац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Престиж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В; 4)Д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Г; 3)Д; 4)А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А; 3)Б; 4)Д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Б; 3)А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Д; 3)Г; 4)А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Б; 3)А; 4)В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Определенная  совокупность людей, имеющих общие социальные признаки, например общественный класс, профессия, место проживания и т.п.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тносительно устойчивые социальные группы людей, имеющих общие интересы, ценности и нормы поведения, складывающиеся в рамках исторически определенного обще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овокупность исторически сложившихся форм  совместной деятельности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Денежное обеспечение, получаемое гражданами в старости, при потере трудоспособности, за выслугу лет и по случаю потери кормильц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Коллективное прекращение работы рабочими и служащими, предъявляющими предпринимателям или правительству экономические и политические требова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Глава, руководитель политической партии или общественной организац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Исторически сложившийся вид устойчивой социальной группировки людей, представленный племенем, народностью, наци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Концепции, основу которых составляют положения о физической и психической  неравноценности человеческих  рас и о решающем влиянии расовых различий на историю и культуру обще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Языковая, территориальная, экономическая и культурная общность людей, следующая за племенем и предшествующая нац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Малая группа, основанная на браке или кровном родстве, члены которой связаны общностью быта, взаимной помощью и моральной ответственност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рабо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предметно-информационной среды для работы с учащими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наиболее эффективных условий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технологии нового поко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я благоприятных условий для работы преподавате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учить работать с ключевым понятием на уроках и в жиз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е собрание в древней и средневековой Руси в Х-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-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уппа людей, объединенная общностью идей, интерес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собность и возможность оказывать определяющее воздействие на деятельность, поведение людей с помощью каких-либо средств - воли, авторитета, права, насил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а  из форм государства, характеризующаяся его полным контролем над всеми сферами жизни обще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явление, продолжение политики насильственными средствам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Веч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зменение индивидом или группой места, занимаемого в социальной структур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Система взаимосвязанных реакций, осуществляемых живыми организмами для приспособления к сред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Столкновение сторон, мнений, сил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остояние напряжения, возникающее у человека или животного под влиянием сильных воздейств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Социально-демографическая группа, выделяемая на основе совокупности возрастных характеристик, особенностей социального положения; современные возрастные границы от 14-16 до 25-30 лет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Распространенная система зарубежного внешкольного воспитания, сложилась в конце 19-начале 20 веков в Великобритан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Наука о населении и закономерностях его развития в общественно-исторической обусловлен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Род трудовой деятельности, требующий определенной подготовки и являющийся обычно источником существова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пециалист, осуществляющий воспитание, образование и обучение подрастающего поколе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Социально-профессиональная группа, учащиеся ВУЗ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Специалист с высшим медицинским образованием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дин из основных классов современного общества, наемные работники, живущие продажей своей рабочей силы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се население определенной страны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Наука об обществе как целостной системе и об отдельных социальных институтах, процессах, общественных группа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Лицо, частично или полностью утратившее трудоспособность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Населенный пункт, достигший определенной людности и выполняющий преимущественно промышленные, транспортные, торговые, культурные и административно-политические функц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Отдельный человек; личность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Кровная связь между людьми, с наличием которой закон связывает определенные       права и обязанности-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Процесс привыкания человека к определенной сред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Значимость, привлекательность, приписываемая в общественном сознании различным сторонам деятельности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ность. 2) Страты. 3) Общество. 4) Пенсия. 5) Забастов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Лидер. 2) Этнос. 3) Расизм. 4) Народность. 5) Сем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Социальная мобильность. 2) Поведение. 3) Конфликт. 4) Стресс. 5) Молодеж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Скауты. 2) Демография. 3) Профессия. 4) Учитель. 5) Студенче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рач. 2) Рабочий класс. 3) Народ. 4) Социология. 5) Инвали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Город. 2) Индивидуум. 3) Родство. 4) Адаптация. 5) Прести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ико-социальная ______, имеющая профилактическую направленность, - это предупреждение социально-зависимых нарушений соматического, психического и репродуктивного здоровья; формирование установок на _____ _____ _____; обеспечение _______ к информации по вопросам здоровья; участие в разработке целевых _____ медико-социальной помощи на различных уровнях; социальное _______; обеспечение социальной защиты прав граждан в вопросах охраны здоровья и д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Администриров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Досту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Програм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Рабо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ьная ______ в Российской Федерации характеризуется ухудшением социально-экономического и политического ______ многих социальных групп, в том числе и женщин. Провозглашение ______ мужчин и женщин в международных федеральных правовых _________ все более расходится с действительностью. В условиях возрастающей социальной _________ делаются попытки решения болезненных социальных проблем за счет менее защищенных групп- детей и женщин. В РФ существует двойной стандарт отношения к женщ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Докуме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Напряжен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Поло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ве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итуа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фотборе профессиональная _______ может оцениваться по нескольким критериям: по медицинским _______, в том числе по показателям физической пригодности; по данным образовательного _____ или конкурентным экзаменам; с помощью психологического ______; с учетом достигнутого уровня профессиональной _____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дапт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Обсле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оказа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ригод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ен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ый ______ должен знать теоретические и методологические основы социального _______, специфику организации социальной работы с различными ______ населения, ее историю, отечественные традиции и мировой опыт организации социальной ______ населения. Кроме теоретических знаний, социальная работа требует и глубокой технологической подготовки. Выражающейся в наличии навыков в области социально-психологического и ситуационного 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Анали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Защи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Категор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Управл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и _______ людей и молодежи есть ____, наркоманы и элементы преступного мира. Социальные ______, наряду с правоохранительными органами, ведут профилактическую работу, применяют адаптивные ______ по возвращению их к нормальной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Взросл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ьяниц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Техноло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ние, выраженное голосование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умент, выдаваемый избирателю при проведении выбор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ое положение государ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зависимость государства во внешних и верховенство во внутренних дела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сударство, главой которого является монарх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Избирательный бюллетен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Стат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Суверенит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Монарх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Воту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виды девиантного поведения- _____ и уголовно-наказуемые _____ аморального поведения, которые тоже представляют определенную общественную ______. Связь преступности и аморального поведения состоит в том, что совершению преступления предшествует, как правило, какая-то _______ девиантного поведения в форме пьянства, наркомании, ______ в сфере сексуальных отношений и п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Опас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Преступ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Разновид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спущен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луча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5;3-2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2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3;4-1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5;3-2;4-3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1;3-4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литерату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голюбов Л.Н., Лазебникова А.Ю., «Человек и общество», учебное пособие по обществознанию для учащихся 10-11 классов, Москва, «Просвещение», 2001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ишенкова О.В., «Обществознание», руководство для подготовки к экзаменам, АСТ Астрель, Москва, 2004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вченко А.И. «Обществознание», Москва, «Русское слово»,  2003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рбатов В.И., «Социальная работа», для студентов ВУЗов, Ростов-на Дону, «Феникс», 2005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итин А.Ф. « 200 вопросов и ответов по основам государства и права», АСТ Астрель, Москва, 2002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нер Е.Д. «Обществознание», СПб, 2001 г, Ленинградский институт развития образ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харов А.Н., Буганов В.И., «История России», учебник для 10 кл., Москва, «Просвещение», 2003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ветский энциклопедический словарь, Москва, «Советская энциклопедия», 1982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ачатурян В.М., «История мировых цивилизаций», учебник 10-11 кл., Москва, «Дрофа», 1996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катулла В.И., Надвикова В.В., Сытинская М.В. «Основы правовых знаний», учебное пособие, Москва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ADEMA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1999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ковлев А.И. « Основы правоведения», Москва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ADEMA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2004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Принцип структуры государственной вла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В большинстве современных государств, с республиканской формой правления выборный глава государ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Высший орган исполнительной вла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Политическое течение, объединяющее сторонников парламентского строя, свобод личности и предприниматель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Общепризнанное влияние лица или организации в различных сферах общественной жизни, основанное на знаниях, нравственных достоинствах, опыт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 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Сфера деятельности, связанная с отношениями между классами, нациями и другими социальными группами, ядром которой является проблема завоевания, удержания и использования государственной вла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Специфическая человеческая форма отношения к окружающему миру, содержание которой составляет его целесообразное изменение и преобразование в интересах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ЛДПР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Система мероприятий для выполнения какой-либо первоочередной общественно-политической задач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Лицо, выдвигаемое для избрания депутатом в законодательное учреждение, для замещения  какой-либо должности или для приема в какую-либо организацию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Предвыборная камп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Либерально-демократическая партия Росс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Полит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андида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Деятель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Всенародное голосование, проводимое в связи с принятием новой конституции, других важных законов или внесением в них изменен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Один из видов народного голосова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 мнению теоретиков коммунизма это первая или низшая фаза коммунизм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иверженность к старому, отжившему и вражда к новому передовому-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, при которой высшая государственная принадлежит выборному представительному органу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Референд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Республ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лебисц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Соци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);  2)Г);  3)Д);  4)Б); 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);  2)А);  3)Г);  4)В);  5)Д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);  2)А);  3)Б);  4)В);  5)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);  2)А);  3)Г);  4)Б);  5)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);  2)Д);  3)Б);  4)А);  5)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);  2)Г);  3)Д);  4)А);  5)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Резиденция президента США в Вашингтоне -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Основное орудие политической власти в обществ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 США, Великобритании и ряде других стран законопроект, внесенный на рассмотрение парламента, а также название отдельных закон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Обман, преднамеренным извращением фактов, лживыми обещаниями, лестью; лицемерное подлаживание под вкусы малосознательных масс для достижения политических цел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Господствующий класс капиталистического общества, собственник средств производства, использующий наемный труд-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одное собрание в древней и средневековой Руси в Х-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-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а людей, объединенная общностью идей, интерес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ность и возможность оказывать определяющее воздействие на деятельность, поведение людей с помощью каких-либо средств - воли, авторитета, права, насил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 из форм государства, характеризующаяся его полным контролем над всеми сферами жизни обще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ое явление, продолжение политики насильственными средствам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Мнение, выраженное голосованием-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Документ, выдаваемый избирателю при проведении выборов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авовое положение государства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Независимость государства во внешних и верховенство во внутренних делах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Государство, главой которого является монарх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инцип структуры государственной вла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В большинстве современных государств, с республиканской формой правления выборный глава государ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ысший орган исполнительной вла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Политическое течение, объединяющее сторонников парламентского строя, свобод личности и предприниматель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Общепризнанное влияние лица или организации в различных сферах общественной жизни, основанное на знаниях, нравственных достоинствах, опыт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писание технолог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этап- этап- предлагается из определенного количества понятий выбрат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нят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тем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этап- предлагается составить пары из самого понятия и его опреде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этап- словарный дикт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этап- применить понятия в тек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этап- творчески применить понятие как ключев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фера деятельности, связанная с отношениями между классами, нациями и другими социальными группами, ядром которой является проблема завоевания, удержания и использования государственной вла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пецифическая человеческая форма отношения к окружающему миру, содержание которой составляет его целесообразное изменение и преобразование в интересах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ЛДПР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Система мероприятий для выполнения какой-либо первоочередной общественно-политической задач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Лицо, выдвигаемое для избрания депутатом в законодательное учреждение, для замещения  какой-либо должности или для приема в какую-либо организаци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сенародное голосование, проводимое в связи с принятием новой конституции, других важных законов или внесением в них изменени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дин из видов народного голосован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По мнению теоретиков коммунизма это первая или низшая фаза коммуниз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Приверженность к старому, отжившему и вражда к новому передовому-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Форма правления, при которой высшая государственная принадлежит выборному представительному органу-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Белый дом. 2) Государство. 3) Билль. 4) Демагогия. 5) Буржуазия.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Вече. 2) Партия. 3) Власть. 4) Тоталитаризм. 5) Вой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Вотум. 2) Избирательный бюллетень. 3) Статус. 4) Суверенитет. 5) Монарх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 правления.2) Президент.3) Правительство.4) Либерализм. 5) Авторите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 Политика. 2)  Деятельность. 3)  Либерально-демократическая Партия России.                 4)  Кампания. 5)  Кандида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 Референдум. 2)  Плебисцит. 3)  Социализм. 4)  Консерватизм. 5)  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ударственная _______ имеет в своем распоряжении профессиональный  ______ управления, а также специальные вооруженные отряды людей -  ______, полицию и т.п., и поэтому ____________ выступает как сила, способная осуществлять принуждение в отношении любого члена 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Аппар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Арм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Вл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Государ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Обществ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сийская _________ провозглашается демократическим федеративным правовым __________ с республиканской формой правления. При этом главой государства, как и высшим должностным лицом, является, как и в ряде других демократических стран, ______, наделенный большими полномочиями. Он определяет основные направления внешней и внутренней _______ государства; решает вопросы ________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Государ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Гражда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ли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резиде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Федера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отная оценка предвыборной _______ - важное, но не единственное условие безошибочного выбора ______ в политические деятели. ________ всегда интересно знать, кому он вручает _____ доверия, что это за человек, каковы его _______ и даже личная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Биограф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Избира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Кандид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Манд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Програм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едко к политической деятельности рвется _____, не умеющий наладить отношения с близкими людьми, не способный найти свое место в _______. Для подобных людей политическая _______ может стать средством компенсации личных или творческих неудач. Но именно такие люди становятся карьеристами, которые в погоне за _____, личным успехом плетут интриги, совершают другие неблаговидные действия, в отличие от честных и порядочных людей, делающих карьеру благодаря своей компетентности и высокому ___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арь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Коллекти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рофессионализ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елов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годня многие крупные политические деятели и ученые- политики предлагают новый ______ к решению внутригосударственных и международных проблем, основывающийся на поисках _______  (лат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ens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огласие, единодушие)- общего согласия, политических _______, взаимного стремления к положительному _______. Основу консенсуса составляет признание чужих интересов как ________ для осуществления собственных интересов. В этом заключается его гуманиз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Гаран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омпроми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Консенс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одх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Результ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ко полное равнодушие к политическим ________ встречается не часто, видимо, потому что от ________  во многом зависит развитие _______ и, значит, жизнь каждого человека, а порой и его судьба. Кроме того, по мнению психологов, участие в политике удовлетворяет естественную ________ человека в общении особом- с большими социальными группами людей и на более высоком уровне. Такое общение дает мощный ______ развитию лич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Импуль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бще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ли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отреб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Проблем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1;4-4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5;3-4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2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1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лагается вспомнить пон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76360" y="2637000"/>
            <a:ext cx="2303640" cy="345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ис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851280" y="436572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300720" y="2997360"/>
            <a:ext cx="2232000" cy="259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ранные 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75920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Эконом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ет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арный дикта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1116000" y="3429000"/>
            <a:ext cx="2303640" cy="252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443640" y="3789360"/>
            <a:ext cx="172872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419640" y="4724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11;13;19;2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8;18;20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5;14;24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20;22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;25;28;29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17;20;27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Главное имущество, приносящее доход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Форма регулярно функционирующего оптового рынка массовых заменимых товаров, продающимся по стандартам или образца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Предпринимательская деятельность; дело, занятие, являющееся источником дохо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Обеспеченность населения необходимыми материальными и духовными благами, т.е. предметами, услугами и условиями, удовлетворяющими определенные человеческие потреб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а или фирмы, специализирующиеся на посреднических биржевых операциях, получающие за свою деятельность процент от суммы сделки 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Бирж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Капита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Броке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Бизне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Благососто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Роспись государственных доходов и расходов на определенный срок, утвержденная в законодательном порядк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Денежная единица страны и ее тип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МВФ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Учреждения, аккумулирующие денежные средства и накопления, предоставляющие кредит, осуществляющие денежные расчеты и т. д.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ый товар, выполняющий роль всеобщего эквивален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Международный валютный фон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Бан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Валю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Бюдж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В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едоставление денег или товаров в долг с уплатой процен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Явление, когда часть экономически активного населения не может применить свою рабочую силу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Искусство ведения домашнего хозяй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фера товарного обмена, а также место, где происходит торговл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Эконом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Кред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Внутренний валовой продук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Безработ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Заранее намеченный порядок, последовательность осуществления какой-либо программы, выполнения работы, проведения мероприят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Предметы труда, подвергшиеся ранее воздействию труда и подлежащие дальнейшей обработк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Целесообразная деятельность человека, направленная на видоизменение и приспособление предметов природы для удовлетворения своих потребност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оглашение двух или более лиц по поводу купли-продаж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ещение мест торговли с целью приобретения товар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Шоппин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Догово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Тру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Продукт труда, произведенный для продаж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оцесс создания материальных благ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Документ, подтверждающий наличие у владельца счета в данном банковском учрежден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 Переполнение сферы обращения бумажными деньгами, вследствие чрезмерного выпуска и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СБР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Сберегательный банк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Карт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Инфля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Производ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Това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торо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ить соответств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(определение)-1(наз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                           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                         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                           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                           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ы:А4;Б3;В1;Г5;Д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187280" y="2565360"/>
            <a:ext cx="2664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1332000" y="3068280"/>
            <a:ext cx="251928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1187280" y="4221000"/>
            <a:ext cx="2737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 flipV="1">
            <a:off x="1332000" y="2707920"/>
            <a:ext cx="251928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1187280" y="3068640"/>
            <a:ext cx="2664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Денежное выражение стоимости товар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трасль, которая реализует товары путем купли-продаж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се, чем владеет человек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Информация о потребительских  свойствах товаров и видах услуг с целью создания спроса на ни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бязательные платежи, взимаемые государством с физических и юридических лиц-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Богат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Рекла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Нало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Ц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Торгов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; 2)А; 3)Г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В; 3)А; 4)Б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Б; 3)Д; 4)А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А; 3)Д); 4)В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; 2)Г; 3)Б; 4)В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Д; 3)А; 4)Б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Главное имущество, приносящее доход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Форма регулярно функционирующего оптового рынка массовых заменимых товаров, продающимся по стандартам или образцам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редпринимательская деятельность; дело, занятие, являющееся источником до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Обеспеченность населения необходимыми материальными и духовными благами, т.е. предметами, услугами и условиями, удовлетворяющими определенные человеческие потреб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Лица или фирмы, специализирующиеся на посреднических биржевых операциях, получающие за свою деятельность процент от суммы сделки 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Роспись государственных доходов и расходов на определенный срок, утвержденная в законодательном порядк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Денежная единица страны и ее тип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МВФ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Учреждения, аккумулирующие денежные средства и накопления, предоставляющие кредит, осуществляющие денежные расчеты и т. д.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собый товар, выполняющий роль всеобщего эквивален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В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едоставление денег или товаров в долг с уплатой процен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Явление, когда часть экономически активного населения не может применить свою рабочую силу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Искусство ведения домашнего хозяйств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Сфера товарного обмена, а также место, где происходит торговл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Заранее намеченный порядок, последовательность осуществления какой-либо программы, выполнения работы, проведения мероприят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Предметы труда, подвергшиеся ранее воздействию труда и подлежащие дальнейшей обработк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Целесообразная деятельность человека, направленная на видоизменение и приспособление предметов природы для удовлетворения своих потребност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оглашение двух или более лиц по поводу купли-продаж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осещение мест торговли с целью приобретения товар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Продукт труда, произведенный для продаж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оцесс создания материальных благ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Документ, подтверждающий наличие у владельца счета в данном банковском учрежден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 Переполнение сферы обращения бумажными деньгами, вследствие чрезмерного выпуска и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СБР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Денежное выражение стоимости товар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трасль, которая реализует товары путем купли-продаж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се, чем владеет человек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Информация о потребительских  свойствах товаров и видах услуг с целью создания спроса на ни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бязательные платежи, взимаемые государством с физических и юридических лиц-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Капитал. 2) Биржа. 3) Бизнес. 4) Благосостояние. 5) Брок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юджет. 2) Валюта. 3) Международный валютный фонд. 4) Банк. 5) 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нутренний валовой продукт. 2) Кредит. 3) Безработица. 4) Экономика. 5) 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План. 2) Сырье. 3) Труд. 4) Договор. 5) Шоппин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Товар. 2) Производство. 3) Карточка. 4) Инфляция. 5) Сберегательный банк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Цена. 2) Торговля. 3) Богатство. 4) Реклама. 5) Нало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ая  частная ______ представлена в _______ не только западных, но и восточноевропейских стран, ________ и многих других стран. В современном мире частная собственность играет большую роль: она стимулирует инициативу и ______, ответственное отношение к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ита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едприимчив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Соб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Тру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Эконом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тверт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ить понятия в текст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щимся предлагается отрывок текста по теме, где пропущено определенное количество понятий. Внизу под текстом они даны в алфавитном порядке. Нужно проставить цифры, каким по счету включено поня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оценок прежня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громной массы наемных ________, имеющих _______, получаемые ими _______ являются скромным дополнением к трудовым ________, стимулируют их труд, заинтересованность в результатах деятельности корпорации. Основной доход рабочие получают в _______ заработной пла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Дивид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Дох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Ф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астных ________, основанных на личном труде, доходы зависят от ______  их ведения. Поскольку ______ производятся на ______, то результаты деятельности любого предприятия находятся в прямой зависимости от складывающихся на рынке 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Продаж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одук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Хозяй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Эффектив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огда ______ называют определенное место (базар, ярмарка), где происходит _____. Однако мы употребляем понятие «рынок», подразумевая сферу обмена товара на ____ и денег на товары, взаимодействия _____ и потребителей в масштабе региона, страны или всего мира. В рыночной экономике вопросы, что, для кого и как производитель решает самостоятельно, ориентируясь на соотношение ______ и предлож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Производи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Спр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Торгов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номическая жизнь включает в себя элементы и конкуренции, и _____. Возникновение союзов _______, не устраняет ______: она происходит между монополистическими союзами и немонополизированными предприятиями. Однако монополия порождает высокие цены, несоответствие спроса и ________. Вот почему, например, в США уже в конце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 в. Появились антитрестовские законы, которые государство использовало для улучшения рыночной 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Капиталис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Конкурен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Монопо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Предло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исте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т в конце 80-х гг. доходов населения, с одной стороны, и отсутствие товаров с другой, привели к росту и уменьшению покупательской способности _____, к дальнейшему обесцениванию денег ( ______ ). В области ______ появился огромный ______ бюджета: расходы государства намного превысили его доходы. Для покрытия _____ государство прибегло к выпуску бумажных дене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1.Дефиц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2.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.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4.Руб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5.Финанс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4;4-1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1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1;4-4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2;3-5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ят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на выбор, использу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ных понят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Расск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Э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Сочи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Кроссвор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оценок та же- каждое из применяемых понятий подчеркив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3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ретий раздел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Культу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2" dur="500" fill="hold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стема оцен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предлагается 6 вариантов по 5пар, то есть за 30 правильных ответов выставляется оценка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25 до 29 баллов- оценка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19 до 24 баллов- оценка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18 баллов- оценка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может варьироваться преподавателем в зависимости от времени и необход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9;16;21;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10;13416;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12;13;18;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;13;19;27;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8;11;24;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7;16;24;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Спектакль, сбор от которого поступает в пользу одного или нескольких актеров, а также других работников театр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Учреждение культуры, организующее сбор, хранение, общественное пользование произведениями печа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реда интеллигенции, для части которой характерен беспечный, беспорядочный образ жизн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Прием, используемый в цирке, на эстраде, в театре,- подчеркнутое внешнее комическое преувеличение, иногда окарикатуривание персонажей (действий, явлений)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сские народные эпические песни-сказания, повествующие преимущественно о богатырях-защитниках родины, отражающие нравственные идеалы народ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Библиот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Был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Буффона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Бенефи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Боге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Бальный танец, популярный размер ¾, особенно популярен так называемый венский, разработанный композитором И.Штраусом-отцом и И.Штраусом-сыно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То же, что и скульптура. В узком смысле – высекание, вырезание скульптуры из твердых материал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Жанр американского кино, получивший также распространение за пределами США. Посвящен, как правило, героизации первых поселенцев западных районов Америк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« комедии положений» с песнями-куплетами, романсами и танцами. Возник во Франции, с начала 19 века получил общеевропейское распространени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С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Средства массовой информ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МХАТ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Период в культурном и идейном развитии стран Западной и Центральной Европы, переходный от средневековой культуры к культуре нового времен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Одна из универсальных форм бытия материального мира в человеческом сознании, раскрывающая эстетический смысл явлений, которые вызывают удовольствие, моральное удовлетворени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искусства, в котором художественные образы формируются с помощью звук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Вид духовного освоения действительности человеком. имеющий целью формирование и развитие его способности творчески преобразовывать мир и самого себя по законам красоты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Возрожде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Искусств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Московский художественный академический теат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расо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Музы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Способность человека находить форму общения с другими людьми в зависимости от конкретных обстоятельств и ситуац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заимная привязанность двух или более людей, основанная на любви, уважении, общих интересах и симпатиях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ледование правилам приличия, их соблюден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Умение тонко чувствовать и реагировать на состояние, когда знакомый или близкий человек оказался в затруднительном состоянии или положен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Особая форма взаимоотношений, в которой люди обмениваются опытом, информацией, умениями и навыкам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Дружб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Этик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скусство жить с другими людьми по-человечески и быть человеком в любом проявлении своей натуры, уважая достоинства других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Совокупность совершаемых в обществе поступков и действ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включающий рисунок и печатные художественные произведения (гравюра, литография)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Форма культурного поведения человека, для которого уважение к людям стало привычным способом обще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ие держать себя в обществе, уважая достоинство и благополучие других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Пове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рилич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Наука, исследующая многообразные проявления эстетического отношения, основанного на чувстве прекрасного, на представлениях о красивом и безобразно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Исторически определенная ступень развития общества и человека, выраженная (опредмеченная) в результатах материальной и духовной деятельности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специфика которого заключается в представлении при помощи красок, нанесенных на поверхность образов действитель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искусства, целью которого является создание сооружений, отвечающих утилитарным потребностям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Вид искусства, специфика которого заключается в объемном претворении художественной формы  в пространств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Архитектур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Эстетик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Живопис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ульту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Скульпту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Д; 4)В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В; 3)Г; 4)Д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А; 3)Г; 4)Д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Б; 3)Г; 4)А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В; 3)Б; 4)А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Б; 2) Г; 3) В; 4) А; 5)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ктакль, сбор от которого поступает в пользу одного или нескольких актеров, а также других работников театр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Учреждение культуры, организующее сбор, хранение, общественное пользование произведениями печа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реда интеллигенции, для части которой характерен беспечный, беспорядочный образ жизн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Прием, используемый в цирке, на эстраде, в театре,- подчеркнутое внешнее комическое преувеличение, иногда окарикатуривание персонажей (действий, явлений)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Русские народные эпические песни-сказания, повествующие преимущественно о богатырях-защитниках родины, отражающие нравственные идеалы народ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Бальный танец, популярный размер ¾, особенно популярен так называемый венский, разработанный композитором И.Штраусом-отцом и И.Штраусом-сыно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То же, что и скульптура. В узком смысле – высекание, вырезание скульптуры из твердых материал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Жанр американского кино, получивший также распространение за пределами США. Посвящен, как правило, героизации первых поселенцев западных районов Америк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« комедии положений» с песнями-куплетами, романсами и танцами. Возник во Франции, с начала 19 века получил общеевропейское распростране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С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3:18:47Z</dcterms:created>
  <dc:creator>Ирина Юрьевна</dc:creator>
  <dc:description/>
  <dc:language>en-US</dc:language>
  <cp:lastModifiedBy>Елена</cp:lastModifiedBy>
  <dcterms:modified xsi:type="dcterms:W3CDTF">2013-03-21T15:07:04Z</dcterms:modified>
  <cp:revision>46</cp:revision>
  <dc:subject/>
  <dc:title>Педагогическая технология по работе с понятиями.</dc:title>
</cp:coreProperties>
</file>