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5.xml.rels" ContentType="application/vnd.openxmlformats-package.relationships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23.xml.rels" ContentType="application/vnd.openxmlformats-package.relationships+xml"/>
  <Override PartName="/ppt/slides/_rels/slide203.xml.rels" ContentType="application/vnd.openxmlformats-package.relationships+xml"/>
  <Override PartName="/ppt/slides/_rels/slide100.xml.rels" ContentType="application/vnd.openxmlformats-package.relationships+xml"/>
  <Override PartName="/ppt/slides/_rels/slide195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202.xml.rels" ContentType="application/vnd.openxmlformats-package.relationships+xml"/>
  <Override PartName="/ppt/slides/_rels/slide194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20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200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19.xml.rels" ContentType="application/vnd.openxmlformats-package.relationships+xml"/>
  <Override PartName="/ppt/slides/_rels/slide163.xml.rels" ContentType="application/vnd.openxmlformats-package.relationships+xml"/>
  <Override PartName="/ppt/slides/_rels/slide86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75.xml.rels" ContentType="application/vnd.openxmlformats-package.relationships+xml"/>
  <Override PartName="/ppt/slides/_rels/slide180.xml.rels" ContentType="application/vnd.openxmlformats-package.relationships+xml"/>
  <Override PartName="/ppt/slides/_rels/slide6.xml.rels" ContentType="application/vnd.openxmlformats-package.relationships+xml"/>
  <Override PartName="/ppt/slides/_rels/slide176.xml.rels" ContentType="application/vnd.openxmlformats-package.relationships+xml"/>
  <Override PartName="/ppt/slides/_rels/slide99.xml.rels" ContentType="application/vnd.openxmlformats-package.relationships+xml"/>
  <Override PartName="/ppt/slides/_rels/slide2.xml.rels" ContentType="application/vnd.openxmlformats-package.relationships+xml"/>
  <Override PartName="/ppt/slides/_rels/slide168.xml.rels" ContentType="application/vnd.openxmlformats-package.relationships+xml"/>
  <Override PartName="/ppt/slides/_rels/slide40.xml.rels" ContentType="application/vnd.openxmlformats-package.relationships+xml"/>
  <Override PartName="/ppt/slides/_rels/slide177.xml.rels" ContentType="application/vnd.openxmlformats-package.relationships+xml"/>
  <Override PartName="/ppt/slides/_rels/slide3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182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124.xml.rels" ContentType="application/vnd.openxmlformats-package.relationships+xml"/>
  <Override PartName="/ppt/slides/_rels/slide110.xml.rels" ContentType="application/vnd.openxmlformats-package.relationships+xml"/>
  <Override PartName="/ppt/slides/_rels/slide33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12.xml.rels" ContentType="application/vnd.openxmlformats-package.relationships+xml"/>
  <Override PartName="/ppt/slides/_rels/slide18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5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44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44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1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45.xml.rels" ContentType="application/vnd.openxmlformats-package.relationships+xml"/>
  <Override PartName="/ppt/slides/_rels/slide160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1.xml.rels" ContentType="application/vnd.openxmlformats-package.relationships+xml"/>
  <Override PartName="/ppt/slides/_rels/slide129.xml.rels" ContentType="application/vnd.openxmlformats-package.relationships+xml"/>
  <Override PartName="/ppt/slides/_rels/slide173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8.xml.rels" ContentType="application/vnd.openxmlformats-package.relationships+xml"/>
  <Override PartName="/ppt/slides/_rels/slide170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32.xml.rels" ContentType="application/vnd.openxmlformats-package.relationships+xml"/>
  <Override PartName="/ppt/slides/_rels/slide212.xml.rels" ContentType="application/vnd.openxmlformats-package.relationships+xml"/>
  <Override PartName="/ppt/slides/_rels/slide17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62.xml.rels" ContentType="application/vnd.openxmlformats-package.relationships+xml"/>
  <Override PartName="/ppt/slides/_rels/slide171.xml.rels" ContentType="application/vnd.openxmlformats-package.relationships+xml"/>
  <Override PartName="/ppt/slides/_rels/slide67.xml.rels" ContentType="application/vnd.openxmlformats-package.relationships+xml"/>
  <Override PartName="/ppt/slides/_rels/slide120.xml.rels" ContentType="application/vnd.openxmlformats-package.relationships+xml"/>
  <Override PartName="/ppt/slides/_rels/slide206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78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83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9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53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208.xml.rels" ContentType="application/vnd.openxmlformats-package.relationships+xml"/>
  <Override PartName="/ppt/slides/_rels/slide28.xml.rels" ContentType="application/vnd.openxmlformats-package.relationships+xml"/>
  <Override PartName="/ppt/slides/_rels/slide138.xml.rels" ContentType="application/vnd.openxmlformats-package.relationships+xml"/>
  <Override PartName="/ppt/slides/_rels/slide142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20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21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7.xml.rels" ContentType="application/vnd.openxmlformats-package.relationships+xml"/>
  <Override PartName="/ppt/slides/_rels/slide27.xml.rels" ContentType="application/vnd.openxmlformats-package.relationships+xml"/>
  <Override PartName="/ppt/slides/_rels/slide199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156.xml.rels" ContentType="application/vnd.openxmlformats-package.relationships+xml"/>
  <Override PartName="/ppt/slides/_rels/slide149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9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205.xml.rels" ContentType="application/vnd.openxmlformats-package.relationships+xml"/>
  <Override PartName="/ppt/slides/_rels/slide102.xml.rels" ContentType="application/vnd.openxmlformats-package.relationships+xml"/>
  <Override PartName="/ppt/slides/_rels/slide25.xml.rels" ContentType="application/vnd.openxmlformats-package.relationships+xml"/>
  <Override PartName="/ppt/slides/_rels/slide197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196.xml.rels" ContentType="application/vnd.openxmlformats-package.relationships+xml"/>
  <Override PartName="/ppt/slides/_rels/slide204.xml.rels" ContentType="application/vnd.openxmlformats-package.relationships+xml"/>
  <Override PartName="/ppt/slides/_rels/slide62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51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79.xml.rels" ContentType="application/vnd.openxmlformats-package.relationships+xml"/>
  <Override PartName="/ppt/slides/_rels/slide178.xml.rels" ContentType="application/vnd.openxmlformats-package.relationships+xml"/>
  <Override PartName="/ppt/slides/_rels/slide130.xml.rels" ContentType="application/vnd.openxmlformats-package.relationships+xml"/>
  <Override PartName="/ppt/slides/_rels/slide159.xml.rels" ContentType="application/vnd.openxmlformats-package.relationships+xml"/>
  <Override PartName="/ppt/slides/_rels/slide211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61.xml.rels" ContentType="application/vnd.openxmlformats-package.relationships+xml"/>
  <Override PartName="/ppt/slides/_rels/slide145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95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94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25.xml" ContentType="application/vnd.openxmlformats-officedocument.presentationml.slide+xml"/>
  <Override PartName="/ppt/slides/slide68.xml" ContentType="application/vnd.openxmlformats-officedocument.presentationml.slide+xml"/>
  <Override PartName="/ppt/slides/slide16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24.xml" ContentType="application/vnd.openxmlformats-officedocument.presentationml.slide+xml"/>
  <Override PartName="/ppt/slides/slide67.xml" ContentType="application/vnd.openxmlformats-officedocument.presentationml.slide+xml"/>
  <Override PartName="/ppt/slides/slide163.xml" ContentType="application/vnd.openxmlformats-officedocument.presentationml.slide+xml"/>
  <Override PartName="/ppt/slides/slide66.xml" ContentType="application/vnd.openxmlformats-officedocument.presentationml.slide+xml"/>
  <Override PartName="/ppt/slides/slide162.xml" ContentType="application/vnd.openxmlformats-officedocument.presentationml.slide+xml"/>
  <Override PartName="/ppt/slides/slide65.xml" ContentType="application/vnd.openxmlformats-officedocument.presentationml.slide+xml"/>
  <Override PartName="/ppt/slides/slide161.xml" ContentType="application/vnd.openxmlformats-officedocument.presentationml.slide+xml"/>
  <Override PartName="/ppt/slides/slide64.xml" ContentType="application/vnd.openxmlformats-officedocument.presentationml.slide+xml"/>
  <Override PartName="/ppt/slides/slide160.xml" ContentType="application/vnd.openxmlformats-officedocument.presentationml.slide+xml"/>
  <Override PartName="/ppt/slides/slide63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50.xml" ContentType="application/vnd.openxmlformats-officedocument.presentationml.slide+xml"/>
  <Override PartName="/ppt/slides/slide149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0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28.xml" ContentType="application/vnd.openxmlformats-officedocument.presentationml.slide+xml"/>
  <Override PartName="/ppt/slides/slide196.xml" ContentType="application/vnd.openxmlformats-officedocument.presentationml.slide+xml"/>
  <Override PartName="/ppt/slides/slide32.xml" ContentType="application/vnd.openxmlformats-officedocument.presentationml.slide+xml"/>
  <Override PartName="/ppt/slides/slide202.xml" ContentType="application/vnd.openxmlformats-officedocument.presentationml.slide+xml"/>
  <Override PartName="/ppt/slides/slide129.xml" ContentType="application/vnd.openxmlformats-officedocument.presentationml.slide+xml"/>
  <Override PartName="/ppt/slides/slide197.xml" ContentType="application/vnd.openxmlformats-officedocument.presentationml.slide+xml"/>
  <Override PartName="/ppt/slides/slide33.xml" ContentType="application/vnd.openxmlformats-officedocument.presentationml.slide+xml"/>
  <Override PartName="/ppt/slides/slide203.xml" ContentType="application/vnd.openxmlformats-officedocument.presentationml.slide+xml"/>
  <Override PartName="/ppt/slides/slide10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207.xml" ContentType="application/vnd.openxmlformats-officedocument.presentationml.slide+xml"/>
  <Override PartName="/ppt/slides/slide7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208.xml" ContentType="application/vnd.openxmlformats-officedocument.presentationml.slide+xml"/>
  <Override PartName="/ppt/slides/slide8.xml" ContentType="application/vnd.openxmlformats-officedocument.presentationml.slide+xml"/>
  <Override PartName="/ppt/slides/slide201.xml" ContentType="application/vnd.openxmlformats-officedocument.presentationml.slide+xml"/>
  <Override PartName="/ppt/slides/slide19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205.xml" ContentType="application/vnd.openxmlformats-officedocument.presentationml.slide+xml"/>
  <Override PartName="/ppt/slides/slide5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108.xml" ContentType="application/vnd.openxmlformats-officedocument.presentationml.slide+xml"/>
  <Override PartName="/ppt/slides/slide176.xml" ContentType="application/vnd.openxmlformats-officedocument.presentationml.slide+xml"/>
  <Override PartName="/ppt/slides/slide206.xml" ContentType="application/vnd.openxmlformats-officedocument.presentationml.slide+xml"/>
  <Override PartName="/ppt/slides/slide6.xml" ContentType="application/vnd.openxmlformats-officedocument.presentationml.slide+xml"/>
  <Override PartName="/ppt/slides/slide109.xml" ContentType="application/vnd.openxmlformats-officedocument.presentationml.slide+xml"/>
  <Override PartName="/ppt/slides/slide177.xml" ContentType="application/vnd.openxmlformats-officedocument.presentationml.slide+xml"/>
  <Override PartName="/ppt/slides/slide146.xml" ContentType="application/vnd.openxmlformats-officedocument.presentationml.slide+xml"/>
  <Override PartName="/ppt/slides/slide147.xml" ContentType="application/vnd.openxmlformats-officedocument.presentationml.slide+xml"/>
  <Override PartName="/ppt/slides/slide134.xml" ContentType="application/vnd.openxmlformats-officedocument.presentationml.slide+xml"/>
  <Override PartName="/ppt/slides/slide38.xml" ContentType="application/vnd.openxmlformats-officedocument.presentationml.slide+xml"/>
  <Override PartName="/ppt/slides/slide210.xml" ContentType="application/vnd.openxmlformats-officedocument.presentationml.slide+xml"/>
  <Override PartName="/ppt/slides/slide148.xml" ContentType="application/vnd.openxmlformats-officedocument.presentationml.slide+xml"/>
  <Override PartName="/ppt/slides/slide135.xml" ContentType="application/vnd.openxmlformats-officedocument.presentationml.slide+xml"/>
  <Override PartName="/ppt/slides/slide39.xml" ContentType="application/vnd.openxmlformats-officedocument.presentationml.slide+xml"/>
  <Override PartName="/ppt/slides/slide211.xml" ContentType="application/vnd.openxmlformats-officedocument.presentationml.slide+xml"/>
  <Override PartName="/ppt/slides/slide212.xml" ContentType="application/vnd.openxmlformats-officedocument.presentationml.slide+xml"/>
  <Override PartName="/ppt/slides/slide204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200.xml" ContentType="application/vnd.openxmlformats-officedocument.presentationml.slide+xml"/>
  <Override PartName="/ppt/slides/slide198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189.xml" ContentType="application/vnd.openxmlformats-officedocument.presentationml.slide+xml"/>
  <Override PartName="/ppt/slides/slide55.xml" ContentType="application/vnd.openxmlformats-officedocument.presentationml.slide+xml"/>
  <Override PartName="/ppt/slides/slide151.xml" ContentType="application/vnd.openxmlformats-officedocument.presentationml.slide+xml"/>
  <Override PartName="/ppt/slides/slide188.xml" ContentType="application/vnd.openxmlformats-officedocument.presentationml.slide+xml"/>
  <Override PartName="/ppt/slides/slide209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66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58.xml" ContentType="application/vnd.openxmlformats-officedocument.presentationml.slide+xml"/>
  <Override PartName="/ppt/slides/slide157.xml" ContentType="application/vnd.openxmlformats-officedocument.presentationml.slide+xml"/>
  <Override PartName="/ppt/slides/slide156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31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68.xml" ContentType="application/vnd.openxmlformats-officedocument.presentationml.slide+xml"/>
  <Override PartName="/ppt/slides/slide1.xml" ContentType="application/vnd.openxmlformats-officedocument.presentationml.slide+xml"/>
  <Override PartName="/ppt/slides/slide16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  <p:sldId id="390" r:id="rId139"/>
    <p:sldId id="391" r:id="rId140"/>
    <p:sldId id="392" r:id="rId141"/>
    <p:sldId id="393" r:id="rId142"/>
    <p:sldId id="394" r:id="rId143"/>
    <p:sldId id="395" r:id="rId144"/>
    <p:sldId id="396" r:id="rId145"/>
    <p:sldId id="397" r:id="rId146"/>
    <p:sldId id="398" r:id="rId147"/>
    <p:sldId id="399" r:id="rId148"/>
    <p:sldId id="400" r:id="rId149"/>
    <p:sldId id="401" r:id="rId150"/>
    <p:sldId id="402" r:id="rId151"/>
    <p:sldId id="403" r:id="rId152"/>
    <p:sldId id="404" r:id="rId153"/>
    <p:sldId id="405" r:id="rId154"/>
    <p:sldId id="406" r:id="rId155"/>
    <p:sldId id="407" r:id="rId156"/>
    <p:sldId id="408" r:id="rId157"/>
    <p:sldId id="409" r:id="rId158"/>
    <p:sldId id="410" r:id="rId159"/>
    <p:sldId id="411" r:id="rId160"/>
    <p:sldId id="412" r:id="rId161"/>
    <p:sldId id="413" r:id="rId162"/>
    <p:sldId id="414" r:id="rId163"/>
    <p:sldId id="415" r:id="rId164"/>
    <p:sldId id="416" r:id="rId165"/>
    <p:sldId id="417" r:id="rId166"/>
    <p:sldId id="418" r:id="rId167"/>
    <p:sldId id="419" r:id="rId168"/>
    <p:sldId id="420" r:id="rId169"/>
    <p:sldId id="421" r:id="rId170"/>
    <p:sldId id="422" r:id="rId171"/>
    <p:sldId id="423" r:id="rId172"/>
    <p:sldId id="424" r:id="rId173"/>
    <p:sldId id="425" r:id="rId174"/>
    <p:sldId id="426" r:id="rId175"/>
    <p:sldId id="427" r:id="rId176"/>
    <p:sldId id="428" r:id="rId177"/>
    <p:sldId id="429" r:id="rId178"/>
    <p:sldId id="430" r:id="rId179"/>
    <p:sldId id="431" r:id="rId180"/>
    <p:sldId id="432" r:id="rId181"/>
    <p:sldId id="433" r:id="rId182"/>
    <p:sldId id="434" r:id="rId183"/>
    <p:sldId id="435" r:id="rId184"/>
    <p:sldId id="436" r:id="rId185"/>
    <p:sldId id="437" r:id="rId186"/>
    <p:sldId id="438" r:id="rId187"/>
    <p:sldId id="439" r:id="rId188"/>
    <p:sldId id="440" r:id="rId189"/>
    <p:sldId id="441" r:id="rId190"/>
    <p:sldId id="442" r:id="rId191"/>
    <p:sldId id="443" r:id="rId192"/>
    <p:sldId id="444" r:id="rId193"/>
    <p:sldId id="445" r:id="rId194"/>
    <p:sldId id="446" r:id="rId195"/>
    <p:sldId id="447" r:id="rId196"/>
    <p:sldId id="448" r:id="rId197"/>
    <p:sldId id="449" r:id="rId198"/>
    <p:sldId id="450" r:id="rId199"/>
    <p:sldId id="451" r:id="rId200"/>
    <p:sldId id="452" r:id="rId201"/>
    <p:sldId id="453" r:id="rId202"/>
    <p:sldId id="454" r:id="rId203"/>
    <p:sldId id="455" r:id="rId204"/>
    <p:sldId id="456" r:id="rId205"/>
    <p:sldId id="457" r:id="rId206"/>
    <p:sldId id="458" r:id="rId207"/>
    <p:sldId id="459" r:id="rId208"/>
    <p:sldId id="460" r:id="rId209"/>
    <p:sldId id="461" r:id="rId210"/>
    <p:sldId id="462" r:id="rId211"/>
    <p:sldId id="463" r:id="rId212"/>
    <p:sldId id="464" r:id="rId213"/>
    <p:sldId id="465" r:id="rId214"/>
    <p:sldId id="466" r:id="rId215"/>
    <p:sldId id="467" r:id="rId2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slide" Target="slides/slide135.xml"/><Relationship Id="rId140" Type="http://schemas.openxmlformats.org/officeDocument/2006/relationships/slide" Target="slides/slide136.xml"/><Relationship Id="rId141" Type="http://schemas.openxmlformats.org/officeDocument/2006/relationships/slide" Target="slides/slide137.xml"/><Relationship Id="rId142" Type="http://schemas.openxmlformats.org/officeDocument/2006/relationships/slide" Target="slides/slide138.xml"/><Relationship Id="rId143" Type="http://schemas.openxmlformats.org/officeDocument/2006/relationships/slide" Target="slides/slide139.xml"/><Relationship Id="rId144" Type="http://schemas.openxmlformats.org/officeDocument/2006/relationships/slide" Target="slides/slide140.xml"/><Relationship Id="rId145" Type="http://schemas.openxmlformats.org/officeDocument/2006/relationships/slide" Target="slides/slide141.xml"/><Relationship Id="rId146" Type="http://schemas.openxmlformats.org/officeDocument/2006/relationships/slide" Target="slides/slide142.xml"/><Relationship Id="rId147" Type="http://schemas.openxmlformats.org/officeDocument/2006/relationships/slide" Target="slides/slide143.xml"/><Relationship Id="rId148" Type="http://schemas.openxmlformats.org/officeDocument/2006/relationships/slide" Target="slides/slide144.xml"/><Relationship Id="rId149" Type="http://schemas.openxmlformats.org/officeDocument/2006/relationships/slide" Target="slides/slide145.xml"/><Relationship Id="rId150" Type="http://schemas.openxmlformats.org/officeDocument/2006/relationships/slide" Target="slides/slide146.xml"/><Relationship Id="rId151" Type="http://schemas.openxmlformats.org/officeDocument/2006/relationships/slide" Target="slides/slide147.xml"/><Relationship Id="rId152" Type="http://schemas.openxmlformats.org/officeDocument/2006/relationships/slide" Target="slides/slide148.xml"/><Relationship Id="rId153" Type="http://schemas.openxmlformats.org/officeDocument/2006/relationships/slide" Target="slides/slide149.xml"/><Relationship Id="rId154" Type="http://schemas.openxmlformats.org/officeDocument/2006/relationships/slide" Target="slides/slide150.xml"/><Relationship Id="rId155" Type="http://schemas.openxmlformats.org/officeDocument/2006/relationships/slide" Target="slides/slide151.xml"/><Relationship Id="rId156" Type="http://schemas.openxmlformats.org/officeDocument/2006/relationships/slide" Target="slides/slide152.xml"/><Relationship Id="rId157" Type="http://schemas.openxmlformats.org/officeDocument/2006/relationships/slide" Target="slides/slide153.xml"/><Relationship Id="rId158" Type="http://schemas.openxmlformats.org/officeDocument/2006/relationships/slide" Target="slides/slide154.xml"/><Relationship Id="rId159" Type="http://schemas.openxmlformats.org/officeDocument/2006/relationships/slide" Target="slides/slide155.xml"/><Relationship Id="rId160" Type="http://schemas.openxmlformats.org/officeDocument/2006/relationships/slide" Target="slides/slide156.xml"/><Relationship Id="rId161" Type="http://schemas.openxmlformats.org/officeDocument/2006/relationships/slide" Target="slides/slide157.xml"/><Relationship Id="rId162" Type="http://schemas.openxmlformats.org/officeDocument/2006/relationships/slide" Target="slides/slide158.xml"/><Relationship Id="rId163" Type="http://schemas.openxmlformats.org/officeDocument/2006/relationships/slide" Target="slides/slide159.xml"/><Relationship Id="rId164" Type="http://schemas.openxmlformats.org/officeDocument/2006/relationships/slide" Target="slides/slide160.xml"/><Relationship Id="rId165" Type="http://schemas.openxmlformats.org/officeDocument/2006/relationships/slide" Target="slides/slide161.xml"/><Relationship Id="rId166" Type="http://schemas.openxmlformats.org/officeDocument/2006/relationships/slide" Target="slides/slide162.xml"/><Relationship Id="rId167" Type="http://schemas.openxmlformats.org/officeDocument/2006/relationships/slide" Target="slides/slide163.xml"/><Relationship Id="rId168" Type="http://schemas.openxmlformats.org/officeDocument/2006/relationships/slide" Target="slides/slide164.xml"/><Relationship Id="rId169" Type="http://schemas.openxmlformats.org/officeDocument/2006/relationships/slide" Target="slides/slide165.xml"/><Relationship Id="rId170" Type="http://schemas.openxmlformats.org/officeDocument/2006/relationships/slide" Target="slides/slide166.xml"/><Relationship Id="rId171" Type="http://schemas.openxmlformats.org/officeDocument/2006/relationships/slide" Target="slides/slide167.xml"/><Relationship Id="rId172" Type="http://schemas.openxmlformats.org/officeDocument/2006/relationships/slide" Target="slides/slide168.xml"/><Relationship Id="rId173" Type="http://schemas.openxmlformats.org/officeDocument/2006/relationships/slide" Target="slides/slide169.xml"/><Relationship Id="rId174" Type="http://schemas.openxmlformats.org/officeDocument/2006/relationships/slide" Target="slides/slide170.xml"/><Relationship Id="rId175" Type="http://schemas.openxmlformats.org/officeDocument/2006/relationships/slide" Target="slides/slide171.xml"/><Relationship Id="rId176" Type="http://schemas.openxmlformats.org/officeDocument/2006/relationships/slide" Target="slides/slide172.xml"/><Relationship Id="rId177" Type="http://schemas.openxmlformats.org/officeDocument/2006/relationships/slide" Target="slides/slide173.xml"/><Relationship Id="rId178" Type="http://schemas.openxmlformats.org/officeDocument/2006/relationships/slide" Target="slides/slide174.xml"/><Relationship Id="rId179" Type="http://schemas.openxmlformats.org/officeDocument/2006/relationships/slide" Target="slides/slide175.xml"/><Relationship Id="rId180" Type="http://schemas.openxmlformats.org/officeDocument/2006/relationships/slide" Target="slides/slide176.xml"/><Relationship Id="rId181" Type="http://schemas.openxmlformats.org/officeDocument/2006/relationships/slide" Target="slides/slide177.xml"/><Relationship Id="rId182" Type="http://schemas.openxmlformats.org/officeDocument/2006/relationships/slide" Target="slides/slide178.xml"/><Relationship Id="rId183" Type="http://schemas.openxmlformats.org/officeDocument/2006/relationships/slide" Target="slides/slide179.xml"/><Relationship Id="rId184" Type="http://schemas.openxmlformats.org/officeDocument/2006/relationships/slide" Target="slides/slide180.xml"/><Relationship Id="rId185" Type="http://schemas.openxmlformats.org/officeDocument/2006/relationships/slide" Target="slides/slide181.xml"/><Relationship Id="rId186" Type="http://schemas.openxmlformats.org/officeDocument/2006/relationships/slide" Target="slides/slide182.xml"/><Relationship Id="rId187" Type="http://schemas.openxmlformats.org/officeDocument/2006/relationships/slide" Target="slides/slide183.xml"/><Relationship Id="rId188" Type="http://schemas.openxmlformats.org/officeDocument/2006/relationships/slide" Target="slides/slide184.xml"/><Relationship Id="rId189" Type="http://schemas.openxmlformats.org/officeDocument/2006/relationships/slide" Target="slides/slide185.xml"/><Relationship Id="rId190" Type="http://schemas.openxmlformats.org/officeDocument/2006/relationships/slide" Target="slides/slide186.xml"/><Relationship Id="rId191" Type="http://schemas.openxmlformats.org/officeDocument/2006/relationships/slide" Target="slides/slide187.xml"/><Relationship Id="rId192" Type="http://schemas.openxmlformats.org/officeDocument/2006/relationships/slide" Target="slides/slide188.xml"/><Relationship Id="rId193" Type="http://schemas.openxmlformats.org/officeDocument/2006/relationships/slide" Target="slides/slide189.xml"/><Relationship Id="rId194" Type="http://schemas.openxmlformats.org/officeDocument/2006/relationships/slide" Target="slides/slide190.xml"/><Relationship Id="rId195" Type="http://schemas.openxmlformats.org/officeDocument/2006/relationships/slide" Target="slides/slide191.xml"/><Relationship Id="rId196" Type="http://schemas.openxmlformats.org/officeDocument/2006/relationships/slide" Target="slides/slide192.xml"/><Relationship Id="rId197" Type="http://schemas.openxmlformats.org/officeDocument/2006/relationships/slide" Target="slides/slide193.xml"/><Relationship Id="rId198" Type="http://schemas.openxmlformats.org/officeDocument/2006/relationships/slide" Target="slides/slide194.xml"/><Relationship Id="rId199" Type="http://schemas.openxmlformats.org/officeDocument/2006/relationships/slide" Target="slides/slide195.xml"/><Relationship Id="rId200" Type="http://schemas.openxmlformats.org/officeDocument/2006/relationships/slide" Target="slides/slide196.xml"/><Relationship Id="rId201" Type="http://schemas.openxmlformats.org/officeDocument/2006/relationships/slide" Target="slides/slide197.xml"/><Relationship Id="rId202" Type="http://schemas.openxmlformats.org/officeDocument/2006/relationships/slide" Target="slides/slide198.xml"/><Relationship Id="rId203" Type="http://schemas.openxmlformats.org/officeDocument/2006/relationships/slide" Target="slides/slide199.xml"/><Relationship Id="rId204" Type="http://schemas.openxmlformats.org/officeDocument/2006/relationships/slide" Target="slides/slide200.xml"/><Relationship Id="rId205" Type="http://schemas.openxmlformats.org/officeDocument/2006/relationships/slide" Target="slides/slide201.xml"/><Relationship Id="rId206" Type="http://schemas.openxmlformats.org/officeDocument/2006/relationships/slide" Target="slides/slide202.xml"/><Relationship Id="rId207" Type="http://schemas.openxmlformats.org/officeDocument/2006/relationships/slide" Target="slides/slide203.xml"/><Relationship Id="rId208" Type="http://schemas.openxmlformats.org/officeDocument/2006/relationships/slide" Target="slides/slide204.xml"/><Relationship Id="rId209" Type="http://schemas.openxmlformats.org/officeDocument/2006/relationships/slide" Target="slides/slide205.xml"/><Relationship Id="rId210" Type="http://schemas.openxmlformats.org/officeDocument/2006/relationships/slide" Target="slides/slide206.xml"/><Relationship Id="rId211" Type="http://schemas.openxmlformats.org/officeDocument/2006/relationships/slide" Target="slides/slide207.xml"/><Relationship Id="rId212" Type="http://schemas.openxmlformats.org/officeDocument/2006/relationships/slide" Target="slides/slide208.xml"/><Relationship Id="rId213" Type="http://schemas.openxmlformats.org/officeDocument/2006/relationships/slide" Target="slides/slide209.xml"/><Relationship Id="rId214" Type="http://schemas.openxmlformats.org/officeDocument/2006/relationships/slide" Target="slides/slide210.xml"/><Relationship Id="rId215" Type="http://schemas.openxmlformats.org/officeDocument/2006/relationships/slide" Target="slides/slide211.xml"/><Relationship Id="rId216" Type="http://schemas.openxmlformats.org/officeDocument/2006/relationships/slide" Target="slides/slide212.xml"/><Relationship Id="rId2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DE9B3-C121-4E85-8B7C-C321313E47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51FF0-F1D6-4030-B8BC-D70D00917AF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йская _________ провозглашается демократическим федеративным правовым __________ с республиканской формой правления. При этом главой государства, как и высшим должностным лицом, является, как и в ряде других демократических стран, ______, наделенный большими полномочиями. Он определяет основные направления внешней и внутренней _______ государства; решает вопросы ________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Государ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Граждан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Полит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Президен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Федерация. Грамотная оценка предвыборной _______ - важное, но не единственное условие безошибочного выбора ______ в политические деятели. ________ всегда интересно знать, кому он вручает _____ доверия, что это за человек, каковы его _______ и даже личная жизн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Биограф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Избирател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Кандида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Манда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Програм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F544-4E91-4946-BD20-373B6486D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5FFC-6597-4343-827E-6ED84DFDB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7B62-5957-4412-8DB8-60B213DCC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36D7-1DEB-4606-9A77-7BF8C1EDB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244CB-686E-496B-86FC-4C7D1F6B6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74FE7-2EAB-4E9D-8EDA-D1040EF03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E5411-86CB-4854-907D-2D6480547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E3997-57B1-4516-A3BB-6AE8802CD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1FB44-65B2-45F3-B051-3A313976E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3B0F9-72BB-4311-A3A6-CE3D815BD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2806D-0C1B-4558-BF58-FE6591F9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4FEB-BD20-4F81-9F35-568239DAB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121B1-FC68-4180-8E3B-4880D3C6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EDD33-E7A2-49AB-A0EA-81B85DB6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DB7E6-66E3-4434-9276-2723ECDB4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B2235-ECF0-4876-B66C-E1A8B06DE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B9339-9375-422D-BB3F-0B012FAF3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A6D5-EC7B-4510-8476-64761FAA2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6F3D-241D-4405-9662-4A6B7415E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FAAC-57AE-4627-8432-29EEC9AC5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65C1-BDE9-4D7A-AEF2-1FFD75A2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0A1C-9AA3-432A-8F3C-D9D7350B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F4C2-D5D4-4222-A78B-DC5E57FD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D65F-5EEC-4CBC-95F9-AD13E816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6C4B8-3553-4194-BD60-6632FD9D027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DF210-37CF-4232-8DF7-AFD8FF4B7E1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Педагогическая технология:</a:t>
            </a:r>
            <a:br>
              <a:rPr sz="4800"/>
            </a:b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«Ключевое понятие» </a:t>
            </a:r>
            <a:br>
              <a:rPr sz="4800"/>
            </a:b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втор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рхипова Елена Юрьев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еподаватель технологического колледж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.Великий Новгоро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rhipova_e@mail.natm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одержани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ервый раздел- «ПОЛИТИКА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торой раздел- «ЭКОНОМИКА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ретий раздел- «КУЛЬТУРА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етвертый раздел- «РЕЛИГИЯ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ятый раздел- «Юриспруденция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Шестой раздел- «СОЦИОЛОГИЯ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писок литератур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ловарный диктан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3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)  МХАТ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)  Период в культурном и идейном развитии стран Западной и Центральной Европы, переходный от средневековой культуры к культуре нового времени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)  Одна из универсальных форм бытия материального мира в человеческом сознании, раскрывающая эстетический смысл явлений, которые вызывают удовольствие, моральное удовлетворение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)  Вид искусства, в котором художественные образы формируются с помощью звуков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)  Вид духовного освоения действительности человеком. имеющий целью формирование и развитие его способности творчески преобразовывать мир и самого себя по законам красоты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ловарный диктан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4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  Способность человека находить форму общения с другими людьми в зависимости от конкретных обстоятельств и ситуаций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)  Взаимная привязанность двух или более людей, основанная на любви, уважении, общих интересах и симпатиях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)  Следование правилам приличия, их соблюдение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)  Умение тонко чувствовать и реагировать на состояние, когда знакомый или близкий человек оказался в затруднительном состоянии или положении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)  Особая форма взаимоотношений, в которой люди обмениваются опытом, информацией, умениями и навыками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ловарный диктан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5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  Искусство жить с другими людьми по-человечески и быть человеком в любом проявлении своей натуры, уважая достоинства других людей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)  Совокупность совершаемых в обществе поступков и действий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)  Вид изобразительного искусства, включающий рисунок и печатные художественные произведения (гравюра, литография)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)  Форма культурного поведения человека, для которого уважение к людям стало привычным способом общения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)  Умение держать себя в обществе, уважая достоинство и благополучие других людей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ловарный диктан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6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68360" y="2492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)  Наука, исследующая многообразные проявления эстетического отношения, основанного на чувстве прекрасного, на представлениях о красивом и безобразном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)  Исторически определенная ступень развития общества и человека, выраженная (опредмеченная) в результатах материальной и духовной деятельности людей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)  Вид изобразительного искусства, специфика которого заключается в представлении при помощи красок, нанесенных на поверхность образов действительности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)  Вид искусства, целью которого является создание сооружений, отвечающих утилитарным потребностям людей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)Вид искусства, специфика которого заключается в объемном претворении художественной формы  в пространстве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твет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 вариан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) Бенефис. 2) Библиотека. 3) Богема. 4) Буффонада. 5) Были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 вариан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) Вальс. 2) Ваяние. 3) Вестерн. 4) Водевиль. 5)Средства массовой информаци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3 вариан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)Московский художественный академический театр. 2)Возрождение.3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расота. 4) Музыка. 5) Искусств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4 вариан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)Такт. 2) Дружба. 3) Этикет. 4) Деликатность. 5) Обще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5 вариан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) Воспитанность. 2) Поведение. 3) Графика. 4) Вежливость. 5) Прилич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6 вариан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) Эстетика. 2) Культура. 3) Живопись. 4) Архитектура. 5) Скульптур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ставить слова в текс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Записать парами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1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д ______ надо понимать исторически определенный ______ развития общества, творческих сил и ______ человека, выраженных в типах и формах жизни и _________ людей, в их взаимоотношениях, а также в создаваемых ими материальных и духовных ______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Деятельнос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Культур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Способност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.Уровен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.Ценност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ставить слова в текс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Записать парами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2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олгие годы русская ______ развивалась под влиянием языческой _____, языческого _______. С принятием Русью христианства положение резко изменилось. Новая религия претендовала на то, чтобы изменить мировоззрение людей, их восприятие всей жизни, а значит, и представления о ______ , художественном _______, эстетическом влиян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Красот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Культур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Мировоззрени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.Религ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.Творчество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ставить слова в текс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Записать парами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3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Ценности различаются по содержанию: наслаждение, польза, слава, власть, безопасность, красота, ____, добро, счастье и т.д. Ценности различаются по знаку - на положительные и отрицательные: наслаждение- ____, польза- ______, слава- ______, красота- _______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Безобрази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Вре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Истин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.Позор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.Страдани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ставить слова в текс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Записать парами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4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зумное ______ тогда является нравственным, когда оно руководствуется искренними _________. И наоборот. Чувственное поведение только тогда превращается в нравственное, когда им руководит ____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Чувства и разум не могут жить врозь. Когда они действуют поодиночке, очень велика _____ скатиться в пропасть ______. Между ними должен быть крепкий союз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Аморальность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.Опасность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.Поведени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.Разу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.Чувств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ставить слова в текс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Записать парами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5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же в древности была глубоко осмыслена _____ непреодолимой связи добра и ___. Один из древних ______ сказал: кто не узнал и не пережил ___, тот не может быть по настоящему добр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ез ______ сопротивляться злу недостаточно понимания зла и противостояния злу. Само по себе это не приведет к добр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Готовнос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Добро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Зло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.Иде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.Мудрец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Первый раздел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ем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Политика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ставить слова в текс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Записать парами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6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арадокс ______ заключается в разрыве между знанием и делом: благодаря _____, обучению в школе, _____ книг, воздействию печати и ______, люди в цивилизованном обществе знают, что такое Добродетель, но многие (а иногда и большинство) поступают порочно. Что это __________, которые в принципе нельзя осуществить на практике, или некоторые особенности поведения человека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Абстрактные знан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.Воспитани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.Добродетель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.Телевидени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.Чтени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твет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-4;2-1;3-3;4-2;5-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-4;2-1;3-3;4-2;5-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-5;2-3;3-1;4-4;5-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-5;2-4;3-1;4-3;5-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-5;2-2;3-4;4-1;5-3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6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-5;2-2;3-1;4-4;5-3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Второй уровень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ультур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по теме.</a:t>
            </a:r>
            <a:br>
              <a:rPr sz="2800"/>
            </a:br>
            <a:r>
              <a:rPr b="1" i="1" lang="ru-RU" sz="2800" spc="-1" strike="noStrike">
                <a:solidFill>
                  <a:srgbClr val="feec94"/>
                </a:solidFill>
                <a:latin typeface="Times New Roman"/>
              </a:rPr>
              <a:t>1 вариант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ван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ристотел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алан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иллин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ражданское пра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кларац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конодатель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ндивидуальн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атолициз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ин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ммуниз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ституц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егитимн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изин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ичн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язанн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арламен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лато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слав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тестантиз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ект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кра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циализац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про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ратификац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рат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ат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Федеральное собра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Церков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66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70" dur="500" fill="hold"/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74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78" dur="500" fill="hold"/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82" dur="500" fill="hold"/>
                                        <p:tgtEl>
                                          <p:spTgt spid="3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по теме.</a:t>
            </a:r>
            <a:br>
              <a:rPr sz="3200"/>
            </a:br>
            <a:r>
              <a:rPr b="1" i="1" lang="ru-RU" sz="3200" spc="-1" strike="noStrike">
                <a:solidFill>
                  <a:srgbClr val="feec94"/>
                </a:solidFill>
                <a:latin typeface="Times New Roman"/>
              </a:rPr>
              <a:t>2 вариант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кц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дминистративное пра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ти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вартирная краж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куренц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сервато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итин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итрополи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родн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ц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атриар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икетирова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лем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зна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п-культур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пулиз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наруш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длож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изводител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а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емейное пра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емь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вет Федерац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уннит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упру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рудовое пра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Шиит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лит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мисс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мпири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88" dur="5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92" dur="500" fill="hold"/>
                                        <p:tgtEl>
                                          <p:spTgt spid="3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96" dur="500" fill="hold"/>
                                        <p:tgtEl>
                                          <p:spTgt spid="3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00" dur="500" fill="hold"/>
                                        <p:tgtEl>
                                          <p:spTgt spid="3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04" dur="500" fill="hold"/>
                                        <p:tgtEl>
                                          <p:spTgt spid="3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по теме.</a:t>
            </a:r>
            <a:br>
              <a:rPr sz="3200"/>
            </a:br>
            <a:r>
              <a:rPr b="1" i="1" lang="ru-RU" sz="3200" spc="-1" strike="noStrike">
                <a:solidFill>
                  <a:srgbClr val="feec94"/>
                </a:solidFill>
                <a:latin typeface="Times New Roman"/>
              </a:rPr>
              <a:t>3 вариант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нтимонопольное законодатель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арте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даделец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ивиденд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на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арм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вартирная краж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итрополи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ногопартийн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рал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у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ирва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разова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ппозиц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тец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атриар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Д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люрализ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литолог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требител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фесс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спредел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амореализац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амосохран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а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циальное неравен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ворче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ира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П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10" dur="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14" dur="500" fill="hold"/>
                                        <p:tgtEl>
                                          <p:spTgt spid="3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18" dur="500" fill="hold"/>
                                        <p:tgtEl>
                                          <p:spTgt spid="3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22" dur="500" fill="hold"/>
                                        <p:tgtEl>
                                          <p:spTgt spid="3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26" dur="500" fill="hold"/>
                                        <p:tgtEl>
                                          <p:spTgt spid="4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по теме.</a:t>
            </a:r>
            <a:br>
              <a:rPr sz="3200"/>
            </a:br>
            <a:r>
              <a:rPr b="1" i="1" lang="ru-RU" sz="3200" spc="-1" strike="noStrike">
                <a:solidFill>
                  <a:srgbClr val="feec94"/>
                </a:solidFill>
                <a:latin typeface="Times New Roman"/>
              </a:rPr>
              <a:t>4 вариант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сеобщая Декларация прав челове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мократ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нежная масс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ключенны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муже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деолог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тор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ласс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свенный нало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ультуроло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юмпен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аргинал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ировоззр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ормативный ак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Т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виняемы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антеиз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движник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литеиз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грессивный нало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порциональный нало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фсоюз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зделение власте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вяты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циал-демократ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ррориз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нитарное государ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Ценност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Частная собственн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Юродивы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32" dur="500" fill="hold"/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36" dur="500" fill="hold"/>
                                        <p:tgtEl>
                                          <p:spTgt spid="4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40" dur="500" fill="hold"/>
                                        <p:tgtEl>
                                          <p:spTgt spid="4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44" dur="500" fill="hold"/>
                                        <p:tgtEl>
                                          <p:spTgt spid="4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48" dur="500" fill="hold"/>
                                        <p:tgtEl>
                                          <p:spTgt spid="4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по теме.</a:t>
            </a:r>
            <a:br>
              <a:rPr sz="3200"/>
            </a:br>
            <a:r>
              <a:rPr b="1" i="1" lang="ru-RU" sz="3200" spc="-1" strike="noStrike">
                <a:solidFill>
                  <a:srgbClr val="feec94"/>
                </a:solidFill>
                <a:latin typeface="Times New Roman"/>
              </a:rPr>
              <a:t>5 вариант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втоном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льтернативные выбор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теиз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лобализац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ре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пута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фляц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хват заложник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мпичмен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ндуиз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тор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удаиз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уль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итератур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юмпен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нотеиз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ТП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виняемы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грабл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ерепроизвод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отнош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циальная дифференциац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циальная несправедлив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удопроизвод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хнолог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ру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каз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Характе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Ценообразова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рудиц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54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58" dur="500" fill="hold"/>
                                        <p:tgtEl>
                                          <p:spTgt spid="4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62" dur="500" fill="hold"/>
                                        <p:tgtEl>
                                          <p:spTgt spid="4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66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70" dur="500" fill="hold"/>
                                        <p:tgtEl>
                                          <p:spTgt spid="4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по теме.</a:t>
            </a:r>
            <a:br>
              <a:rPr sz="3200"/>
            </a:br>
            <a:r>
              <a:rPr b="1" i="1" lang="ru-RU" sz="3200" spc="-1" strike="noStrike">
                <a:solidFill>
                  <a:srgbClr val="feec94"/>
                </a:solidFill>
                <a:latin typeface="Times New Roman"/>
              </a:rPr>
              <a:t>6 вариант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ибл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рачный контрак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виантное повед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ерусали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ра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ажоритарная избирательная систем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ек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исти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дер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нопол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оватор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щественное движ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дпринимател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был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ватизаци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гово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порциональная избирательная систем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нт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тр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анкц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видетел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ло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друже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циальная рол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юз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роитель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убкультур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мперамен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Целеполага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лектора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76" dur="500" fill="hold"/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80" dur="500" fill="hold"/>
                                        <p:tgtEl>
                                          <p:spTgt spid="4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84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88" dur="500" fill="hold"/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92" dur="500" fill="hold"/>
                                        <p:tgtEl>
                                          <p:spTgt spid="4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Античные философ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Oval 4"/>
          <p:cNvSpPr/>
          <p:nvPr/>
        </p:nvSpPr>
        <p:spPr>
          <a:xfrm>
            <a:off x="2987640" y="3573360"/>
            <a:ext cx="1655640" cy="1440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лато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428-327 г до н э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(Аристокл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Oval 5"/>
          <p:cNvSpPr/>
          <p:nvPr/>
        </p:nvSpPr>
        <p:spPr>
          <a:xfrm>
            <a:off x="5940360" y="2781360"/>
            <a:ext cx="1008000" cy="1224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иало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«Менон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Oval 6"/>
          <p:cNvSpPr/>
          <p:nvPr/>
        </p:nvSpPr>
        <p:spPr>
          <a:xfrm>
            <a:off x="6372360" y="4437000"/>
            <a:ext cx="143964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иало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«Софист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Oval 7"/>
          <p:cNvSpPr/>
          <p:nvPr/>
        </p:nvSpPr>
        <p:spPr>
          <a:xfrm>
            <a:off x="4284720" y="2565360"/>
            <a:ext cx="91440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иало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«Фед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Oval 8"/>
          <p:cNvSpPr/>
          <p:nvPr/>
        </p:nvSpPr>
        <p:spPr>
          <a:xfrm>
            <a:off x="1763640" y="2997360"/>
            <a:ext cx="1079640" cy="1008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иало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«Законы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Oval 10"/>
          <p:cNvSpPr/>
          <p:nvPr/>
        </p:nvSpPr>
        <p:spPr>
          <a:xfrm>
            <a:off x="1476360" y="5157720"/>
            <a:ext cx="1727280" cy="9860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иало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«Политика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Line 16"/>
          <p:cNvSpPr/>
          <p:nvPr/>
        </p:nvSpPr>
        <p:spPr>
          <a:xfrm flipH="1">
            <a:off x="3203640" y="5013360"/>
            <a:ext cx="72072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Line 18"/>
          <p:cNvSpPr/>
          <p:nvPr/>
        </p:nvSpPr>
        <p:spPr>
          <a:xfrm flipH="1" flipV="1">
            <a:off x="2771280" y="3715920"/>
            <a:ext cx="28764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Line 19"/>
          <p:cNvSpPr/>
          <p:nvPr/>
        </p:nvSpPr>
        <p:spPr>
          <a:xfrm flipV="1">
            <a:off x="4427640" y="3428640"/>
            <a:ext cx="730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Line 20"/>
          <p:cNvSpPr/>
          <p:nvPr/>
        </p:nvSpPr>
        <p:spPr>
          <a:xfrm flipV="1">
            <a:off x="4643280" y="3789000"/>
            <a:ext cx="144144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Line 21"/>
          <p:cNvSpPr/>
          <p:nvPr/>
        </p:nvSpPr>
        <p:spPr>
          <a:xfrm>
            <a:off x="4500720" y="4724280"/>
            <a:ext cx="1871640" cy="14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277560"/>
            <a:ext cx="8291520" cy="19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по теме.</a:t>
            </a:r>
            <a:br>
              <a:rPr sz="4000"/>
            </a:br>
            <a:r>
              <a:rPr b="1" i="1" lang="ru-RU" sz="4000" spc="-1" strike="noStrike">
                <a:solidFill>
                  <a:srgbClr val="feec94"/>
                </a:solidFill>
                <a:latin typeface="Times New Roman"/>
              </a:rPr>
              <a:t>1 вариант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920" y="23270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двока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либ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лимент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мнист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ффек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ан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елый до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енефи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иблиоте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ибл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изне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илл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ирж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лаженны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о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0" y="23270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огем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огоявле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рахм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рокер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уржуаз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уффонад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ылин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ла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магог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бастов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апита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ществ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щно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енс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раты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" dur="500" fill="hold"/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" dur="5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Четвертый раздел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ем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Религия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по теме</a:t>
            </a:r>
            <a:br>
              <a:rPr sz="4000"/>
            </a:br>
            <a:r>
              <a:rPr b="1" i="1" lang="ru-RU" sz="4000" spc="-1" strike="noStrike">
                <a:solidFill>
                  <a:srgbClr val="feec94"/>
                </a:solidFill>
                <a:latin typeface="Times New Roman"/>
              </a:rPr>
              <a:t>1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двока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либ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лимент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мнист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ффек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ан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елый до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енефи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иблиоте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ибл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изне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илл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ирж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лаженны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о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42920" y="213336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огем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огоявле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рахм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рокер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уржуаз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уффонад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ылин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ла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магог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бастов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апита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ществ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щно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енс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раты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98" dur="500" fill="hold"/>
                                        <p:tgtEl>
                                          <p:spTgt spid="4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02" dur="500" fill="hold"/>
                                        <p:tgtEl>
                                          <p:spTgt spid="4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06" dur="500" fill="hold"/>
                                        <p:tgtEl>
                                          <p:spTgt spid="4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10" dur="500" fill="hold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14" dur="500" fill="hold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о теме.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2 вариант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д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рбитраж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рес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андитизм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уддизм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юдже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альс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алют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атикан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аяние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еликий пос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ербное воскресенье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естерн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ече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ласть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одевиль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00720" y="21333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йн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ньг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т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еждународный валютный фонд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родно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арт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зумпц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дител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ыно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емь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редства массовой информаци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ро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оталитариз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тно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20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24" dur="500" fill="hold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28" dur="500" fill="hold"/>
                                        <p:tgtEl>
                                          <p:spTgt spid="4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32" dur="500" fill="hold"/>
                                        <p:tgtEl>
                                          <p:spTgt spid="4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36" dur="500" fill="hold"/>
                                        <p:tgtEl>
                                          <p:spTgt spid="4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9152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по теме.</a:t>
            </a:r>
            <a:br>
              <a:rPr sz="4400"/>
            </a:b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3 вариант.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24000" y="21333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лла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езработиц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ериг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ин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нутренний валовой продук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зрожде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лхв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ту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семирный потоп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сенощна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збирательный бюллетен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кусств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расот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реди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бильно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211640" y="206028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лодеж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нарх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узы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ХА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нято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терпевши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суд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зумпц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ыно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емейный конфлик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ату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рес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уверените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инэйджер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кономи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42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46" dur="5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50" dur="500" fill="hold"/>
                                        <p:tgtEl>
                                          <p:spTgt spid="4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54" dur="500" fill="hold"/>
                                        <p:tgtEl>
                                          <p:spTgt spid="4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58" dur="500" fill="hold"/>
                                        <p:tgtEl>
                                          <p:spTgt spid="4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6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по теме.</a:t>
            </a:r>
            <a:br>
              <a:rPr sz="4400"/>
            </a:b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4 вариант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вторите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кци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лтар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нтихрис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покалипси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рхиепископ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из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ладе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меняем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рач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ликатно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жихад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ружб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нвалид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иберализ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42920" y="213336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ишение свобод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род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вменяемо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ще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лан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ительств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дприят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зиден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бочий клас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циолог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ырь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ак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орговл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Форма правлен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тикет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64" dur="5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68" dur="500" fill="hold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72" dur="500" fill="hold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76" dur="500" fill="hold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80" dur="500" fill="hold"/>
                                        <p:tgtEl>
                                          <p:spTgt spid="4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8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по теме.</a:t>
            </a:r>
            <a:br>
              <a:rPr sz="4400"/>
            </a:b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5 вариант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00720" y="23270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трабанд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ры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раж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риминолог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ДП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лити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двыборная кампан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стиж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лич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изводств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исуно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дств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беркниж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Б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овар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4000" y="23270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даптац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ежливо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етхий заве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икари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ифлее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здвижень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знесе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спитанно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бор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ород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рафи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ндивидуу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нфляц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тец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андида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86" dur="500" fill="hold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90" dur="500" fill="hold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94" dur="500" fill="hold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98" dur="500" fill="hold"/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02" dur="500" fill="hold"/>
                                        <p:tgtEl>
                                          <p:spTgt spid="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7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по теме.</a:t>
            </a:r>
            <a:br>
              <a:rPr sz="4400"/>
            </a:b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6 вариант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рхитектур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огатств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мограф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огма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Епарх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Ерес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Живопис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держа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гумен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полнительный лис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дек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ммуниз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серватиз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фесс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42920" y="213336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ьтур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г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чик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я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лам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ублик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еренду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уты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ульптур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из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енчество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говля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стетик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08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12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16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20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24" dur="500" fill="hold"/>
                                        <p:tgtEl>
                                          <p:spTgt spid="4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твет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0:14;15;17;18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;5;9;11;1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;3;7;9;1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;4;5;6;1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;4;5;6;7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6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;5;6;9;1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Установить соответствие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1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)  Главная книга христиан, в которой отражены различные политические и социальные воззрения. Состоит из Ветхого и Нового заветов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)  В католической церкви лица, после их смерти объявленные «богоугодными»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3)  В религиозных верованиях сверхъестественное существо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4)  В брахманизме и индуизме один из трех высших богов, бог-создатель, творец Вселенной и всего сущего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5)  Один из религиозных двунадесятых праздников, отмечаемых христианами 6 января в память о рождении Христа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) Брахм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) Бо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) Богоявле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) Библ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) Блаженны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оставить пары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2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)  Согласно большей части религиозных учений, местопребывание душ грешников, обреченных на вечные мучения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)  В некоторых религиях воздержание на определенный срок от приема всякой пищи или отдельных ее видов (особенно мяса)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)  Центр римско-католической церкви, резиденция ее главы- папы римского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)  Один из двунадесятых праздников, празднуется в последнее воскресенье перед Пасхой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)  Имя, данное основателю буддизма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) Вербное воскресень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) Ад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) Будда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) Ватикан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) Пос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о теме.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2 вариант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д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рбитраж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рес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андитизм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уддизм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юдже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альс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алют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атикан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аяние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еликий пос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ербное воскресенье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естерн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ече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ласть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одевиль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00720" y="21333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йн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ньг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т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еждународный валютный фонд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родно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арт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зумпц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дител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ыно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емь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редства массовой информаци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ро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оталитариз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тно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8" dur="500" fill="hold"/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2" dur="500" fill="hold"/>
                                        <p:tgtEl>
                                          <p:spTgt spid="1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6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0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4" dur="500" fill="hold"/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оставить пары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3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)  Тяжелые железные цепи, обручи и тому подобное, носимые на голом теле, форма самоистязания религиозных фанатиков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)  Самая древняя часть библии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)  Город в Палестине, к югу от Иерусалима. Согласно Библии, родина царя Давида и место рождения  Иисуса Христа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)  В православной церкви заместитель епископа, епископ без епархии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)  Один из религиозных двунадесятых праздников, отмечается 27 сентября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) Вифлее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)  Ветхий заве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) Викари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) Воздвижени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)  Вериг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оставить пары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4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)  Один из религиозных двунадесятых праздников, празднуется на 40 день после     Пасхи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)  Название в Древней Руси служителей дохристианских культов, знахарей, считавшихся чародеями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)  В мифологии ряда народов «божья кара», ниспосланная на человечество и на все живое на земле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)  Христианская церковная служба с вечера до окончания ночи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)  Название бога у мусульман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) Всемирный потоп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) Аллах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) Вознесени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) Всенощна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) Волхв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оставить пары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5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)  Во многих религиях главное место храма, где совершаются священнодействия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)  Противник Иисуса Христа, который, согласно Апокалипсису, должен появиться на Земле незадолго до Второго пришествия Христа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)  В христианской мистике – пророчество о «конце мира» и Страшном Суде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)  Одно из высших духовных званий в православии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)  В исламе – борьба за веру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) Антихрис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) Алтарь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) Джихад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) Архиепископ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) Апокалипсис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оставить пары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6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)  Формула вероучения, считающаяся неоспоримой и неизменной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)   Церковно-административная единица, объединяющая несколько приходов и монастырей на данной территории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)  Религиозные течения, отступающие от официальной церковной доктрины и осужденные Церковью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)  Настоятель монастыря или настоятель храма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)  «Исповедание», вероисповедание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) Ерес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) Игумен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) Догма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) Епарх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) Конфесс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твет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ариант 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Г; 2) Д; 3) Б; 4)А; 5) 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ариант 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Б; 2) Д; 3) Г; 4) А; 5) 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ариант 3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Д; 2) Б; 3) А) 4) В; 5) 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ариант 4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В; 2) Д); 3) А; 4) Г; 5)Б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ариант 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Б; 2)А; 3) Д; 4) Г; 5) В.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ариант 6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 В; 2) Г; 3) А; 4) Б; 5) 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ловарный диктан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1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)  Главная книга христиан, в которой отражены различные политические и социальные воззрения. Состоит из Ветхого и Нового заветов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)  В католической церкви лица, после их смерти объявленные «богоугодными»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)  В религиозных верованиях сверхъестественное существо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)  В брахманизме и индуизме один из трех высших богов, бог-создатель, творец Вселенной и всего сущего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)  Один из религиозных двунадесятых праздников, отмечаемых христианами 6 января в память о крещении Христа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ловарный диктан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2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)  Согласно большей части религиозных учений, местопребывание душ грешников, обреченных на вечные мучения-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)  В некоторых религиях воздержание на определенный срок от приема всякой пищи или отдельных ее видов (особенно мяса)-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)  Центр римско-католической церкви, резиденция ее главы- папы римского-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)  Один из двунадесятых праздников, празднуется в последнее воскресенье перед Пасхой-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)  Имя, данное основателю буддизма-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ловарный диктан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3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)  Тяжелые железные цепи, обручи и тому подобное, носимые на голом теле, форма самоистязания религиозных фанатиков-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)  Самая древняя часть библии-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)  Город в Палестине, к югу от Иерусалима. Согласно Библии, родина царя Давида и место рождения  Иисуса Христа-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)  В православной церкви заместитель епископа, епископ без епархии-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)  Один из религиозных двунадесятых праздников, отмечается 27 сентября-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ловарный диктан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4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)  Один из религиозных двунадесятых праздников, празднуется на 40 день после     Пасхи-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)  Название в Древней Руси служителей дохристианских культов, знахарей, считавшихся чародеями-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)  В мифологии ряда народов «божья кара», ниспосланная на человечество и на все живое на земле-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)  Христианская церковная служба с вечера до окончания ночи-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)  Название бога у мусульман-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ловарный диктан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5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)  Во многих религиях главное место храма, где совершаются священнодействия-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)  Противник Иисуса Христа, который, согласно Апокалипсису, должен появиться на Земле незадолго до Второго пришествия Христа-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)  В христианской мистике – пророчество о «конце мира» и Страшном Суде-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)  Одно из высших духовных званий в православии-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)  В исламе – борьба за веру-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9152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по теме.</a:t>
            </a:r>
            <a:br>
              <a:rPr sz="4400"/>
            </a:b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3 вариант.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24000" y="21333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лла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езработиц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ериг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ин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нутренний валовой продук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зрожде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лхв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ту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семирный потоп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сенощна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збирательный бюллетен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кусств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расот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реди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бильно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211640" y="206028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лодеж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нарх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узы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ХА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нято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терпевши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суд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зумпц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ыно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емейный конфлик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ату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рес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уверените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инэйджер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кономи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0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4" dur="500" fill="hold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8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2" dur="500" fill="hold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6" dur="500" fill="hold"/>
                                        <p:tgtEl>
                                          <p:spTgt spid="1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ловарный диктан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6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)  Формула вероучения, считающаяся неоспоримой и неизменной-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)   Церковно-административная единица, объединяющая несколько приходов и монастырей на данной территории-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)  Религиозные течения, отступающие от официальной церковной доктрины и осужденные Церковью-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)  Настоятель монастыря или настоятель храма-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)  «Исповедание», вероисповедание-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твет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 вариан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) Библия. 2) Блаженные. 3) Бог. 4) Брахма. 5) Богоявлени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 вариан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) Ад. 2) Пост. 3) Ватикан. 4) Вербное воскресенье. 5) Будд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 вариан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) Вериги. 2) Ветхий завет. 3) Вифлеем. 4) Викарий. 5) Воздвижени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 вариан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) Вознесение. 2) Волхвы. 3) Всемирный потоп. 4) Всенощная. 5) Аллах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 вариан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) Алтарь. 2) Антихрист. 3) Апокалипсис. 4) Архиепископ. 5) Джихад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6 вариан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) Догмат. 2) Епархия. 3) Ереси. 4) Игумен. 5) Конфесс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ставить слова в текс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Записать парами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1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середине первого тысячелетия до н.э. философ _________ (551-479гг. до н. э.) создал _____, которому суждено стать плотью и кровью _______. Цель его философской _______ состояла в том, чтобы сделать государство идеальным, основанным на твердых нравственных ________, с гармоничными социальными отношениям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1.Конфуци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2.Принцип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3.Систем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4.Учени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5.Цивилизац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ставить слова в текс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Записать парами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2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_________ относился с уважением и к иудаизму, и к _______, обладающими, как он считал, богодухновенными книгами. В ______ - священной книге _____, содержащей откровения, которые были ниспосланы Мухаммеду, заметно влияние обеих ______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1.Исла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2.Кора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3.Мухаммед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4.Религ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5.Христианств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ставить слова в текс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Записать парами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3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овая _____ призывала человека к постоянной тяжелой ______ над самим собой, к пересозданию собственной ______. _______ теперь зависела не от выполнения кастовых предписаний, а от поступков и ______ человек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1.Карм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2.Личнос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3.Работ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4.Помысл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5.Религ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ставить слова в текс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Записать парами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4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снову ______ составляет учение об искупительной _____ сына божьего __________. Христиане верят в то, что Иисус был послан на землю _____, чтобы пострадать за грехи людей. Он был казнен правителем Иудеи ______, но затем воскрес и вознесся на небо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1.Бо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2.Жертв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3.Иисус Христос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4.Понтий Пила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5.Христианство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ставить слова в текс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Записать парами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5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рещение - одно из 7 христианских _______ (_____, причащение, священство, исповедь, миропомазание, брак и ________), которые знаменуют принятие человека в ____ церкв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 _____ крещения «человек умирает для жизни плотской, греховной и возрождается в жизнь духовную, святую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1.Крещени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2.Лоно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3.Результа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4.Соборовани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5.Таинств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ставить слова в текс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Записать парами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6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феодальной _______ христианское _______ было привилегированным ______ и крупным собственником.  _________  существенно изменила положение духовенства. Большинство протестантских течений провозгласило принцип «всеобщего священства» и служители культа - ____, пресвитер не считаются «священными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1.Духовенство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2.Европ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3.Пастор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4.Реформац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5.Сослови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твет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-1;2-5;3-4;4-2;5-3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-4;2-3;3-1;4-5;5-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-4;2-3;3-2;4-5;5-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-4;2-2;3-3;4-5;5-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-2;2-4;3-5;4-3;5-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6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-2;2-1;3-5;4-4;5-3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Второй уровень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елиг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6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по теме.</a:t>
            </a:r>
            <a:br>
              <a:rPr sz="4400"/>
            </a:b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4 вариант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вторите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кци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лтар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нтихрис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покалипси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рхиепископ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из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ладе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меняем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рач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ликатно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жихад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ружб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нвалид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иберализ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42920" y="213336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ишение свобод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род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вменяемо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ще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лан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ительств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дприят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зиден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бочий клас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циолог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ырь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ак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орговл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Форма правлен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тикет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6" dur="500" fill="hold"/>
                                        <p:tgtEl>
                                          <p:spTgt spid="1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0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4" dur="5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8" dur="5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по теме.</a:t>
            </a:r>
            <a:br>
              <a:rPr sz="2800"/>
            </a:br>
            <a:r>
              <a:rPr b="1" i="1" lang="ru-RU" sz="2800" spc="-1" strike="noStrike">
                <a:solidFill>
                  <a:srgbClr val="feec94"/>
                </a:solidFill>
                <a:latin typeface="Times New Roman"/>
              </a:rPr>
              <a:t>1 вариант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ван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ристотел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алан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иллин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ражданское пра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кларац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конодатель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ндивидуальн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атолициз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ин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ммуниз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ституц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егитимн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изин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ичн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язанн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арламен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лато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слав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тестантиз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ект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кра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циализац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про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ратификац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рат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ат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Федеральное собра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Церков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0" dur="500" fill="hold"/>
                                        <p:tgtEl>
                                          <p:spTgt spid="4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4" dur="500" fill="hold"/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42" dur="500" fill="hold"/>
                                        <p:tgtEl>
                                          <p:spTgt spid="4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46" dur="500" fill="hold"/>
                                        <p:tgtEl>
                                          <p:spTgt spid="4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по теме.</a:t>
            </a:r>
            <a:br>
              <a:rPr sz="3200"/>
            </a:br>
            <a:r>
              <a:rPr b="1" i="1" lang="ru-RU" sz="3200" spc="-1" strike="noStrike">
                <a:solidFill>
                  <a:srgbClr val="feec94"/>
                </a:solidFill>
                <a:latin typeface="Times New Roman"/>
              </a:rPr>
              <a:t>2 вариант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кц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дминистративное пра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ти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вартирная краж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куренц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сервато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итин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итрополи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родн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ц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атриар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икетирова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лем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зна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п-культур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пулиз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наруш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длож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изводител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а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емейное пра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емь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вет Федерац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уннит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упру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рудовое пра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Шиит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лит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мисс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мпири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52" dur="500" fill="hold"/>
                                        <p:tgtEl>
                                          <p:spTgt spid="4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56" dur="500" fill="hold"/>
                                        <p:tgtEl>
                                          <p:spTgt spid="4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60" dur="500" fill="hold"/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64" dur="500" fill="hold"/>
                                        <p:tgtEl>
                                          <p:spTgt spid="4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68" dur="500" fill="hold"/>
                                        <p:tgtEl>
                                          <p:spTgt spid="4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по теме.</a:t>
            </a:r>
            <a:br>
              <a:rPr sz="3200"/>
            </a:br>
            <a:r>
              <a:rPr b="1" i="1" lang="ru-RU" sz="3200" spc="-1" strike="noStrike">
                <a:solidFill>
                  <a:srgbClr val="feec94"/>
                </a:solidFill>
                <a:latin typeface="Times New Roman"/>
              </a:rPr>
              <a:t>3 вариант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нтимонопольное законодатель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арте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даделец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ивиденд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на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арм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вартирная краж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итрополи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ногопартийн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рал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у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ирва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разова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ппозиц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тец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атриар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Д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люрализ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литолог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требител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фесс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спредел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амореализац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амосохран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а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циальное неравен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ворче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ира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П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74" dur="500" fill="hold"/>
                                        <p:tgtEl>
                                          <p:spTgt spid="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78" dur="500" fill="hold"/>
                                        <p:tgtEl>
                                          <p:spTgt spid="4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82" dur="500" fill="hold"/>
                                        <p:tgtEl>
                                          <p:spTgt spid="4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86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90" dur="500" fill="hold"/>
                                        <p:tgtEl>
                                          <p:spTgt spid="4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Пятый раздел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ем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Право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по теме</a:t>
            </a:r>
            <a:br>
              <a:rPr sz="4000"/>
            </a:br>
            <a:r>
              <a:rPr b="1" i="1" lang="ru-RU" sz="4000" spc="-1" strike="noStrike">
                <a:solidFill>
                  <a:srgbClr val="feec94"/>
                </a:solidFill>
                <a:latin typeface="Times New Roman"/>
              </a:rPr>
              <a:t>1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двока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либ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лимент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мнист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ффек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ан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елый до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енефи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иблиоте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ибл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изне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илл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ирж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лаженны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о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42920" y="213336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огем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огоявле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рахм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рокер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уржуаз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уффонад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ылин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ла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магог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бастов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апита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ществ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щно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енс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раты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96" dur="5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00" dur="500" fill="hold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04" dur="500" fill="hold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08" dur="500" fill="hold"/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12" dur="500" fill="hold"/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о теме.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2 вариант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д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рбитраж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рес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андитизм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уддизм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юдже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альс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алют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атикан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аяние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еликий пос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ербное воскресенье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естерн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ече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ласть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одевиль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00720" y="21333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йн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ньг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т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еждународный валютный фонд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родно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арт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зумпц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дител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ыно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емь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редства массовой информаци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ро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оталитариз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тно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18" dur="500" fill="hold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22" dur="500" fill="hold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26" dur="500" fill="hold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30" dur="500" fill="hold"/>
                                        <p:tgtEl>
                                          <p:spTgt spid="5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34" dur="500" fill="hold"/>
                                        <p:tgtEl>
                                          <p:spTgt spid="5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9152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по теме.</a:t>
            </a:r>
            <a:br>
              <a:rPr sz="4400"/>
            </a:b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3 вариант.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24000" y="21333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лла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езработиц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ериг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ин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нутренний валовой продук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зрожде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лхв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ту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семирный потоп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сенощна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збирательный бюллетен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кусств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расот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реди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бильно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211640" y="206028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лодеж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нарх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узы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ХА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нято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терпевши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суд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зумпц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ыно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емейный конфлик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ату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рес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уверените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инэйджер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кономи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40" dur="500" fill="hold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44" dur="500" fill="hold"/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48" dur="500" fill="hold"/>
                                        <p:tgtEl>
                                          <p:spTgt spid="5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52" dur="500" fill="hold"/>
                                        <p:tgtEl>
                                          <p:spTgt spid="5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56" dur="500" fill="hold"/>
                                        <p:tgtEl>
                                          <p:spTgt spid="5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6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по теме.</a:t>
            </a:r>
            <a:br>
              <a:rPr sz="4400"/>
            </a:b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4 вариант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вторите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кци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лтар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нтихрис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покалипси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рхиепископ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из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ладе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меняем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рач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ликатно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жихад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ружб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нвалид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иберализ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42920" y="213336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ишение свобод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род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вменяемо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ще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лан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ительств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дприят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зиден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бочий клас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циолог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ырь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ак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орговл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Форма правлен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тикет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7" dur="indefinite" restart="never" nodeType="tmRoot">
          <p:childTnLst>
            <p:seq>
              <p:cTn id="1058" dur="indefinite" nodeType="mainSeq">
                <p:childTnLst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62" dur="500" fill="hold"/>
                                        <p:tgtEl>
                                          <p:spTgt spid="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66" dur="500" fill="hold"/>
                                        <p:tgtEl>
                                          <p:spTgt spid="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70" dur="500" fill="hold"/>
                                        <p:tgtEl>
                                          <p:spTgt spid="5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74" dur="5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78" dur="500" fill="hold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8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по теме.</a:t>
            </a:r>
            <a:br>
              <a:rPr sz="4400"/>
            </a:b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5 вариант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00720" y="23270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трабанд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ры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раж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риминолог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ДП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лити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двыборная кампан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стиж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лич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изводств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исуно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дств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беркниж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Б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овар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24000" y="23270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даптац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ежливо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етхий заве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икари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ифлее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здвижень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знесе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спитанно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бор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ород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рафи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ндивидуу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нфляц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тец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андида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9" dur="indefinite" restart="never" nodeType="tmRoot">
          <p:childTnLst>
            <p:seq>
              <p:cTn id="1080" dur="indefinite" nodeType="mainSeq">
                <p:childTnLst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84" dur="500" fill="hold"/>
                                        <p:tgtEl>
                                          <p:spTgt spid="5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88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92" dur="500" fill="hold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96" dur="500" fill="hold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00" dur="500" fill="hold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8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по теме.</a:t>
            </a:r>
            <a:br>
              <a:rPr sz="4400"/>
            </a:b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5 вариант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00720" y="23270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трабанд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ры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раж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риминолог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ДП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лити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двыборная кампан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стиж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лич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изводств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исуно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дств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беркниж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Б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овар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4000" y="23270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даптац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ежливо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етхий заве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икари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ифлее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здвижень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знесе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спитанно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бор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ород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рафи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ндивидуу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нфляц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тец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андида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8" dur="500" fill="hold"/>
                                        <p:tgtEl>
                                          <p:spTgt spid="1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2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6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0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7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по теме.</a:t>
            </a:r>
            <a:br>
              <a:rPr sz="4400"/>
            </a:b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6 вариант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рхитектур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огатств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мограф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огма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Епарх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Ерес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Живопис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держа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гумен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полнительный лис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дек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ммуниз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серватиз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фесс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42920" y="213336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ьтур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г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чик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я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лам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ублик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еренду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уты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ульптур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из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енчество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говля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стетик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1" dur="indefinite" restart="never" nodeType="tmRoot">
          <p:childTnLst>
            <p:seq>
              <p:cTn id="1102" dur="indefinite" nodeType="mainSeq">
                <p:childTnLst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06" dur="500" fill="hold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10" dur="500" fill="hold"/>
                                        <p:tgtEl>
                                          <p:spTgt spid="5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14" dur="500" fill="hold"/>
                                        <p:tgtEl>
                                          <p:spTgt spid="5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18" dur="500" fill="hold"/>
                                        <p:tgtEl>
                                          <p:spTgt spid="5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22" dur="5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твет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;2;3;4;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;3;4;23;28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;20;21;22;23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7;8;9;16;18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4;16;17;18;19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6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8;10;11;12;18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Установить соответствие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1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)  Имущество предприятия, в состав которого входят основные средства, другие долгосрочные вложения (включая нематериальные активы), оборотные средства, финансовые активы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)  Косвенный налог, включаемый в цену товара и оплачиваемый покупателем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3)  Понятие, означающее нахождение обвиняемого в другом месте в момент совершения преступления, является доказательством невиновности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4)  Средства на содержание в семейном праве членов семьи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лное или частичное освобождение от наказания лиц, совершивших преступление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) Алиб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) Алименты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) Акциз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) Актив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) Амнист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оставить пары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2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)  Третейский суд. Разновидность судов, осуществляющих правосудие путем разрешения экономических споров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)  В уголовно-процессуальном праве мера пресечения, состоящая в заключении под стражу обвиняемого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3)  Поочередная продажа реальных товаров на основе конкурса покупателей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4)  В уголовном праве одно из наиболее опасных преступлений, посягающих на основы общественной безопасности и порядка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5)  Неспособность должника удовлетворить требования кредиторов по оплате товаров (работ. услуг), включая неспособность обеспечить обязательные платежи в бюджет и во внебюджетные фонды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) Арест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) Аукцион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) Банкротство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) Арбитраж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) Бандитиз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оставить пары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3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)  Государственная регистрация в органах записи актов гражданского состояния отношений между мужчиной и женщиной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)  Акт, приостанавливающий или не допускающий вступления в силу решений, законов-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3)  Письменное долговое обязательство строго установленной формы, дающее его владельцу бесспорное право по истечении определенного срока требовать с должника уплаты указанной денежной суммы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4)  Предмет природный или созданный человеком, является объектом гражданских прав-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5)  Психическое отношение лица к совершенному им противоправному деянию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) Вина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) Брак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) Вексел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) Вещь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) Вет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оставить пары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4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)  Специальное разрешение органов иностранного правительства на въезд, выезд, проживание или проезд через территорию государства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)  Фактическое обладание вещью, создающее для обладателя возможность непосредственного воздействия на вещь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3)  Способность человека отдавать отчет в своих действиях, руководить ими, нести ответственность за свои действия или бездействие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4)  Элемент нормы права, указывающий на условия ее действия (время, место, субъективный состав и т.п.), которые определяются путем закрепления юридических фактов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5)  Устойчивая правовая связь лица с государством, взаимоотношения между государством и лицами, находящимися под его властью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) Гипотеза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) Гражданство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) Владение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) Вменяемость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) Виз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оставить пары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5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1)  Высшее административное  назначаемое или выборное лицо, управляющее определенной территориальной единицей-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2)  Соглашение двух или нескольких лиц об установлении, изменение или прекращении гражданских прав и обязанностей-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3)  Физическое или юридическое лицо, которое не выполняет или в ближайшее время не сможет выполнить свои обязательства перед кредиторами-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4)  Вид обращения человека в органы государственной власти, местные органы самоуправления, к администрации организаций, в общественные объединения по поводу нарушения своих прав и законных интересов-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5)  Распоряжение гражданина своим имуществом на случай смерти, сделанное в установленном законом порядке-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) Губернатор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) Завещание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) Должник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Г) Договор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Д) Жалоб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оставить пары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6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1)  Нормативный акт, принятый в особом порядке органом законодательной власти, референдумом, выражающий волю народа, обладающий высшей юридической силой, регулирующий наиболее важные общественные отношения-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2)  Гражданско-правовое действие, дающее право кредитору по обеспеченному залогом обязательству (залогодержатель) в случае неисполнения должником этого обязательства получить удовлетворение из стоимости заложенного имущества преимущественно перед другими кредиторами-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3)  Средство защиты через суд нарушенного или оспариваемого права, охраняемого законом интереса-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4)  Случайное действие, имеющее признаки правонарушения, не имеющее вины, не влекущее ответственности-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5)  Законодательный акт, в котором объединены и систематизированы нормы права, регулирующие определенную область общественных отношений-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)  Залог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) Закон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) Кодекс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Г) Казус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Д) Иск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твет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арианты 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Г; 2)В; 3)А; 4)Б; 5)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ариант 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Г; 2)А; 3)Б; 4)Д; 5)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ариант 3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Б; 2)Д; 3)В; 4)Г; 5)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ариант 4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Д; 2)В; 3)Г; 4)А; 5)Б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ариант 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А; 2)Г; 3)В; 4)Д; 5) Б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ариант 6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Б; 2)А; 3)Д; 4)Г; 5)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ловарный диктан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1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  Имущество предприятия, в состав которого входят основные средства, другие долгосрочные вложения (включая нематериальные активы), оборотные средства, финансовые активы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)  Косвенный налог, включаемый в цену товара и оплачиваемый покупателем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)  Понятие, означающее нахождение обвиняемого в другом месте в момент совершения преступления, является доказательством невиновности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)  Средства на содержание в семейном праве членов семьи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)  Полное или частичное освобождение от наказания лиц, совершивших преступление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7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по теме.</a:t>
            </a:r>
            <a:br>
              <a:rPr sz="4400"/>
            </a:b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6 вариант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рхитектур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огатств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мограф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огма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Епарх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Ерес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Живопис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держа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гумен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полнительный лис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дек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ммуниз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серватиз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фесс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42920" y="213336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льтур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лог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чи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фесс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клам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спубли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ференду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каут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кульптур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циализ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уденчеств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рговл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н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стети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6" dur="500" fill="hold"/>
                                        <p:tgtEl>
                                          <p:spTgt spid="1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0" dur="500" fill="hold"/>
                                        <p:tgtEl>
                                          <p:spTgt spid="1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4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8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32" dur="500" fill="hold"/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ловарный диктан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2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2400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  Третейский суд. Разновидность судов, осуществляющих правосудие путем разрешения экономических споров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)  В уголовно-процессуальном праве мера пресечения, состоящая в заключении под стражу обвиняемого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)  Поочередная продажа реальных товаров на основе конкурса покупателей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)  В уголовном праве одно из наиболее опасных преступлений, посягающих на основы общественной безопасности и порядка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)  Неспособность должника удовлетворить требования кредиторов по оплате товаров (работ. услуг), включая неспособность обеспечить обязательные платежи в бюджет и во внебюджетные фонды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ловарный диктан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3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  Государственная регистрация в органах записи актов гражданского состояния отношений между мужчиной и женщиной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)  Акт, приостанавливающий или не допускающий вступления в силу решений, законов-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)  Письменное долговое обязательство строго установленной формы, дающее его владельцу бесспорное право по истечении определенного срока требовать с должника уплаты указанной денежной суммы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)  Предмет природный или созданный человеком, является объектом гражданских прав-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)  Психическое отношение лица к совершенному им противоправному деянию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ловарный диктан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4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)  Специальное разрешение органов иностранного правительства на въезд, выезд, проживание или проезд через территорию государства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)  Фактическое обладание вещью, создающее для обладателя возможность непосредственного воздействия на вещь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)  Способность человека отдавать отчет в своих действиях, руководить ими, нести ответственность за свои действия или бездействие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)  Элемент нормы права, указывающий на условия ее действия (время, место, субъективный состав и т.п.), которые определяются путем закрепления юридических фактов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)  Устойчивая правовая связь лица с государством, взаимоотношения между государством и лицами, находящимися под его властью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ловарный диктан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5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)  Высшее административное  назначаемое или выборное лицо, управляющее определенной территориальной единицей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)  Соглашение двух или нескольких лиц об установлении, изменение или прекращении гражданских прав и обязанностей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)  Физическое или юридическое лицо, которое не выполняет или в ближайшее время не сможет выполнить свои обязательства перед кредиторами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)  Вид обращения человека в органы государственной власти, местные органы самоуправления, к администрации организаций, в общественные объединения по поводу нарушения своих прав и законных интересов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)  Распоряжение гражданина своим имуществом на случай смерти, сделанное в установленном законом порядке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ловарный диктан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6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)  Нормативный акт, принятый в особом порядке органом законодательной власти, референдумом, выражающий волю народа, обладающий высшей юридической силой, регулирующий наиболее важные общественные отношения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)  Гражданско-правовое действие, дающее право кредитору по обеспеченному залогом обязательству (залогодержатель) в случае неисполнения должником этого обязательства получить удовлетворение из стоимости заложенного имущества преимущественно перед другими кредиторами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)  Средство защиты через суд нарушенного или оспариваемого права, охраняемого законом интереса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)  Случайное действие, имеющее признаки правонарушения, не имеющее вины, не влекущее ответственности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)  Законодательный акт, в котором объединены и систематизированы нормы права, регулирующие определенную область общественных отношений-…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твет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 вариан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) Активы. 2) Акциз. 3) Алиби. 4) Алименты. 5) Амнист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 вариан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) Арбитраж. 2) Арест. 3) Аукцион. 4) Бандитизм. 5) Банкротство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 вариан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) Брак. 2) Вето. 3) Вексель. 4) Вещь. 5)Вин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 вариан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) Виза. 2) Владение. 3) Вменяемость. 4) Гипотеза. 5) Гражданство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 вариан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) Губернатор. 2) Договор. 3) Должник. 4) Жалоба. 5) Завещани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6 вариан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) Закон. 2) Залог. 3) Иск. 4) Казус. 5) Кодекс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ставить слова в текс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Записать парами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1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ава и основные ______ с рождения принадлежат каждому человеку, они неотъемлемы и гарантируются законами. Их защита и содействие им – первейшая ______ государства. Их ______ - существенная гарантия против чрезмерной ______ государства. Их соблюдение и полное осуществление – основа свободы, справедливости и ______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1.Влас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2.Мир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3.Обязаннос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4.Свобод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5.Уважени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ставить слова в текс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Записать парами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2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 подлежит уголовной _______ лицо. Которое не сознавало фактический ______ и общественную ______ своих деяний, либо было в состоянии психического _______, слабоумия, либо иного болезненного состояния, которое называется _______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1.Невменяемос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2.Опаснос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3.Ответственнос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4.Расстройств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5.Характер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ставить слова в текс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Записать парами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3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иболее опасными являются _____ против ____ конституционного _____ и безопасности государства, поскольку они затрагивают основы общественного, политического и государственного строя РФ, ее _______, внутреннюю и внешнюю _____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1.Безопаснос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2.Основ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3.Преступлени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4.Стро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5.Суверените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ставить слова в текс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Записать парами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4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ждународное _____ - это особая ______ правовых ____, не входящих в какую-либо национальную систему права. Международное право не является системой, абсолютно обособленной от национального права ______ международного _____, так как прогрессивные нормы государств каждой новой исторической эпохи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1.Норм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2.Общени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3.Право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4.Систем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5.Участни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твет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 вариан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7;12;20;23;24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 вариан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4;15;17;22;29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 вариан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8;11;17;26;28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 вариан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;15;21;23;29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 вариан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9;15;20;21;2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6 вариан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3;14;21;22;2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ставить слова в текс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Записать парами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5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Заключительном ___ Совещания по безопасности и сотрудничеству в Европе от 1 августа 1975г. были закреплены новые принципы: принцип _____ основных прав человека, принцип нерушимости _____, принцип территориальной целостности государства. В систему основных ______ следует включить принцип разоружения, принцип международно-правовой ______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1.Ак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2.Границ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3.Ответственнос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4.Принцип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5.Уважени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ставить слова в текс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Записать парами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6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мущественные ______ в сфере образования – это отношения, выражающие правовое _____ образовательного ______: основания возникновения и порядок осуществления права _____, договорные и иные обязательные, имущественные и связанные с ними личные неимущественные отношения образовательных учреждений с другими организациями и ______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1.Граждан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2.Положени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3.Правоотнош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4.Собственнос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5.Учреждени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твет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-4;2-5;3-2;4-1;5-3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-5;2-3;3-1;4-4;5-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-5;2-2;3-1;4-3;5-4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-3;2-5;3-1;4-2;5-4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-1;2-3;3-5;4-4;5-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6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-5;2-2;3-1;4-4;5-3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Шестой раздел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ем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Социология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по теме</a:t>
            </a:r>
            <a:br>
              <a:rPr sz="4000"/>
            </a:br>
            <a:r>
              <a:rPr b="1" i="1" lang="ru-RU" sz="4000" spc="-1" strike="noStrike">
                <a:solidFill>
                  <a:srgbClr val="feec94"/>
                </a:solidFill>
                <a:latin typeface="Times New Roman"/>
              </a:rPr>
              <a:t>1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двока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либ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лимент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мнист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ффек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ан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елый до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енефи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иблиоте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ибл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изне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илл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ирж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лаженны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о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42920" y="213336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огем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огоявле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рахм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рокер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уржуаз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уффонад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ылин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ла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магог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бастов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апита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ществ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щно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енс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раты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3" dur="indefinite" restart="never" nodeType="tmRoot">
          <p:childTnLst>
            <p:seq>
              <p:cTn id="1124" dur="indefinite" nodeType="mainSeq">
                <p:childTnLst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28" dur="500" fill="hold"/>
                                        <p:tgtEl>
                                          <p:spTgt spid="5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32" dur="500" fill="hold"/>
                                        <p:tgtEl>
                                          <p:spTgt spid="5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36" dur="500" fill="hold"/>
                                        <p:tgtEl>
                                          <p:spTgt spid="5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40" dur="500" fill="hold"/>
                                        <p:tgtEl>
                                          <p:spTgt spid="5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44" dur="500" fill="hold"/>
                                        <p:tgtEl>
                                          <p:spTgt spid="5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о теме.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2 вариант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д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рбитраж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рес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андитизм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уддизм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юдже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альс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алют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атикан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аяние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еликий пос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ербное воскресенье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естерн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ече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ласть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одевиль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500720" y="21333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йн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ньг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т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еждународный валютный фонд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родно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арт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зумпц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дител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ыно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емь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редства массовой информаци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ро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оталитариз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тно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5" dur="indefinite" restart="never" nodeType="tmRoot">
          <p:childTnLst>
            <p:seq>
              <p:cTn id="1146" dur="indefinite" nodeType="mainSeq">
                <p:childTnLst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50" dur="500" fill="hold"/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54" dur="500" fill="hold"/>
                                        <p:tgtEl>
                                          <p:spTgt spid="5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58" dur="500" fill="hold"/>
                                        <p:tgtEl>
                                          <p:spTgt spid="5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62" dur="500" fill="hold"/>
                                        <p:tgtEl>
                                          <p:spTgt spid="5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66" dur="500" fill="hold"/>
                                        <p:tgtEl>
                                          <p:spTgt spid="5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9152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по теме.</a:t>
            </a:r>
            <a:br>
              <a:rPr sz="4400"/>
            </a:b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3 вариант.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24000" y="21333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лла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езработиц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ериг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ин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нутренний валовой продук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зрожде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лхв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ту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семирный потоп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сенощна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збирательный бюллетен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кусств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расот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реди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бильно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211640" y="206028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лодеж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нарх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узы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ХА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нято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терпевши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суд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зумпц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ыно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емейный конфлик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ату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рес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уверените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инэйджер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кономи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7" dur="indefinite" restart="never" nodeType="tmRoot">
          <p:childTnLst>
            <p:seq>
              <p:cTn id="1168" dur="indefinite" nodeType="mainSeq">
                <p:childTnLst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72" dur="500" fill="hold"/>
                                        <p:tgtEl>
                                          <p:spTgt spid="5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76" dur="5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80" dur="500" fill="hold"/>
                                        <p:tgtEl>
                                          <p:spTgt spid="5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84" dur="500" fill="hold"/>
                                        <p:tgtEl>
                                          <p:spTgt spid="5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88" dur="500" fill="hold"/>
                                        <p:tgtEl>
                                          <p:spTgt spid="5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6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по теме.</a:t>
            </a:r>
            <a:br>
              <a:rPr sz="4400"/>
            </a:b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4 вариант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вторите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кци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лтар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нтихрис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покалипси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рхиепископ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из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ладе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меняем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рач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ликатно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жихад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ружб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нвалид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иберализ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42920" y="213336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ишение свобод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род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вменяемо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ще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лан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ительств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дприят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зиден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бочий клас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циолог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ырь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ак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орговл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Форма правлен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тикет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94" dur="500" fill="hold"/>
                                        <p:tgtEl>
                                          <p:spTgt spid="5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98" dur="500" fill="hold"/>
                                        <p:tgtEl>
                                          <p:spTgt spid="5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02" dur="500" fill="hold"/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06" dur="500" fill="hold"/>
                                        <p:tgtEl>
                                          <p:spTgt spid="5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10" dur="5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8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по теме.</a:t>
            </a:r>
            <a:br>
              <a:rPr sz="4400"/>
            </a:b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5 вариант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00720" y="23270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трабанд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ры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раж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риминолог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ДП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лити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двыборная кампан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стиж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лич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изводств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исуно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дств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беркниж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Б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овар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24000" y="23270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даптац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ежливо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етхий заве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икари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ифлее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здвижень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знесе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спитанно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бор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ород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рафи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ндивидуу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нфляц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тец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андида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1" dur="indefinite" restart="never" nodeType="tmRoot">
          <p:childTnLst>
            <p:seq>
              <p:cTn id="1212" dur="indefinite" nodeType="mainSeq">
                <p:childTnLst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16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20" dur="500" fill="hold"/>
                                        <p:tgtEl>
                                          <p:spTgt spid="5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24" dur="500" fill="hold"/>
                                        <p:tgtEl>
                                          <p:spTgt spid="5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28" dur="500" fill="hold"/>
                                        <p:tgtEl>
                                          <p:spTgt spid="5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32" dur="500" fill="hold"/>
                                        <p:tgtEl>
                                          <p:spTgt spid="5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7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по теме.</a:t>
            </a:r>
            <a:br>
              <a:rPr sz="4400"/>
            </a:b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6 вариант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рхитектур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огатств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мограф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огма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Епарх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Ерес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Живопис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держа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гумен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полнительный лис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дек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ммуниз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серватиз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фесс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42920" y="213336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ьтур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г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чик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я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лам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ублик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еренду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уты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ульптур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из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енчество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говля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стетик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3" dur="indefinite" restart="never" nodeType="tmRoot">
          <p:childTnLst>
            <p:seq>
              <p:cTn id="1234" dur="indefinite" nodeType="mainSeq">
                <p:childTnLst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38" dur="500" fill="hold"/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42" dur="500" fill="hold"/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46" dur="500" fill="hold"/>
                                        <p:tgtEl>
                                          <p:spTgt spid="5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50" dur="500" fill="hold"/>
                                        <p:tgtEl>
                                          <p:spTgt spid="5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54" dur="500" fill="hold"/>
                                        <p:tgtEl>
                                          <p:spTgt spid="5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Установить соответствие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1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) Резиденция президента США в Вашингтоне -…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) Основное орудие политической власти в обществе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3) В США, Великобритании и ряде других стран законопроект, внесенный на рассмотрение парламента, а также название отдельных законов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4) Обман, преднамеренным извращением фактов, лживыми обещаниями, лестью; лицемерное подлаживание под вкусы малосознательных масс для достижения политических целей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5) Господствующий класс капиталистического общества, собственник средств производства, использующий наемный труд-…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)  Буржуаз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)  Демагог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)  Белый до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)  Вла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)  Билл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твет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5;27;28;29;3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9;21;24;26;30. 19;21;24;26;3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5;16;25;27;29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0;14;17;24;2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;10;12;23;27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6 вариант3;19;23;26;28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Установить соответствие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1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1)  Определенная  совокупность людей, имеющих общие социальные признаки, например общественный класс, профессия, место проживания и т.п.-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2)  Относительно устойчивые социальные группы людей, имеющих общие интересы, ценности и нормы поведения, складывающиеся в рамках исторически определенного общества-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3)  Совокупность исторически сложившихся форм  совместной деятельности людей-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4)  Денежное обеспечение, получаемое гражданами в старости, при потере трудоспособности, за выслугу лет и по случаю потери кормильца-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5)  Коллективное прекращение работы рабочими и служащими, предъявляющими предпринимателям или правительству экономические и политические требования-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) Страты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) Забастовка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) Общество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Г) Общность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Д) Пенсия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оставить пары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2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1)  Глава, руководитель политической партии или общественной организации-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2)  Исторически сложившийся вид устойчивой социальной группировки людей, представленный племенем, народностью, нацией-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3)  Концепции, основу которых составляют положения о физической и психической  неравноценности человеческих  рас и о решающем влиянии расовых различий на историю и культуру общества-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4)  Языковая, территориальная, экономическая и культурная общность людей, следующая за племенем и предшествующая нации-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5)  Малая группа, основанная на браке или кровном родстве, члены которой связаны общностью быта, взаимной помощью и оральной ответственностью-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) Народность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) Лидер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) Семья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Г) Этнос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Д) Расизм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оставить пары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3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)  Изменение индивидом или группой места, занимаемого в социальной структуре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)  Система взаимосвязанных реакций, осуществляемых живыми организмами для приспособления к среде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3)  Столкновение сторон, мнений, сил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4)  Состояние напряжения, возникающее у человека или животного под влиянием сильных воздействий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5)  Социально-демографическая группа, выделяемая на основе совокупности возрастных характеристик, особенностей социального положения; современные возрастные границы от 14-16 до 25-30 лет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) Поведение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) Конфликт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) Социальная мобильность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) Молодежь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) Стрес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оставить пары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4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)  Распространенная система зарубежного внешкольного воспитания, сложилась в конце 19-начале 20 веков в Великобритании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)  Наука о населении и закономерностях его развития в общественно-исторической обусловленности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3)  Род трудовой деятельности, требующий определенной подготовки и являющийся обычно источником существования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4)  Специалист, осуществляющий воспитание, образование и обучение подрастающего поколения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5)  Социально-профессиональная группа, учащиеся ВУЗов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) Профессия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) Демография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) Студенчество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) Скауты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) Учител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оставить пары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5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)  Специалист с высшим медицинским образованием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)  Один из основных классов современного общества, наемные работники, живущие продажей своей рабочей силы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)  Все население определенной страны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)  Наука об обществе как целостной системе и об отдельных социальных институтах, процессах, общественных группах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)  Лицо, частично или полностью утратившее трудоспособность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) Социология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) Инвалид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) Врач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) Народ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) Рабочий класс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оставить пары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6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)  Населенный пункт, достигший определенной людности и выполняющий преимущественно промышленные, транспортные, торговые, культурные и административно-политические функции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)  Отдельный человек; личность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3)  Кровная связь между людьми, с наличием которой закон связывает определенные       права и обязанности-…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4)  Процесс привыкания человека к определенной среде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5)  Значимость, привлекательность, приписываемая в общественном сознании различным сторонам деятельности людей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) Родство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) Индивидуум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) Адаптация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) Престиж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) Город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твет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ариант 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Г; 2)А; 3)В; 4)Д; 5)Б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ариант 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Б; 2)Г; 3)Д; 4)А; 5)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ариант 3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В; 2)А; 3)Б; 4)Д; 5)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ариант 4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Г; 2)Б; 3)А; 4)Д; 5)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ариант 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В; 2)Д; 3)Г; 4)А; 5)Б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ариант 6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Д; 2)Б; 3)А; 4)В; 5)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ловарный диктан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1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)  Определенная  совокупность людей, имеющих общие социальные признаки, например общественный класс, профессия, место проживания и т.п.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)  Относительно устойчивые социальные группы людей, имеющих общие интересы, ценности и нормы поведения, складывающиеся в рамках исторически определенного общества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)  Совокупность исторически сложившихся форм  совместной деятельности людей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)  Денежное обеспечение, получаемое гражданами в старости, при потере трудоспособности, за выслугу лет и по случаю потери кормильца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)  Коллективное прекращение работы рабочими и служащими, предъявляющими предпринимателям или правительству экономические и политические требования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ловарный диктан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2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)  Глава, руководитель политической партии или общественной организации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)  Исторически сложившийся вид устойчивой социальной группировки людей, представленный племенем, народностью, нацией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)  Концепции, основу которых составляют положения о физической и психической  неравноценности человеческих  рас и о решающем влиянии расовых различий на историю и культуру общества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)  Языковая, территориальная, экономическая и культурная общность людей, следующая за племенем и предшествующая нации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)  Малая группа, основанная на браке или кровном родстве, члены которой связаны общностью быта, взаимной помощью и моральной ответственностью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Цель работ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здание предметно-информационной среды для работы с учащимис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здание наиболее эффективных условий обуч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здание технологии нового покол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здания благоприятных условий для работы преподавател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учить работать с ключевым понятием на уроках и в жизн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Установить соответствие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2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родное собрание в древней и средневековой Руси в Х-Х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IV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в-…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руппа людей, объединенная общностью идей, интересов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пособность и возможность оказывать определяющее воздействие на деятельность, поведение людей с помощью каких-либо средств - воли, авторитета, права, насилия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дна  из форм государства, характеризующаяся его полным контролем над всеми сферами жизни общества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щественное явление, продолжение политики насильственными средствами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)  Парт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)  Веч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)  Тоталитариз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)  Вла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)  Войн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ловарный диктан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3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  Изменение индивидом или группой места, занимаемого в социальной структуре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)  Система взаимосвязанных реакций, осуществляемых живыми организмами для приспособления к среде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)  Столкновение сторон, мнений, сил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)  Состояние напряжения, возникающее у человека или животного под влиянием сильных воздействий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)  Социально-демографическая группа, выделяемая на основе совокупности возрастных характеристик, особенностей социального положения; современные возрастные границы от 14-16 до 25-30 лет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ловарный диктан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4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  Распространенная система зарубежного внешкольного воспитания, сложилась в конце 19-начале 20 веков в Великобритании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)  Наука о населении и закономерностях его развития в общественно-исторической обусловленности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)  Род трудовой деятельности, требующий определенной подготовки и являющийся обычно источником существования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)  Специалист, осуществляющий воспитание, образование и обучение подрастающего поколения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)  Социально-профессиональная группа, учащиеся ВУЗов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ловарный диктан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5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)  Специалист с высшим медицинским образованием-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)  Один из основных классов современного общества, наемные работники, живущие продажей своей рабочей силы-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)  Все население определенной страны-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)  Наука об обществе как целостной системе и об отдельных социальных институтах, процессах, общественных группах-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)  Лицо, частично или полностью утратившее трудоспособность-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ловарный диктан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6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  Населенный пункт, достигший определенной людности и выполняющий преимущественно промышленные, транспортные, торговые, культурные и административно-политические функции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)  Отдельный человек; личность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)  Кровная связь между людьми, с наличием которой закон связывает определенные       права и обязанности-…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)  Процесс привыкания человека к определенной среде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)  Значимость, привлекательность, приписываемая в общественном сознании различным сторонам деятельности людей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твет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вариан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бщность. 2) Страты. 3) Общество. 4) Пенсия. 5) Забастовк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 вариант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) Лидер. 2) Этнос. 3) Расизм. 4) Народность. 5) Семь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 вариан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) Социальная мобильность. 2) Поведение. 3) Конфликт. 4) Стресс. 5) Молодежь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 вариан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) Скауты. 2) Демография. 3) Профессия. 4) Учитель. 5) Студенчество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 вариан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) Врач. 2) Рабочий класс. 3) Народ. 4) Социология. 5) Инвалид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6 вариан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) Город. 2) Индивидуум. 3) Родство. 4) Адаптация. 5) Престиж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ставить слова в текс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Записать парами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1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5092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едико-социальная ______, имеющая профилактическую направленность, - это предупреждение социально-зависимых нарушений соматического, психического и репродуктивного здоровья; формирование установок на _____ _____ _____; обеспечение _______ к информации по вопросам здоровья; участие в разработке целевых _____ медико-социальной помощи на различных уровнях; социальное _______; обеспечение социальной защиты прав граждан в вопросах охраны здоровья и др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1.Администрировани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2.Доступ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3.Здоровый образ жизн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4.Программ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5.Работ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ставить слова в текс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Записать парами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2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еальная ______ в Российской Федерации характеризуется ухудшением социально-экономического и политического ______ многих социальных групп, в том числе и женщин. Провозглашение ______ мужчин и женщин в международных федеральных правовых _________ все более расходится с действительностью. В условиях возрастающей социальной _________ делаются попытки решения болезненных социальных проблем за счет менее защищенных групп- детей и женщин. В РФ существует двойной стандарт отношения к женщин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1.Докумен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2.Напряженность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3.Положени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4.Равенство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5.Ситуац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ставить слова в текс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Записать парами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3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профотборе профессиональная _______ может оцениваться по нескольким критериям: по медицинским _______, в том числе по показателям физической пригодности; по данным образовательного _____ или конкурентным экзаменам; с помощью психологического ______; с учетом достигнутого уровня профессиональной _____ и т.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1.Адаптац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2.Обследовани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3.Показател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4.Пригоднос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5.Ценз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ставить слова в текс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Записать парами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4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циальный ______ должен знать теоретические и методологические основы социального _______, специфику организации социальной работы с различными ______ населения, ее историю, отечественные традиции и мировой опыт организации социальной ______ населения. Кроме теоретических знаний, социальная работа требует и глубокой технологической подготовки. Выражающейся в наличии навыков в области социально-психологического и ситуационного _____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1. Анализ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2.Защит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3.Категор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4.Работник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5.Управлени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ставить слова в текс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Записать парами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5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реди _______ людей и молодежи есть ____, наркоманы и элементы преступного мира. Социальные ______, наряду с правоохранительными органами, ведут профилактическую работу, применяют адаптивные ______ по возвращению их к нормальной ______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1.Взрослы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2.Жизн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3.Пьяниц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4.Работни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5.Технолог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Установить соответствие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3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нение, выраженное голосованием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окумент, выдаваемый избирателю при проведении выборов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авовое положение государства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зависимость государства во внешних и верховенство во внутренних делах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осударство, главой которого является монарх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)  Избирательный бюллетень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)  Статус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)  Суверените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)  Монарх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)  Воту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ставить слова в текс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Записать парами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6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сновные виды девиантного поведения- _____ и уголовно-наказуемые _____ аморального поведения, которые тоже представляют определенную общественную ______. Связь преступности и аморального поведения состоит в том, что совершению преступления предшествует, как правило, какая-то _______ девиантного поведения в форме пьянства, наркомании, ______ в сфере сексуальных отношений и пр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1.Опасность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2.Преступность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3.Разновидность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4.Распущенность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5.Случа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твет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-5;2-3;3-2;4-4;5-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-4;2-5;3-2;4-3;5-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-5;2-4;3-2;4-1;5-3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-5;2-4;3-3;4-1;5-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-1;2-5;3-2;4-3;5-4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6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-3;2-1;3-4;4-5;5-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писок литературы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Боголюбов Л.Н., Лазебникова А.Ю., «Человек и общество», учебное пособие по обществознанию для учащихся 10-11 классов, Москва, «Просвещение», 2001г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ишенкова О.В., «Обществознание», руководство для подготовки к экзаменам, АСТ Астрель, Москва, 2004г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равченко А.И. «Обществознание», Москва, «Русское слово»,  2003 г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урбатов В.И., «Социальная работа», для студентов ВУЗов, Ростов-на Дону, «Феникс», 2005г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икитин А.Ф. « 200 вопросов и ответов по основам государства и права», АСТ Астрель, Москва, 2002 г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лнер Е.Д. «Обществознание», СПб, 2001 г, Ленинградский институт развития образования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ахаров А.Н., Буганов В.И., «История России», учебник для 10 кл., Москва, «Просвещение», 2003г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оветский энциклопедический словарь, Москва, «Советская энциклопедия», 1982г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Хачатурян В.М., «История мировых цивилизаций», учебник 10-11 кл., Москва, «Дрофа», 1996г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Шкатулла В.И., Надвикова В.В., Сытинская М.В. «Основы правовых знаний», учебное пособие, Москва,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CADEMA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, 1999г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Яковлев А.И. « Основы правоведения», Москва,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CADEMA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, 2004 г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Установить соответствие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4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) Принцип структуры государственной власти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) В большинстве современных государств, с республиканской формой правления выборный глава государства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3) Высший орган исполнительной власти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4) Политическое течение, объединяющее сторонников парламентского строя, свобод личности и предпринимательства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5) Общепризнанное влияние лица или организации в различных сферах общественной жизни, основанное на знаниях, нравственных достоинствах, опыте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)  Президен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)  Либерализ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)  Авторите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)  Правительств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)  Форма правлен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Установить   соответствие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5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1)  Сфера деятельности, связанная с отношениями между классами, нациями и другими социальными группами, ядром которой является проблема завоевания, удержания и использования государственной власти-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2)  Специфическая человеческая форма отношения к окружающему миру, содержание которой составляет его целесообразное изменение и преобразование в интересах людей-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3)  ЛДПР-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4)  Система мероприятий для выполнения какой-либо первоочередной общественно-политической задачи-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5)  Лицо, выдвигаемое для избрания депутатом в законодательное учреждение, для замещения  какой-либо должности или для приема в какую-либо организацию-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)  Предвыборная кампания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)  Либерально-демократическая партия Росси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)  Политик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Г)  Кандида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Д)  Деятельность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Установить соответствие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6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)  Всенародное голосование, проводимое в связи с принятием новой конституции, других важных законов или внесением в них изменений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)  Один из видов народного голосования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3)  По мнению теоретиков коммунизма это первая или низшая фаза коммунизма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4)  Приверженность к старому, отжившему и вражда к новому передовому-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Форма правления, при которой высшая государственная принадлежит выборному представительному органу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)  Консерватиз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)  Референду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)  Республи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)  Плебисци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)  Социализ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твет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ариант 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В);  2)Г);  3)Д);  4)Б);  5)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ариант 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Б);  2)А);  3)Г);  4)В);  5)Д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ариант 3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Д);  2)А);  3)Б);  4)В);  5)Г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ариант 4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Д);  2)А);  3)Г);  4)Б);  5)В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ариант 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В);  2)Д);  3)Б);  4)А);  5)Г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ариант 6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Б);  2)Г);  3)Д);  4)А);  5)В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ловарный диктан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1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 Резиденция президента США в Вашингтоне -…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) Основное орудие политической власти в обществе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) В США, Великобритании и ряде других стран законопроект, внесенный на рассмотрение парламента, а также название отдельных законов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) Обман, преднамеренным извращением фактов, лживыми обещаниями, лестью; лицемерное подлаживание под вкусы малосознательных масс для достижения политических целей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) Господствующий класс капиталистического общества, собственник средств производства, использующий наемный труд-…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ловарный диктан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2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родное собрание в древней и средневековой Руси в Х-Х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IV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в-…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руппа людей, объединенная общностью идей, интересов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пособность и возможность оказывать определяющее воздействие на деятельность, поведение людей с помощью каких-либо средств - воли, авторитета, права, насилия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дна  из форм государства, характеризующаяся его полным контролем над всеми сферами жизни общества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щественное явление, продолжение политики насильственными средствами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ловарный диктан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3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) Мнение, выраженное голосованием-…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) Документ, выдаваемый избирателю при проведении выборов-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) Правовое положение государства-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4) Независимость государства во внешних и верховенство во внутренних делах-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5) Государство, главой которого является монарх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ловарный диктан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4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 Принцип структуры государственной власти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) В большинстве современных государств, с республиканской формой правления выборный глава государства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) Высший орган исполнительной власти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) Политическое течение, объединяющее сторонников парламентского строя, свобод личности и предпринимательства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) Общепризнанное влияние лица или организации в различных сферах общественной жизни, основанное на знаниях, нравственных достоинствах, опыте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писание технологи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 этап- этап- предлагается из определенного количества понятий выбрать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понятий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 тем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 этап- предлагается составить пары из самого понятия и его определени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 этап- словарный дикт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 этап- применить понятия в текст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 этап- творчески применить понятие как ключево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ловарный диктан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5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)  Сфера деятельности, связанная с отношениями между классами, нациями и другими социальными группами, ядром которой является проблема завоевания, удержания и использования государственной власти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)  Специфическая человеческая форма отношения к окружающему миру, содержание которой составляет его целесообразное изменение и преобразование в интересах людей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)  ЛДПР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)  Система мероприятий для выполнения какой-либо первоочередной общественно-политической задачи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)  Лицо, выдвигаемое для избрания депутатом в законодательное учреждение, для замещения  какой-либо должности или для приема в какую-либо организацию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ловарный диктан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6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)  Всенародное голосование, проводимое в связи с принятием новой конституции, других важных законов или внесением в них изменений-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)  Один из видов народного голосования-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)  По мнению теоретиков коммунизма это первая или низшая фаза коммунизма-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)  Приверженность к старому, отжившему и вражда к новому передовому-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)  Форма правления, при которой высшая государственная принадлежит выборному представительному органу-…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твет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 вариант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) Белый дом. 2) Государство. 3) Билль. 4) Демагогия. 5) Буржуазия.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 вариант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) Вече. 2) Партия. 3) Власть. 4) Тоталитаризм. 5) Войн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 вариант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) Вотум. 2) Избирательный бюллетень. 3) Статус. 4) Суверенитет. 5) Монархия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4 вариант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Форма правления.2) Президент.3) Правительство.4) Либерализм. 5) Авторитет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5 вариант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)  Политика. 2)  Деятельность. 3)  Либерально-демократическая Партия России.                 4)  Кампания. 5)  Кандидат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6 вариант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)  Референдум. 2)  Плебисцит. 3)  Социализм. 4)  Консерватизм. 5)  Республик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ставить слова в текст Записать парами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1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осударственная _______ имеет в своем распоряжении профессиональный  ______ управления, а также специальные вооруженные отряды людей -  ______, полицию и т.п., и поэтому ____________ выступает как сила, способная осуществлять принуждение в отношении любого члена _______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Аппара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Арм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Влас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.Государство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.Общество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ставить слова в текст Записать парами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2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оссийская _________ провозглашается демократическим федеративным правовым __________ с республиканской формой правления. При этом главой государства, как и высшим должностным лицом, является, как и в ряде других демократических стран, ______, наделенный большими полномочиями. Он определяет основные направления внешней и внутренней _______ государства; решает вопросы ________ и т.д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Государство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.Гражданство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.Политик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.Президен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.Федерац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ставить слова в текст Записать парами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3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рамотная оценка предвыборной _______ - важное, но не единственное условие безошибочного выбора ______ в политические деятели. ________ всегда интересно знать, кому он вручает _____ доверия, что это за человек, каковы его _______ и даже личная жизн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Биограф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Избирател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Кандида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.Манда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.Программ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ставить слова в текст Записать парами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4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редко к политической деятельности рвется _____, не умеющий наладить отношения с близкими людьми, не способный найти свое место в _______. Для подобных людей политическая _______ может стать средством компенсации личных или творческих неудач. Но именно такие люди становятся карьеристами, которые в погоне за _____, личным успехом плетут интриги, совершают другие неблаговидные действия, в отличие от честных и порядочных людей, делающих карьеру благодаря своей компетентности и высокому ________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Деятельность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.Карьер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.Коллекти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.Профессионализ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.Человек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ставить слова в текст Записать парами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5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егодня многие крупные политические деятели и ученые- политики предлагают новый ______ к решению внутригосударственных и международных проблем, основывающийся на поисках _______  (лат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sensus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согласие, единодушие)- общего согласия, политических _______, взаимного стремления к положительному _______. Основу консенсуса составляет признание чужих интересов как ________ для осуществления собственных интересов. В этом заключается его гуманиз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Гарант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.Компромисс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.Консенсус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.Подход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.Результа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ставить слова в текст Записать парами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6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днако полное равнодушие к политическим ________ встречается не часто, видимо, потому что от ________  во многом зависит развитие _______ и, значит, жизнь каждого человека, а порой и его судьба. Кроме того, по мнению психологов, участие в политике удовлетворяет естественную ________ человека в общении особом- с большими социальными группами людей и на более высоком уровне. Такое общение дает мощный ______ развитию личност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Импульс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.Общество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.Политик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.Потребность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.Проблема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твет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-2;2-3;3-1;4-4;5-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-2;2-5;3-4;4-3;5-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-5;2-3;3-2;4-4;5-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-3;2-4;3-2;4-5;5-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-5;2-3;3-2;4-1;5-4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6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-5;2-3;3-2;4-4;5-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ервый этап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едлагается вспомнить понят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1476360" y="2637000"/>
            <a:ext cx="2303640" cy="3456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писо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няти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Line 5"/>
          <p:cNvSpPr/>
          <p:nvPr/>
        </p:nvSpPr>
        <p:spPr>
          <a:xfrm>
            <a:off x="3851280" y="4365720"/>
            <a:ext cx="2449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Oval 6"/>
          <p:cNvSpPr/>
          <p:nvPr/>
        </p:nvSpPr>
        <p:spPr>
          <a:xfrm>
            <a:off x="6300720" y="2997360"/>
            <a:ext cx="2232000" cy="25923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бранные понят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второй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ровен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по теме.</a:t>
            </a:r>
            <a:br>
              <a:rPr sz="2800"/>
            </a:br>
            <a:r>
              <a:rPr b="1" i="1" lang="ru-RU" sz="2800" spc="-1" strike="noStrike">
                <a:solidFill>
                  <a:srgbClr val="feec94"/>
                </a:solidFill>
                <a:latin typeface="Times New Roman"/>
              </a:rPr>
              <a:t>1 вариант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ван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ристотел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алан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иллин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ражданское прав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екларац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конодательств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ндивидуальнос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толициз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ин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ммуниз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нституц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Легитимнос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Лизин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Личнос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48320" y="1773360"/>
            <a:ext cx="40384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бязаннос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арламен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лато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ав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авослав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тестантиз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ект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кра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циализац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про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ратификац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рат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еатр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Федеральное собра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Церков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38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2" dur="500" fill="hold"/>
                                        <p:tgtEl>
                                          <p:spTgt spid="2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6" dur="500" fill="hold"/>
                                        <p:tgtEl>
                                          <p:spTgt spid="2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0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4" dur="500" fill="hold"/>
                                        <p:tgtEl>
                                          <p:spTgt spid="2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по теме.</a:t>
            </a:r>
            <a:br>
              <a:rPr sz="3200"/>
            </a:br>
            <a:r>
              <a:rPr b="1" i="1" lang="ru-RU" sz="3200" spc="-1" strike="noStrike">
                <a:solidFill>
                  <a:srgbClr val="feec94"/>
                </a:solidFill>
                <a:latin typeface="Times New Roman"/>
              </a:rPr>
              <a:t>2 вариант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кц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дминистративное прав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сти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вартирная краж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нкуренц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нсерватор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итин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итрополи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роднос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ц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атриар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икетирова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лем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зна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п-культур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пулиз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авонаруше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едложе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изводител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а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емейное прав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емь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вет Федерац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уннит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упру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рудовое прав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Шиит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Элит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Эмисс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Эмпирик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60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64" dur="5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68" dur="500" fill="hold"/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2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6" dur="5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по теме.</a:t>
            </a:r>
            <a:br>
              <a:rPr sz="3200"/>
            </a:br>
            <a:r>
              <a:rPr b="1" i="1" lang="ru-RU" sz="3200" spc="-1" strike="noStrike">
                <a:solidFill>
                  <a:srgbClr val="feec94"/>
                </a:solidFill>
                <a:latin typeface="Times New Roman"/>
              </a:rPr>
              <a:t>3 вариант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40384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нтимонопольное законодатель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арте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ладелец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ивиденд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на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арм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вартирная краж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итрополи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ногопартийн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рал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у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ирва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разова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ппозиц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48320" y="1773360"/>
            <a:ext cx="40384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тец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атриар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Д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люрализ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литолог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требител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фесс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спредел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амореализац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амосохран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а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циальное неравен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ворче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ира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П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2" dur="500" fill="hold"/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6" dur="500" fill="hold"/>
                                        <p:tgtEl>
                                          <p:spTgt spid="2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90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94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98" dur="500" fill="hold"/>
                                        <p:tgtEl>
                                          <p:spTgt spid="23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по теме.</a:t>
            </a:r>
            <a:br>
              <a:rPr sz="3200"/>
            </a:br>
            <a:r>
              <a:rPr b="1" i="1" lang="ru-RU" sz="3200" spc="-1" strike="noStrike">
                <a:solidFill>
                  <a:srgbClr val="feec94"/>
                </a:solidFill>
                <a:latin typeface="Times New Roman"/>
              </a:rPr>
              <a:t>4 вариант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4759200" cy="45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сеобщая Декларация прав челове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мократ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нежная масс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ключенны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муже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деолог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тор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ласс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свенный нало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ультуроло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юмпен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аргинал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ировоззр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ормативный ак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Т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48320" y="1988640"/>
            <a:ext cx="403848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виняемы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антеиз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движник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литеиз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грессивный нало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порциональный нало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фсоюз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зделение власте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вяты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циал-демократ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ррориз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нитарное государ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Ценност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Частная собственн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Юродивы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04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08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12" dur="500" fill="hold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16" dur="500" fill="hold"/>
                                        <p:tgtEl>
                                          <p:spTgt spid="2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20" dur="500" fill="hold"/>
                                        <p:tgtEl>
                                          <p:spTgt spid="2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по теме.</a:t>
            </a:r>
            <a:br>
              <a:rPr sz="3200"/>
            </a:br>
            <a:r>
              <a:rPr b="1" i="1" lang="ru-RU" sz="3200" spc="-1" strike="noStrike">
                <a:solidFill>
                  <a:srgbClr val="feec94"/>
                </a:solidFill>
                <a:latin typeface="Times New Roman"/>
              </a:rPr>
              <a:t>5 вариант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втоном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льтернативные выбор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теиз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лобализац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ре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пута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фляц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хват заложник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мпичмен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ндуиз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тор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удаиз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уль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итератур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юмпены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нотеиз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ТП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виняемы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грабл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ерепроизвод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отнош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циальная дифференциац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циальная несправедлив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удопроизвод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хнолог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ру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каз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Характе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Ценообразова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рудиц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26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30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34" dur="5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38" dur="5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42" dur="500" fill="hold"/>
                                        <p:tgtEl>
                                          <p:spTgt spid="2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по теме.</a:t>
            </a:r>
            <a:br>
              <a:rPr sz="3200"/>
            </a:br>
            <a:r>
              <a:rPr b="1" i="1" lang="ru-RU" sz="3200" spc="-1" strike="noStrike">
                <a:solidFill>
                  <a:srgbClr val="feec94"/>
                </a:solidFill>
                <a:latin typeface="Times New Roman"/>
              </a:rPr>
              <a:t>6 вариант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ибл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рачный контрак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виантное повед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ерусали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ра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ажоритарная избирательная систем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ек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исти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дер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нопол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оватор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щественное движ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дпринимател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был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ватизаци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гово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порциональная избирательная систем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нт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тр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анкц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видетел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ло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друже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циальная рол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юз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роитель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убкультур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мперамен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Целеполага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лектора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48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52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56" dur="500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60" dur="500" fill="hold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64" dur="500" fill="hold"/>
                                        <p:tgtEl>
                                          <p:spTgt spid="2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Второй раздел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ем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Экономика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по теме</a:t>
            </a:r>
            <a:br>
              <a:rPr sz="4000"/>
            </a:br>
            <a:r>
              <a:rPr b="1" i="1" lang="ru-RU" sz="4000" spc="-1" strike="noStrike">
                <a:solidFill>
                  <a:srgbClr val="feec94"/>
                </a:solidFill>
                <a:latin typeface="Times New Roman"/>
              </a:rPr>
              <a:t>1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двока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либ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лимент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мнист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ффек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ан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елый до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енефи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иблиоте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ибл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изне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илл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ирж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лаженны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о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42920" y="213336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огем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огоявле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рахм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рокер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уржуаз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уффонад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ылин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ла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магог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бастов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апита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ществ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щно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енс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раты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70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74" dur="500" fill="hold"/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78" dur="500" fill="hold"/>
                                        <p:tgtEl>
                                          <p:spTgt spid="2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82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86" dur="500" fill="hold"/>
                                        <p:tgtEl>
                                          <p:spTgt spid="2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о теме.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2 вариант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д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рбитраж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рес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андитизм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уддизм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юдже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альс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алют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атикан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аяние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еликий пос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ербное воскресенье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естерн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ече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ласть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одевиль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00720" y="21333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йн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ньг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т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еждународный валютный фонд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родно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арт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зумпц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дител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ыно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емь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редства массовой информаци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ро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оталитариз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тно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92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96" dur="500" fill="hold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00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04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08" dur="500" fill="hold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Третий этап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ловарный диктан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Oval 10"/>
          <p:cNvSpPr/>
          <p:nvPr/>
        </p:nvSpPr>
        <p:spPr>
          <a:xfrm>
            <a:off x="1116000" y="3429000"/>
            <a:ext cx="2303640" cy="2521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предел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нят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6443640" y="3789360"/>
            <a:ext cx="1728720" cy="1944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зва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нят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Line 13"/>
          <p:cNvSpPr/>
          <p:nvPr/>
        </p:nvSpPr>
        <p:spPr>
          <a:xfrm>
            <a:off x="3419640" y="4724280"/>
            <a:ext cx="30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9152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по теме.</a:t>
            </a:r>
            <a:br>
              <a:rPr sz="4400"/>
            </a:b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3 вариант.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24000" y="21333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лла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езработиц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ериг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ин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нутренний валовой продук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зрожде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лхв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ту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семирный потоп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сенощна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збирательный бюллетен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кусств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расот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реди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бильно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211640" y="206028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лодеж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нарх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узы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ХА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нято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терпевши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суд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зумпц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ыно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емейный конфлик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ату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рес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уверените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инэйджер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кономи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14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18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22" dur="500" fill="hold"/>
                                        <p:tgtEl>
                                          <p:spTgt spid="2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26" dur="500" fill="hold"/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30" dur="500" fill="hold"/>
                                        <p:tgtEl>
                                          <p:spTgt spid="2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6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по теме.</a:t>
            </a:r>
            <a:br>
              <a:rPr sz="4400"/>
            </a:b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4 вариант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вторите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кци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лтар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нтихрис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покалипси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рхиепископ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из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ладе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меняем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рач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ликатно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жихад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ружб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нвалид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иберализ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42920" y="213336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ишение свобод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род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вменяемо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ще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лан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ительств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дприят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зиден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бочий клас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циолог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ырь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ак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орговл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Форма правлен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тикет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36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40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44" dur="5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48" dur="500" fill="hold"/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2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8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по теме.</a:t>
            </a:r>
            <a:br>
              <a:rPr sz="4400"/>
            </a:b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5 вариант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00720" y="23270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трабанд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ры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раж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риминолог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ДП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лити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двыборная кампан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стиж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лич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изводств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исуно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дств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беркниж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Б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овар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4000" y="23270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даптац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ежливо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етхий заве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икари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ифлее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здвижень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знесе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спитанно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бор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ород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рафи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ндивидуу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нфляц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тец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андида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58" dur="500" fill="hold"/>
                                        <p:tgtEl>
                                          <p:spTgt spid="2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62" dur="500" fill="hold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66" dur="500" fill="hold"/>
                                        <p:tgtEl>
                                          <p:spTgt spid="2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70" dur="500" fill="hold"/>
                                        <p:tgtEl>
                                          <p:spTgt spid="2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74" dur="500" fill="hold"/>
                                        <p:tgtEl>
                                          <p:spTgt spid="2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7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по теме.</a:t>
            </a:r>
            <a:br>
              <a:rPr sz="4400"/>
            </a:b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6 вариант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рхитектур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огатств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мограф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огма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Епарх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Ерес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Живопис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держа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гумен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полнительный лис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дек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ммуниз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серватиз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фесс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42920" y="213336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ьтур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г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чик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я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лам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ублик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еренду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уты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ульптур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из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енчество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говля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стетик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80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84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88" dur="5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92" dur="500" fill="hold"/>
                                        <p:tgtEl>
                                          <p:spTgt spid="2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96" dur="500" fill="hold"/>
                                        <p:tgtEl>
                                          <p:spTgt spid="2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твет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6;11;13;19;26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6;8;18;20;2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;5;14;24;3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;20;22;26;28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3;25;28;29;3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6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;17;20;27;29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Установить соответствие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1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1)  Главное имущество, приносящее доход-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2)  Форма регулярно функционирующего оптового рынка массовых заменимых товаров, продающимся по стандартам или образцам-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3)  Предпринимательская деятельность; дело, занятие, являющееся источником доход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4)  Обеспеченность населения необходимыми материальными и духовными благами, т.е. предметами, услугами и условиями, удовлетворяющими определенные человеческие потребности-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Times New Roman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Лица или фирмы, специализирующиеся на посреднических биржевых операциях, получающие за свою деятельность процент от суммы сделки -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)  Бирж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)  Капитал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)  Брокер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Г)  Бизнес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Д)  Благосостояние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оставить пары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2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)  Роспись государственных доходов и расходов на определенный срок, утвержденная в законодательном порядке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)  Денежная единица страны и ее тип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)  МВФ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)  Учреждения, аккумулирующие денежные средства и накопления, предоставляющие кредит, осуществляющие денежные расчеты и т. д.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собый товар, выполняющий роль всеобщего эквивалента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)  Международный валютный фонд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)  Банк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)  Валют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)  Бюдже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)  Деньг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оставить пары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3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)  ВВП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)  Предоставление денег или товаров в долг с уплатой процента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)  Явление, когда часть экономически активного населения не может применить свою рабочую силу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)  Искусство ведения домашнего хозяйства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фера товарного обмена, а также место, где происходит торговля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)  Экономик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)  Креди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)  Рынок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)  Внутренний валовой продук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)  Безработиц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оставить пары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4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)  Заранее намеченный порядок, последовательность осуществления какой-либо программы, выполнения работы, проведения мероприятий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)  Предметы труда, подвергшиеся ранее воздействию труда и подлежащие дальнейшей обработке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3)  Целесообразная деятельность человека, направленная на видоизменение и приспособление предметов природы для удовлетворения своих потребностей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4)  Соглашение двух или более лиц по поводу купли-продажи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сещение мест торговли с целью приобретения товаров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)  Сырь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)  Шоппин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)  Договор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)  План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)  Труд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оставить пары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5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)  Продукт труда, произведенный для продажи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)  Процесс создания материальных благ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)  Документ, подтверждающий наличие у владельца счета в данном банковском учреждении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)   Переполнение сферы обращения бумажными деньгами, вследствие чрезмерного выпуска их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)  СБР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)  Сберегательный банк Росси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)  Карточк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)  Инфляц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)  Производство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)  Товар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торой этап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становить соответств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(определение)-1(название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                           -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                          -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                           -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                           -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тветы:А4;Б3;В1;Г5;Д2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Line 10"/>
          <p:cNvSpPr/>
          <p:nvPr/>
        </p:nvSpPr>
        <p:spPr>
          <a:xfrm>
            <a:off x="1187280" y="2565360"/>
            <a:ext cx="2664000" cy="165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Line 12"/>
          <p:cNvSpPr/>
          <p:nvPr/>
        </p:nvSpPr>
        <p:spPr>
          <a:xfrm flipV="1">
            <a:off x="1332000" y="3068280"/>
            <a:ext cx="2519280" cy="18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Line 13"/>
          <p:cNvSpPr/>
          <p:nvPr/>
        </p:nvSpPr>
        <p:spPr>
          <a:xfrm>
            <a:off x="1187280" y="4221000"/>
            <a:ext cx="273708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Line 15"/>
          <p:cNvSpPr/>
          <p:nvPr/>
        </p:nvSpPr>
        <p:spPr>
          <a:xfrm flipV="1">
            <a:off x="1332000" y="2707920"/>
            <a:ext cx="2519280" cy="86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Line 16"/>
          <p:cNvSpPr/>
          <p:nvPr/>
        </p:nvSpPr>
        <p:spPr>
          <a:xfrm>
            <a:off x="1187280" y="3068640"/>
            <a:ext cx="266400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оставить пары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6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)  Денежное выражение стоимости товара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)  Отрасль, которая реализует товары путем купли-продажи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)  Все, чем владеет человек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)  Информация о потребительских  свойствах товаров и видах услуг с целью создания спроса на них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)  Обязательные платежи, взимаемые государством с физических и юридических лиц-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)  Богатство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)  Реклам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)  Налог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)  Цен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)  Торговл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твет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ариант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; 2)А; 3)Г; 4)Д; 5)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ариант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; 2)В; 3)А; 4)Б; 5)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ариант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; 2)Б; 3)Д; 4)А; 5)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ариант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; 2)А; 3)Д); 4)В; 5)Б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ариант 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; 2)Г; 3)Б; 4)В; 5)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ариант 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Г; 2)Д; 3)А; 4)Б; 5)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ловарный диктан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1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  Главное имущество, приносящее доход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)  Форма регулярно функционирующего оптового рынка массовых заменимых товаров, продающимся по стандартам или образцам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)  Предпринимательская деятельность; дело, занятие, являющееся источником доход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)  Обеспеченность населения необходимыми материальными и духовными благами, т.е. предметами, услугами и условиями, удовлетворяющими определенные человеческие потребности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)  Лица или фирмы, специализирующиеся на посреднических биржевых операциях, получающие за свою деятельность процент от суммы сделки 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ловарный диктан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2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)  Роспись государственных доходов и расходов на определенный срок, утвержденная в законодательном порядке-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)  Денежная единица страны и ее тип-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)  МВФ-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)  Учреждения, аккумулирующие денежные средства и накопления, предоставляющие кредит, осуществляющие денежные расчеты и т. д.-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)  Особый товар, выполняющий роль всеобщего эквивалента-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ловарный диктан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3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)  ВВП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)  Предоставление денег или товаров в долг с уплатой процента-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)  Явление, когда часть экономически активного населения не может применить свою рабочую силу-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)  Искусство ведения домашнего хозяйства-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)  Сфера товарного обмена, а также место, где происходит торговля-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ловарный диктан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4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  Заранее намеченный порядок, последовательность осуществления какой-либо программы, выполнения работы, проведения мероприятий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)  Предметы труда, подвергшиеся ранее воздействию труда и подлежащие дальнейшей обработке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)  Целесообразная деятельность человека, направленная на видоизменение и приспособление предметов природы для удовлетворения своих потребностей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)  Соглашение двух или более лиц по поводу купли-продажи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)  Посещение мест торговли с целью приобретения товаров-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ловарный диктан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5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)  Продукт труда, произведенный для продажи-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)  Процесс создания материальных благ-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)  Документ, подтверждающий наличие у владельца счета в данном банковском учреждении-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)   Переполнение сферы обращения бумажными деньгами, вследствие чрезмерного выпуска их-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)  СБР-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ловарный диктан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6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)  Денежное выражение стоимости товара-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)  Отрасль, которая реализует товары путем купли-продажи-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)  Все, чем владеет человек-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)  Информация о потребительских  свойствах товаров и видах услуг с целью создания спроса на них-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)  Обязательные платежи, взимаемые государством с физических и юридических лиц-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твет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 вариан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) Капитал. 2) Биржа. 3) Бизнес. 4) Благосостояние. 5) Брокер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 вариан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) Бюджет. 2) Валюта. 3) Международный валютный фонд. 4) Банк. 5) Деньг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 вариан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) Внутренний валовой продукт. 2) Кредит. 3) Безработица. 4) Экономика. 5) Рынок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 вариан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) План. 2) Сырье. 3) Труд. 4) Договор. 5) Шоппин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 вариан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) Товар. 2) Производство. 3) Карточка. 4) Инфляция. 5) Сберегательный банк Росси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6 вариан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) Цена. 2) Торговля. 3) Богатство. 4) Реклама. 5) Налог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ставить слова в текс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Записать парами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1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ндивидуальная  частная ______ представлена в _______ не только западных, но и восточноевропейских стран, ________ и многих других стран. В современном мире частная собственность играет большую роль: она стимулирует инициативу и ______, ответственное отношение к ______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1.Кита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2.Предприимчивос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3.Собственнос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4.Тру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5.Экономи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Четвертый этап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менить понятия в тексте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чащимся предлагается отрывок текста по теме, где пропущено определенное количество понятий. Внизу под текстом они даны в алфавитном порядке. Нужно проставить цифры, каким по счету включено поняти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истема оценок прежня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ставить слова в текст Записать парами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2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я огромной массы наемных ________, имеющих _______, получаемые ими _______ являются скромным дополнением к трудовым ________, стимулируют их труд, заинтересованность в результатах деятельности корпорации. Основной доход рабочие получают в _______ заработной плат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1.Акц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2.Дивидент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3.Дохо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4.Работни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5.Форм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ставить слова в текст Записать парами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3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частных ________, основанных на личном труде, доходы зависят от ______  их ведения. Поскольку ______ производятся на ______, то результаты деятельности любого предприятия находятся в прямой зависимости от складывающихся на рынке ___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1.Продаж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2.Продукт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3.Хозяйство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4.Эффективнос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5.Цен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ставить слова в текст Записать парами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4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ногда ______ называют определенное место (базар, ярмарка), где происходит _____. Однако мы употребляем понятие «рынок», подразумевая сферу обмена товара на ____ и денег на товары, взаимодействия _____ и потребителей в масштабе региона, страны или всего мира. В рыночной экономике вопросы, что, для кого и как производитель решает самостоятельно, ориентируясь на соотношение ______ и предложен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1.Деньг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2.Производитель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3.Рынок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4.Спрос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5.Торговл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ставить слова в текст Записать парами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5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Экономическая жизнь включает в себя элементы и конкуренции, и _____. Возникновение союзов _______, не устраняет ______: она происходит между монополистическими союзами и немонополизированными предприятиями. Однако монополия порождает высокие цены, несоответствие спроса и ________. Вот почему, например, в США уже в конце Х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Х в. Появились антитрестовские законы, которые государство использовало для улучшения рыночной _____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1.Капиталист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2.Конкуренц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3.Монопол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4.Предложени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5.Систем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ставить слова в текст Записать парами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6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ст в конце 80-х гг. доходов населения, с одной стороны, и отсутствие товаров с другой, привели к росту и уменьшению покупательской способности _____, к дальнейшему обесцениванию денег ( ______ ). В области ______ появился огромный ______ бюджета: расходы государства намного превысили его доходы. Для покрытия _____ государство прибегло к выпуску бумажных дене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1.Дефици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2.Инфляц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3.Расход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4.Рубл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5.Финанс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твет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-3;2-4;3-1;4-5;5-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-2;2-3;3-4;4-1;5-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-4;2-3;3-1;4-2;5-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-3;2-4;3-1;4-5;5-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-2;2-3;3-1;4-4;5-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6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-4;2-2;3-5;4-1;5-3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второй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ровен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по теме.</a:t>
            </a:r>
            <a:br>
              <a:rPr sz="2800"/>
            </a:br>
            <a:r>
              <a:rPr b="1" i="1" lang="ru-RU" sz="2800" spc="-1" strike="noStrike">
                <a:solidFill>
                  <a:srgbClr val="feec94"/>
                </a:solidFill>
                <a:latin typeface="Times New Roman"/>
              </a:rPr>
              <a:t>1 вариант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ван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ристотел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алан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иллин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ражданское пра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кларац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конодатель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ндивидуальн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атолициз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ин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ммуниз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ституц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егитимн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изин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ичн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язанн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арламен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лато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слав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тестантиз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ект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кра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циализац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про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ратификац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рат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ат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Федеральное собра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Церков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02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06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10" dur="5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14" dur="500" fill="hold"/>
                                        <p:tgtEl>
                                          <p:spTgt spid="3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18" dur="500" fill="hold"/>
                                        <p:tgtEl>
                                          <p:spTgt spid="3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по теме.</a:t>
            </a:r>
            <a:br>
              <a:rPr sz="3200"/>
            </a:br>
            <a:r>
              <a:rPr b="1" i="1" lang="ru-RU" sz="3200" spc="-1" strike="noStrike">
                <a:solidFill>
                  <a:srgbClr val="feec94"/>
                </a:solidFill>
                <a:latin typeface="Times New Roman"/>
              </a:rPr>
              <a:t>2 вариант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кц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дминистративное пра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ти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вартирная краж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куренц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сервато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итин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итрополи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родн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ц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атриар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икетирова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лем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зна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п-культур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пулиз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наруш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длож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изводител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а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емейное пра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емь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вет Федерац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уннит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упру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рудовое пра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Шиит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лит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мисс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мпири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24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28" dur="5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32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36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40" dur="500" fill="hold"/>
                                        <p:tgtEl>
                                          <p:spTgt spid="3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по теме.</a:t>
            </a:r>
            <a:br>
              <a:rPr sz="3200"/>
            </a:br>
            <a:r>
              <a:rPr b="1" i="1" lang="ru-RU" sz="3200" spc="-1" strike="noStrike">
                <a:solidFill>
                  <a:srgbClr val="feec94"/>
                </a:solidFill>
                <a:latin typeface="Times New Roman"/>
              </a:rPr>
              <a:t>3 вариант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нтимонопольное законодатель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арте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даделец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ивиденд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на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арм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вартирная краж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итрополи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ногопартийн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рал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у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ирва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разова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ппозиц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тец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атриар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Д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люрализ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литолог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требител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фесс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спредел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амореализац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амосохран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а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циальное неравен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ворче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ира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П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46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50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54" dur="500" fill="hold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58" dur="500" fill="hold"/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62" dur="500" fill="hold"/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ятый этап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ставить на выбор, используя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ученных понятий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-Расска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-Эсс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-Конспек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-Сочин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-Кроссвор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истема оценок та же- каждое из применяемых понятий подчеркиваетс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по теме.</a:t>
            </a:r>
            <a:br>
              <a:rPr sz="3200"/>
            </a:br>
            <a:r>
              <a:rPr b="1" i="1" lang="ru-RU" sz="3200" spc="-1" strike="noStrike">
                <a:solidFill>
                  <a:srgbClr val="feec94"/>
                </a:solidFill>
                <a:latin typeface="Times New Roman"/>
              </a:rPr>
              <a:t>4 вариант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сеобщая Декларация прав челове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мократ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нежная масс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ключенны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муже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деолог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тор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ласс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свенный нало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ультуроло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юмпен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аргинал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ировоззр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ормативный ак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Т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виняемы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антеиз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движник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литеиз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грессивный нало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порциональный нало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фсоюз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зделение власте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вяты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циал-демократ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ррориз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нитарное государ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Ценност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Частная собственн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Юродивы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68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72" dur="500" fill="hold"/>
                                        <p:tgtEl>
                                          <p:spTgt spid="3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76" dur="5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80" dur="500" fill="hold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84" dur="500" fill="hold"/>
                                        <p:tgtEl>
                                          <p:spTgt spid="3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по теме.</a:t>
            </a:r>
            <a:br>
              <a:rPr sz="3200"/>
            </a:br>
            <a:r>
              <a:rPr b="1" i="1" lang="ru-RU" sz="3200" spc="-1" strike="noStrike">
                <a:solidFill>
                  <a:srgbClr val="feec94"/>
                </a:solidFill>
                <a:latin typeface="Times New Roman"/>
              </a:rPr>
              <a:t>5 вариант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втоном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льтернативные выбор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теиз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лобализац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ре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пута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фляц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хват заложник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мпичмен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ндуиз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тор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удаиз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уль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итератур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юмпен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нотеиз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ТП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виняемы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грабл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ерепроизвод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отнош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циальная дифференциац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циальная несправедлив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удопроизвод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хнолог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ру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каз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Характе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Ценообразова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рудиц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90" dur="500" fill="hold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94" dur="5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98" dur="500" fill="hold"/>
                                        <p:tgtEl>
                                          <p:spTgt spid="3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02" dur="500" fill="hold"/>
                                        <p:tgtEl>
                                          <p:spTgt spid="3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06" dur="500" fill="hold"/>
                                        <p:tgtEl>
                                          <p:spTgt spid="3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по теме.</a:t>
            </a:r>
            <a:br>
              <a:rPr sz="3200"/>
            </a:br>
            <a:r>
              <a:rPr b="1" i="1" lang="ru-RU" sz="3200" spc="-1" strike="noStrike">
                <a:solidFill>
                  <a:srgbClr val="feec94"/>
                </a:solidFill>
                <a:latin typeface="Times New Roman"/>
              </a:rPr>
              <a:t>6 вариант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ибл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рачный контрак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виантное повед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ерусали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ра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ажоритарная избирательная систем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ек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исти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дер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нопол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оватор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щественное движ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дпринимател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был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ватизаци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гово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порциональная избирательная систем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нт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тр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анкц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видетел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ло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друже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циальная рол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юз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роитель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убкультур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мперамен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Целеполага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лектора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12" dur="500" fill="hold"/>
                                        <p:tgtEl>
                                          <p:spTgt spid="3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16" dur="500" fill="hold"/>
                                        <p:tgtEl>
                                          <p:spTgt spid="3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20" dur="500" fill="hold"/>
                                        <p:tgtEl>
                                          <p:spTgt spid="3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24" dur="500" fill="hold"/>
                                        <p:tgtEl>
                                          <p:spTgt spid="3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28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Третий раздел </a:t>
            </a:r>
            <a:br>
              <a:rPr sz="5400"/>
            </a:b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ем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Культура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по теме</a:t>
            </a:r>
            <a:br>
              <a:rPr sz="4000"/>
            </a:br>
            <a:r>
              <a:rPr b="1" i="1" lang="ru-RU" sz="4000" spc="-1" strike="noStrike">
                <a:solidFill>
                  <a:srgbClr val="feec94"/>
                </a:solidFill>
                <a:latin typeface="Times New Roman"/>
              </a:rPr>
              <a:t>1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двока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либ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лимент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мнист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ффек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ан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елый до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енефи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иблиоте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ибл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изне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илл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ирж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лаженны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о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42920" y="213336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огем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огоявле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рахм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рокер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уржуаз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уффонад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ылин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ла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магог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бастов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апита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ществ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щно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енс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раты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34" dur="500" fill="hold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38" dur="500" fill="hold"/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42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46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50" dur="500" fill="hold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о теме.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2 вариант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д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рбитраж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рес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андитизм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уддизм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юдже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альс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алют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атикан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аяние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еликий пос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ербное воскресенье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естерн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ече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ласть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feec94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одевиль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00720" y="21333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йн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ньг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т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еждународный валютный фонд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родно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арт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зумпц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дител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ыно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емь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редства массовой информаци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ро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оталитариз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тно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56" dur="500" fill="hold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60" dur="500" fill="hold"/>
                                        <p:tgtEl>
                                          <p:spTgt spid="3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64" dur="500" fill="hold"/>
                                        <p:tgtEl>
                                          <p:spTgt spid="3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68" dur="500" fill="hold"/>
                                        <p:tgtEl>
                                          <p:spTgt spid="33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72" dur="500" fill="hold"/>
                                        <p:tgtEl>
                                          <p:spTgt spid="3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9152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по теме.</a:t>
            </a:r>
            <a:br>
              <a:rPr sz="4400"/>
            </a:b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3 вариант.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24000" y="21333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лла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езработиц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ериг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ин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нутренний валовой продук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зрожде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лхв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ту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семирный потоп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сенощна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збирательный бюллетен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кусств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расот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реди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бильно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211640" y="206028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лодеж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нарх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узы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ХА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нято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терпевши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суд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зумпц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ыно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емейный конфлик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ату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рес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уверените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инэйджер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кономи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78" dur="5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82" dur="500" fill="hold"/>
                                        <p:tgtEl>
                                          <p:spTgt spid="3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86" dur="500" fill="hold"/>
                                        <p:tgtEl>
                                          <p:spTgt spid="3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90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94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6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по теме.</a:t>
            </a:r>
            <a:br>
              <a:rPr sz="4400"/>
            </a:b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4 вариант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вторите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кци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лтар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нтихрис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покалипси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рхиепископ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из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ладе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меняем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рач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ликатно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жихад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ружб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нвалид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иберализ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2920" y="213336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ишение свобод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род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вменяемо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ще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лан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ительств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дприят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зиден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бочий клас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циолог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ырь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ак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орговл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Форма правлен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тикет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00" dur="500" fill="hold"/>
                                        <p:tgtEl>
                                          <p:spTgt spid="3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04" dur="500" fill="hold"/>
                                        <p:tgtEl>
                                          <p:spTgt spid="3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08" dur="5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12" dur="500" fill="hold"/>
                                        <p:tgtEl>
                                          <p:spTgt spid="3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16" dur="500" fill="hold"/>
                                        <p:tgtEl>
                                          <p:spTgt spid="3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8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по теме.</a:t>
            </a:r>
            <a:br>
              <a:rPr sz="4400"/>
            </a:b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5 вариант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00720" y="23270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трабанд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ры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раж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риминолог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ДП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лити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двыборная кампан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стиж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лич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изводств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исуно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дств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беркниж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Б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овар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4000" y="23270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даптац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ежливо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етхий заве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икари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ифлее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здвижень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знесе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спитанно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бор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ород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рафи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ндивидуу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нфляц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тец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андида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22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26" dur="500" fill="hold"/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30" dur="500" fill="hold"/>
                                        <p:tgtEl>
                                          <p:spTgt spid="3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34" dur="500" fill="hold"/>
                                        <p:tgtEl>
                                          <p:spTgt spid="3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38" dur="500" fill="hold"/>
                                        <p:tgtEl>
                                          <p:spTgt spid="3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7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Выбрать из списка 5 понятий по теме.</a:t>
            </a:r>
            <a:br>
              <a:rPr sz="4400"/>
            </a:b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6 вариант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рхитектур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огатств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мограф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огма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Епарх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Ерес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Живопис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держа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гумен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полнительный лис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дек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ммуниз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серватиз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фесс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42920" y="213336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ьтур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г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чик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я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лам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ублик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еренду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уты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ульптур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из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енчество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говля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стетик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44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48" dur="500" fill="hold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52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56" dur="500" fill="hold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60" dur="500" fill="hold"/>
                                        <p:tgtEl>
                                          <p:spTgt spid="3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истема оценок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сего предлагается 6 вариантов по 5пар, то есть за 30 правильных ответов выставляется оценка 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т 25 до 29 баллов- оценка 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т 19 до 24 баллов- оценка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о 18 баллов- оценка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истема может варьироваться преподавателем в зависимости от времени и необходимост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твет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8;9;16;21;2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7;10;13416;2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6;12;13;18;1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1;13;19;27;3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;8;11;24;2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6 вариа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;7;16;24;3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Установить соответствие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1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1)  Спектакль, сбор от которого поступает в пользу одного или нескольких актеров, а также других работников театра-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2)  Учреждение культуры, организующее сбор, хранение, общественное пользование произведениями печати-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3)  Среда интеллигенции, для части которой характерен беспечный, беспорядочный образ жизни-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4)  Прием, используемый в цирке, на эстраде, в театре,- подчеркнутое внешнее комическое преувеличение, иногда окарикатуривание персонажей (действий, явлений)-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Times New Roman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Русские народные эпические песни-сказания, повествующие преимущественно о богатырях-защитниках родины, отражающие нравственные идеалы народа-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)  Библиотек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)  Былины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)  Буффонад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Г)  Бенефис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Д)  Богем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оставить пары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2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1)  Бальный танец, популярный размер ¾, особенно популярен так называемый венский, разработанный композитором И.Штраусом-отцом и И.Штраусом-сыном-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2)  То же, что и скульптура. В узком смысле – высекание, вырезание скульптуры из твердых материалов-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3)  Жанр американского кино, получивший также распространение за пределами США. Посвящен, как правило, героизации первых поселенцев западных районов Америки-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4)  Вид « комедии положений» с песнями-куплетами, романсами и танцами. Возник во Франции, с начала 19 века получил общеевропейское распространение-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5)  СМИ-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)  Средства массовой информаци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)  Вальс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)  Ваяние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Г)  Вестерн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Д)  Водевиль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оставить пары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3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1)  МХАТ-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2)  Период в культурном и идейном развитии стран Западной и Центральной Европы, переходный от средневековой культуры к культуре нового времени-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3)  Одна из универсальных форм бытия материального мира в человеческом сознании, раскрывающая эстетический смысл явлений, которые вызывают удовольствие, моральное удовлетворение-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4)  Вид искусства, в котором художественные образы формируются с помощью звуков-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5)  Вид духовного освоения действительности человеком. имеющий целью формирование и развитие его способности творчески преобразовывать мир и самого себя по законам красоты-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)  Возрождение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)  Искусство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)  Московский художественный академический театр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Г)  Красот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Д) Музык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оставить пары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4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)  Способность человека находить форму общения с другими людьми в зависимости от конкретных обстоятельств и ситуаций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)  Взаимная привязанность двух или более людей, основанная на любви, уважении, общих интересах и симпатиях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3)  Следование правилам приличия, их соблюдение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4)  Умение тонко чувствовать и реагировать на состояние, когда знакомый или близкий человек оказался в затруднительном состоянии или положении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5)  Особая форма взаимоотношений, в которой люди обмениваются опытом, информацией, умениями и навыками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)  Деликатно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)  Дружба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)  Так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)  Этике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)  Обще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оставить пары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5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)  Искусство жить с другими людьми по-человечески и быть человеком в любом проявлении своей натуры, уважая достоинства других людей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)  Совокупность совершаемых в обществе поступков и действий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3)  Вид изобразительного искусства, включающий рисунок и печатные художественные произведения (гравюра, литография)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4)  Форма культурного поведения человека, для которого уважение к людям стало привычным способом общения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мение держать себя в обществе, уважая достоинство и благополучие других людей-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)  Вежливо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)  Графи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)  Поведе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)  Приличие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)  Воспитанно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оставить пары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6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1)  Наука, исследующая многообразные проявления эстетического отношения, основанного на чувстве прекрасного, на представлениях о красивом и безобразном-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2)  Исторически определенная ступень развития общества и человека, выраженная (опредмеченная) в результатах материальной и духовной деятельности людей-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3)  Вид изобразительного искусства, специфика которого заключается в представлении при помощи красок, нанесенных на поверхность образов действительности-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4)  Вид искусства, целью которого является создание сооружений, отвечающих утилитарным потребностям людей-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5)  Вид искусства, специфика которого заключается в объемном претворении художественной формы  в пространстве-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)  Архитектура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)  Эстетика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)  Живопись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Г)  Культур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Д)  Скульптур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твет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ариант 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Г; 2)А; 3)Д; 4)В; 5)Б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ариант 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Б; 2)В; 3)Г; 4)Д; 5)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ариант 3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В; 2)А; 3)Г; 4)Д; 5)Б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ариант 4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В; 2)Б; 3)Г; 4)А; 5)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ариант 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Д; 2)В; 3)Б; 4)А; 5)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ариант 6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 Б; 2) Г; 3) В; 4) А; 5) 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ловарный диктан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1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)  Спектакль, сбор от которого поступает в пользу одного или нескольких актеров, а также других работников театра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)  Учреждение культуры, организующее сбор, хранение, общественное пользование произведениями печати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)  Среда интеллигенции, для части которой характерен беспечный, беспорядочный образ жизни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)  Прием, используемый в цирке, на эстраде, в театре,- подчеркнутое внешнее комическое преувеличение, иногда окарикатуривание персонажей (действий, явлений)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)  Русские народные эпические песни-сказания, повествующие преимущественно о богатырях-защитниках родины, отражающие нравственные идеалы народа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ловарный диктан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2 вариан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9528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)  Бальный танец, популярный размер ¾, особенно популярен так называемый венский, разработанный композитором И.Штраусом-отцом и И.Штраусом-сыном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)  То же, что и скульптура. В узком смысле – высекание, вырезание скульптуры из твердых материалов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)  Жанр американского кино, получивший также распространение за пределами США. Посвящен, как правило, героизации первых поселенцев западных районов Америки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)  Вид « комедии положений» с песнями-куплетами, романсами и танцами. Возник во Франции, с начала 19 века получил общеевропейское распространение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)  СМИ-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1T13:18:47Z</dcterms:created>
  <dc:creator>Ирина Юрьевна</dc:creator>
  <dc:description/>
  <dc:language>en-US</dc:language>
  <cp:lastModifiedBy>Елена</cp:lastModifiedBy>
  <dcterms:modified xsi:type="dcterms:W3CDTF">2013-03-21T15:07:04Z</dcterms:modified>
  <cp:revision>46</cp:revision>
  <dc:subject/>
  <dc:title>Педагогическая технология по работе с понятиями.</dc:title>
</cp:coreProperties>
</file>