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png" ContentType="image/png"/>
  <Override PartName="/ppt/media/image2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6F4-BD9D-49AD-A736-1B35D229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6D5-7EF4-4E58-9C22-E5C48519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755-6FA4-4CBA-8E27-1C9D98A5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19A-5F85-426A-A0A6-5D0AEBC5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AE3C-E302-4052-896C-8FCB86AD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6A926-B2A5-4417-B415-38600C7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A74B0-255D-44BE-B294-AF484179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E6183-30DC-4A25-9FD7-F4E71E14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372B-183E-4F7A-9D82-D7B56C0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02C06-F999-49D1-A07A-AA56859F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60A99-FAB4-4DA6-8CE9-5FFD1E3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2A1-E754-41C5-862E-74B6AF38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4C7F2-7AC0-4219-A28D-766D429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7CA2A-D295-4976-B303-32919E0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CA425-6B9C-4380-AA57-58B1A40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F7F1F-955E-4A70-9032-615F1EF4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A1560-0C5C-4773-939E-F406E20B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13258-1D64-405D-98CE-4A3C29C1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BB12-9D8E-4330-9D66-607B1AB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5FA04-242D-4C96-BDF5-34190AF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8E99D-0C50-4A19-9AED-42455CDF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2F18-E1F4-460C-B257-505EA59A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A8-6F78-47A5-AACD-2EA3437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76F1-DAF6-4510-96B2-3F55BF5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79F3-080E-44C4-9A03-E22B9278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AB69-0F35-4CDF-AC54-7845D0E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4FF0-D668-4AB9-8625-E43C03F1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2695-76A7-4552-964D-167E512A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1B22-9E25-43C8-AF50-F2864EE1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71C0-D55D-4D71-B162-41EF82AA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08126-4A85-4DE0-8A83-F534248A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48820-E1B1-47C4-A90B-3AF3E2AD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7A157-703A-42FE-8C4C-C098DC5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52B-B75A-4CDD-B047-5253C95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572F3-E559-4004-9AAD-2849C70E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E5BE4-7A30-4B2D-8425-D5047E92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07C9C-CCF9-49E9-9838-7C3A6B5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802F1-D046-4352-85D5-97938D9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7548E-08DE-465B-BD50-AAC0140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8D016-85DB-4F7F-918F-54D33C9B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2AE20-FEAC-462E-9F49-4666ABB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710EB-0BC5-4752-9CB9-2EF4D3B2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75DFB-290F-4382-A8C8-3949DA94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540-E8FC-488F-9095-41E8FF0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B6A-5EF3-423A-9901-CEA78FD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A77-EAA4-4AB8-A5AE-220EEEA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3AE-0C8A-465E-B9E8-6F91DA5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9DF-66BC-40B6-8FB4-DFE047A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C9E-98B7-4227-8FB7-A5BEE756357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B95-5E7B-4305-9099-BA4AC9E46F9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AAA-6EF0-44B9-88CE-2576E852FB1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6104-161B-472A-AEF1-E5D4B32F59D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4" descr="98675951.jpg"/>
          <p:cNvPicPr/>
          <p:nvPr/>
        </p:nvPicPr>
        <p:blipFill>
          <a:blip r:embed="rId1"/>
          <a:stretch/>
        </p:blipFill>
        <p:spPr>
          <a:xfrm>
            <a:off x="1547640" y="1197000"/>
            <a:ext cx="6120000" cy="489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1" name="Заголовок 3" descr=""/>
          <p:cNvPicPr/>
          <p:nvPr/>
        </p:nvPicPr>
        <p:blipFill>
          <a:blip r:embed="rId2"/>
          <a:stretch/>
        </p:blipFill>
        <p:spPr>
          <a:xfrm>
            <a:off x="450720" y="19080"/>
            <a:ext cx="82425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7" descr="peter1.jpg"/>
          <p:cNvPicPr/>
          <p:nvPr/>
        </p:nvPicPr>
        <p:blipFill>
          <a:blip r:embed="rId1"/>
          <a:stretch/>
        </p:blipFill>
        <p:spPr>
          <a:xfrm>
            <a:off x="539640" y="907920"/>
            <a:ext cx="3672000" cy="504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265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1721 году Петр Первый был провозглашен императором. Россия стала империе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356000" y="456840"/>
            <a:ext cx="440712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Первый российский император</a:t>
            </a:r>
            <a:endParaRPr b="0" lang="en-US" sz="29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4" descr="34535436346.jpg"/>
          <p:cNvPicPr/>
          <p:nvPr/>
        </p:nvPicPr>
        <p:blipFill>
          <a:blip r:embed="rId1"/>
          <a:stretch/>
        </p:blipFill>
        <p:spPr>
          <a:xfrm>
            <a:off x="324000" y="1628640"/>
            <a:ext cx="5400360" cy="468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9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иста лет назад, 16 мая 1703 года, в устье Невы  был заложен Санкт - Петербург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9476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Град Петра</a:t>
            </a:r>
            <a:endParaRPr b="0" lang="en-US" sz="54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Текст 5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4054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9" descr="1310381355019.jpg"/>
          <p:cNvPicPr/>
          <p:nvPr/>
        </p:nvPicPr>
        <p:blipFill>
          <a:blip r:embed="rId2"/>
          <a:stretch/>
        </p:blipFill>
        <p:spPr>
          <a:xfrm>
            <a:off x="539640" y="1989000"/>
            <a:ext cx="3816360" cy="453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1" name="Содержимое 10" descr="lavra_b.jpg"/>
          <p:cNvPicPr/>
          <p:nvPr/>
        </p:nvPicPr>
        <p:blipFill>
          <a:blip r:embed="rId3"/>
          <a:stretch/>
        </p:blipFill>
        <p:spPr>
          <a:xfrm>
            <a:off x="4500720" y="2133720"/>
            <a:ext cx="4392360" cy="40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2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03" name="Текст 7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4" name="Текст 7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Александро-Невская лавр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6" descr="06057083.jpg"/>
          <p:cNvPicPr/>
          <p:nvPr/>
        </p:nvPicPr>
        <p:blipFill>
          <a:blip r:embed="rId2"/>
          <a:stretch/>
        </p:blipFill>
        <p:spPr>
          <a:xfrm>
            <a:off x="395280" y="1989000"/>
            <a:ext cx="405936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8" name="Содержимое 7" descr="i.jpg"/>
          <p:cNvPicPr/>
          <p:nvPr/>
        </p:nvPicPr>
        <p:blipFill>
          <a:blip r:embed="rId3"/>
          <a:stretch/>
        </p:blipFill>
        <p:spPr>
          <a:xfrm>
            <a:off x="5003640" y="1989000"/>
            <a:ext cx="374508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4" descr="Pietarin keskusaukio Talvipalatsista katsottuna.jpg"/>
          <p:cNvPicPr/>
          <p:nvPr/>
        </p:nvPicPr>
        <p:blipFill>
          <a:blip r:embed="rId2"/>
          <a:stretch/>
        </p:blipFill>
        <p:spPr>
          <a:xfrm>
            <a:off x="457200" y="2287440"/>
            <a:ext cx="405936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1" name="Содержимое 5" descr="75242899_912126_piter_0.jpg"/>
          <p:cNvPicPr/>
          <p:nvPr/>
        </p:nvPicPr>
        <p:blipFill>
          <a:blip r:embed="rId3"/>
          <a:stretch/>
        </p:blipFill>
        <p:spPr>
          <a:xfrm>
            <a:off x="4716360" y="2276640"/>
            <a:ext cx="4059360" cy="286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6" descr="SPB6.jpg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3" descr="73789954_img418.jpg"/>
          <p:cNvPicPr/>
          <p:nvPr/>
        </p:nvPicPr>
        <p:blipFill>
          <a:blip r:embed="rId1"/>
          <a:stretch/>
        </p:blipFill>
        <p:spPr>
          <a:xfrm>
            <a:off x="3108240" y="1523880"/>
            <a:ext cx="29275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6" descr="1092.jpg"/>
          <p:cNvPicPr/>
          <p:nvPr/>
        </p:nvPicPr>
        <p:blipFill>
          <a:blip r:embed="rId1"/>
          <a:stretch/>
        </p:blipFill>
        <p:spPr>
          <a:xfrm>
            <a:off x="395280" y="907920"/>
            <a:ext cx="3676680" cy="483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410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ётр был провозглашён царём в 1682 году в 10-летнем возрасте, стал править самостоятельно с 1689 год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356000" y="456840"/>
            <a:ext cx="440712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Петр 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4" descr="220px-Солдат_бутырского_полка.jpg"/>
          <p:cNvPicPr/>
          <p:nvPr/>
        </p:nvPicPr>
        <p:blipFill>
          <a:blip r:embed="rId1"/>
          <a:stretch/>
        </p:blipFill>
        <p:spPr>
          <a:xfrm>
            <a:off x="539640" y="907920"/>
            <a:ext cx="4248360" cy="511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003280" y="1600200"/>
            <a:ext cx="376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 каждым годом у него увеличивался интерес к военному делу. Пётр одел и вооружил своё «потешное» войско, состоявшее из сверстников по мальчишеским играм. В 1685 году его «потешные», одетые в иностранные кафтаны, под барабанный бой полковым строем шли через Москву из Преображенского в село Воробьёво. Сам Пётр служил барабанщико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5076720" y="456840"/>
            <a:ext cx="3686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тешный полк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395280" y="47628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 14 лет Пётр завёл при своих «потешных» артиллерию. Огнестрельный мастер 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Фёдор Зоммер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показывал царю гранатное и огнестрельное дело. В Преображенском, против дворца, на берегу Яузы был построен «потешный городок». При постройке крепости Пётр сам деятельно работал, помогал рубить брёвна, устанавливать пушки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ётр заинтересовался всеми науками, которые были связаны с военным делом. Под руководством голландца 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Тиммерма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он изучал арифметику, геометрию, военные на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4" descr="Goto_Predestinacia_2.jpg"/>
          <p:cNvPicPr/>
          <p:nvPr/>
        </p:nvPicPr>
        <p:blipFill>
          <a:blip r:embed="rId1"/>
          <a:stretch/>
        </p:blipFill>
        <p:spPr>
          <a:xfrm>
            <a:off x="324000" y="981000"/>
            <a:ext cx="4608360" cy="489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61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тр не походил ни на одного из европейских государей своего времени. Во время путешествия в Европу молодой Петр трудился плотником на верфях Голландии и Англии, чтобы самому постичь все премудрости корабельного де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4" descr="петр1.jpg"/>
          <p:cNvPicPr/>
          <p:nvPr/>
        </p:nvPicPr>
        <p:blipFill>
          <a:blip r:embed="rId1"/>
          <a:stretch/>
        </p:blipFill>
        <p:spPr>
          <a:xfrm>
            <a:off x="468360" y="404640"/>
            <a:ext cx="482292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508720" y="1125000"/>
            <a:ext cx="32572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вел новый календарь и повелел отсчитывать годы от Рождества Христова. Стали праздновать Новый год 1 января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5508720" y="260280"/>
            <a:ext cx="3254400" cy="7207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образования 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4" descr="0007-009-V-1703-g.Byla-izdana-1-ja-russkaja-gazeta-Vedomosti.jpg"/>
          <p:cNvPicPr/>
          <p:nvPr/>
        </p:nvPicPr>
        <p:blipFill>
          <a:blip r:embed="rId1"/>
          <a:stretch/>
        </p:blipFill>
        <p:spPr>
          <a:xfrm>
            <a:off x="611280" y="620640"/>
            <a:ext cx="4160880" cy="561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3280" y="1844640"/>
            <a:ext cx="3745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пустил первую печатную газет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003280" y="456840"/>
            <a:ext cx="375948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образования</a:t>
            </a: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4" descr="post-13698-0-71946400-1334821662.jpg"/>
          <p:cNvPicPr/>
          <p:nvPr/>
        </p:nvPicPr>
        <p:blipFill>
          <a:blip r:embed="rId1"/>
          <a:stretch/>
        </p:blipFill>
        <p:spPr>
          <a:xfrm>
            <a:off x="468360" y="1413000"/>
            <a:ext cx="5524560" cy="41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227280" y="1600200"/>
            <a:ext cx="2538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Открыл первый музей и публичную библиотеку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43280" y="457200"/>
            <a:ext cx="4119840" cy="8841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образования</a:t>
            </a: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7" descr="i.jpg"/>
          <p:cNvPicPr/>
          <p:nvPr/>
        </p:nvPicPr>
        <p:blipFill>
          <a:blip r:embed="rId2"/>
          <a:stretch/>
        </p:blipFill>
        <p:spPr>
          <a:xfrm>
            <a:off x="250920" y="1989000"/>
            <a:ext cx="410508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Содержимое 8" descr="i (1).jpg"/>
          <p:cNvPicPr/>
          <p:nvPr/>
        </p:nvPicPr>
        <p:blipFill>
          <a:blip r:embed="rId3"/>
          <a:stretch/>
        </p:blipFill>
        <p:spPr>
          <a:xfrm>
            <a:off x="4643280" y="1989000"/>
            <a:ext cx="432144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4:55:58Z</dcterms:created>
  <dc:creator>Учитель</dc:creator>
  <dc:description/>
  <dc:language>en-US</dc:language>
  <cp:lastModifiedBy>Учитель</cp:lastModifiedBy>
  <dcterms:modified xsi:type="dcterms:W3CDTF">2013-04-02T10:49:48Z</dcterms:modified>
  <cp:revision>11</cp:revision>
  <dc:subject/>
  <dc:title>1. Где находились Сережа и Таня? 2. Почему они оказались одни? 3. Какие трудности возникли у Максима Петровича с передачей посылки? 4. Какую помощь оказал Сережа? 5. Какое чувство он испытывал, когда мимо проплывали огни вагонов? Почему?</dc:title>
</cp:coreProperties>
</file>