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png" ContentType="image/png"/>
  <Override PartName="/ppt/media/image27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5.png" ContentType="image/png"/>
  <Override PartName="/ppt/media/image2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85BD-0FC8-47CE-A9D1-7A8B2092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60CB-EAE6-4590-9A6C-73433425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321-E206-457B-AA57-639A1409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D33-A35A-4892-9135-25A397A4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CC5AB-6F1F-4813-A1EF-FE4C3AAA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A032F-924A-4916-8F38-00887DB0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560CF-A665-42F2-9E3D-9039FDDD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E5DA8-FF6A-4341-B441-720F396C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33781-8998-4316-B43C-E4F9888F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7B4FD-B6F4-44BD-913A-D084E842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0BC69-E0BB-4B94-AC51-0D0EECCD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758-D5BA-4FFB-BB18-1AF32A8E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BD7A1-DCD6-4166-9F70-DC25FA39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868C5-AD91-4A21-A0A6-582D2175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5B59C-1B0A-4C7D-9F87-06592DD3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52A17-020E-43DF-8A1B-4C3E1DB1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C8C36-8E86-4AA3-9826-528DDBF0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EBFD2-D405-4201-B7F4-964CF661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C9359-427E-4110-A6BA-B09B20ED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24939-B7A9-49E7-9EC5-C82A32B6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B038D-77B3-4EFF-A83D-496E8827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ABFF6-DFF1-4BE0-8882-2E456D11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9E7-813D-4E75-9B77-54ED2024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18F36-DBAA-4194-9BBD-FBAFEEE6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77F0B-1812-460B-8015-A3AB6DF7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AAD75-842A-45D2-9328-94D2F9FD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F85B6-A8AB-481D-9A4E-B1869D2E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A433D-B98F-466A-8487-4CFF0E30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C1152-A75E-4457-90E8-0204F3F1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1A575-C765-44F8-9B11-C8BF7DEE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6BA446-E1D3-4BA2-A347-98153384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FDF293-A512-400C-9713-FB17F6DC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8EC67F-CF7E-4A31-8998-E974DB75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25E3-FB4D-4932-B59F-7E60DE49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32A802-7CED-4DB6-93B5-06D7EA6B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164A4E-2481-4925-A73A-75D2B7AC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2CF019-8BA6-48B6-8715-F2901C06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66DA3F-23D3-4545-A824-56F82CFE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74BE79-6965-47B9-8EF2-334ECB62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7B25DD-7370-43A7-9C28-0ED5FC66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B3B02B-01FE-4763-BD8F-4F598949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465C61-4B53-4F7E-9B8A-B4AE2B55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135D33-64C2-45BB-A1D4-6E5D3D2E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46B3-A710-4F69-B83F-746904AD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DB3-DC65-4593-9819-C9221069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EBE-AA90-4B02-9282-633840AD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EBD2-98D1-4138-92F6-14E67457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3697-0CB0-46F5-B17B-45A6ACAE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0280-145A-40DC-B5E5-6886511AE2E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36D5-806C-49FA-A2D2-862249325F4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1508-CB95-4785-87F6-BB23AECAC65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400D-2166-4552-8587-BD94B8ECAD2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Содержимое 4" descr="98675951.jpg"/>
          <p:cNvPicPr/>
          <p:nvPr/>
        </p:nvPicPr>
        <p:blipFill>
          <a:blip r:embed="rId1"/>
          <a:stretch/>
        </p:blipFill>
        <p:spPr>
          <a:xfrm>
            <a:off x="1547640" y="1197000"/>
            <a:ext cx="6120000" cy="4898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71" name="Заголовок 3" descr=""/>
          <p:cNvPicPr/>
          <p:nvPr/>
        </p:nvPicPr>
        <p:blipFill>
          <a:blip r:embed="rId2"/>
          <a:stretch/>
        </p:blipFill>
        <p:spPr>
          <a:xfrm>
            <a:off x="450720" y="19080"/>
            <a:ext cx="824256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Содержимое 7" descr="peter1.jpg"/>
          <p:cNvPicPr/>
          <p:nvPr/>
        </p:nvPicPr>
        <p:blipFill>
          <a:blip r:embed="rId1"/>
          <a:stretch/>
        </p:blipFill>
        <p:spPr>
          <a:xfrm>
            <a:off x="539640" y="907920"/>
            <a:ext cx="3672000" cy="5042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00720" y="1600200"/>
            <a:ext cx="4265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1721 году Петр Первый был провозглашен императором. Россия стала империей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356000" y="456840"/>
            <a:ext cx="440712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onstantia"/>
              </a:rPr>
              <a:t>Первый российский император</a:t>
            </a:r>
            <a:endParaRPr b="0" lang="en-US" sz="29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Содержимое 4" descr="34535436346.jpg"/>
          <p:cNvPicPr/>
          <p:nvPr/>
        </p:nvPicPr>
        <p:blipFill>
          <a:blip r:embed="rId1"/>
          <a:stretch/>
        </p:blipFill>
        <p:spPr>
          <a:xfrm>
            <a:off x="324000" y="1628640"/>
            <a:ext cx="5400360" cy="4686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867280" y="1600200"/>
            <a:ext cx="2898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риста лет назад, 16 мая 1703 года, в устье Невы  был заложен Санкт - Петербург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9476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Град Петра</a:t>
            </a:r>
            <a:endParaRPr b="0" lang="en-US" sz="54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Текст 5" descr=""/>
          <p:cNvPicPr/>
          <p:nvPr/>
        </p:nvPicPr>
        <p:blipFill>
          <a:blip r:embed="rId1"/>
          <a:stretch/>
        </p:blipFill>
        <p:spPr>
          <a:xfrm>
            <a:off x="450720" y="1189080"/>
            <a:ext cx="4054680" cy="804960"/>
          </a:xfrm>
          <a:prstGeom prst="rect">
            <a:avLst/>
          </a:prstGeom>
          <a:ln w="0">
            <a:noFill/>
          </a:ln>
        </p:spPr>
      </p:pic>
      <p:pic>
        <p:nvPicPr>
          <p:cNvPr id="200" name="Содержимое 9" descr="1310381355019.jpg"/>
          <p:cNvPicPr/>
          <p:nvPr/>
        </p:nvPicPr>
        <p:blipFill>
          <a:blip r:embed="rId2"/>
          <a:stretch/>
        </p:blipFill>
        <p:spPr>
          <a:xfrm>
            <a:off x="539640" y="1989000"/>
            <a:ext cx="3816360" cy="453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01" name="Содержимое 10" descr="lavra_b.jpg"/>
          <p:cNvPicPr/>
          <p:nvPr/>
        </p:nvPicPr>
        <p:blipFill>
          <a:blip r:embed="rId3"/>
          <a:stretch/>
        </p:blipFill>
        <p:spPr>
          <a:xfrm>
            <a:off x="4500720" y="2133720"/>
            <a:ext cx="4392360" cy="403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02" name="Заголовок 4" descr=""/>
          <p:cNvPicPr/>
          <p:nvPr/>
        </p:nvPicPr>
        <p:blipFill>
          <a:blip r:embed="rId4"/>
          <a:stretch/>
        </p:blipFill>
        <p:spPr>
          <a:xfrm>
            <a:off x="450720" y="152280"/>
            <a:ext cx="8242560" cy="1152720"/>
          </a:xfrm>
          <a:prstGeom prst="rect">
            <a:avLst/>
          </a:prstGeom>
          <a:ln w="0">
            <a:noFill/>
          </a:ln>
        </p:spPr>
      </p:pic>
      <p:grpSp>
        <p:nvGrpSpPr>
          <p:cNvPr id="203" name="Текст 7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204" name="Текст 7" descr=""/>
            <p:cNvPicPr/>
            <p:nvPr/>
          </p:nvPicPr>
          <p:blipFill>
            <a:blip r:embed="rId5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Александро-Невская лавр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07" name="Содержимое 6" descr="06057083.jpg"/>
          <p:cNvPicPr/>
          <p:nvPr/>
        </p:nvPicPr>
        <p:blipFill>
          <a:blip r:embed="rId2"/>
          <a:stretch/>
        </p:blipFill>
        <p:spPr>
          <a:xfrm>
            <a:off x="395280" y="1989000"/>
            <a:ext cx="4059360" cy="304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08" name="Содержимое 7" descr="i.jpg"/>
          <p:cNvPicPr/>
          <p:nvPr/>
        </p:nvPicPr>
        <p:blipFill>
          <a:blip r:embed="rId3"/>
          <a:stretch/>
        </p:blipFill>
        <p:spPr>
          <a:xfrm>
            <a:off x="5003640" y="1989000"/>
            <a:ext cx="3745080" cy="302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10" name="Содержимое 4" descr="Pietarin keskusaukio Talvipalatsista katsottuna.jpg"/>
          <p:cNvPicPr/>
          <p:nvPr/>
        </p:nvPicPr>
        <p:blipFill>
          <a:blip r:embed="rId2"/>
          <a:stretch/>
        </p:blipFill>
        <p:spPr>
          <a:xfrm>
            <a:off x="457200" y="2287440"/>
            <a:ext cx="4059360" cy="304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1" name="Содержимое 5" descr="75242899_912126_piter_0.jpg"/>
          <p:cNvPicPr/>
          <p:nvPr/>
        </p:nvPicPr>
        <p:blipFill>
          <a:blip r:embed="rId3"/>
          <a:stretch/>
        </p:blipFill>
        <p:spPr>
          <a:xfrm>
            <a:off x="4716360" y="2276640"/>
            <a:ext cx="4059360" cy="2868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Содержимое 6" descr="SPB6.jpg"/>
          <p:cNvPicPr/>
          <p:nvPr/>
        </p:nvPicPr>
        <p:blipFill>
          <a:blip r:embed="rId1"/>
          <a:stretch/>
        </p:blipFill>
        <p:spPr>
          <a:xfrm>
            <a:off x="755640" y="1484280"/>
            <a:ext cx="7920000" cy="496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3" name="Заголовок 4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Содержимое 3" descr="73789954_img418.jpg"/>
          <p:cNvPicPr/>
          <p:nvPr/>
        </p:nvPicPr>
        <p:blipFill>
          <a:blip r:embed="rId1"/>
          <a:stretch/>
        </p:blipFill>
        <p:spPr>
          <a:xfrm>
            <a:off x="3108240" y="1523880"/>
            <a:ext cx="292752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5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Содержимое 6" descr="1092.jpg"/>
          <p:cNvPicPr/>
          <p:nvPr/>
        </p:nvPicPr>
        <p:blipFill>
          <a:blip r:embed="rId1"/>
          <a:stretch/>
        </p:blipFill>
        <p:spPr>
          <a:xfrm>
            <a:off x="395280" y="907920"/>
            <a:ext cx="3676680" cy="4830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356000" y="1600200"/>
            <a:ext cx="4410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ётр был провозглашён царём в 1682 году в 10-летнем возрасте, стал править самостоятельно с 1689 год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356000" y="456840"/>
            <a:ext cx="440712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Петр </a:t>
            </a: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I</a:t>
            </a:r>
            <a:endParaRPr b="0" lang="en-US" sz="60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Содержимое 4" descr="220px-Солдат_бутырского_полка.jpg"/>
          <p:cNvPicPr/>
          <p:nvPr/>
        </p:nvPicPr>
        <p:blipFill>
          <a:blip r:embed="rId1"/>
          <a:stretch/>
        </p:blipFill>
        <p:spPr>
          <a:xfrm>
            <a:off x="539640" y="907920"/>
            <a:ext cx="4248360" cy="511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003280" y="1600200"/>
            <a:ext cx="37623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 каждым годом у него увеличивался интерес к военному делу. Пётр одел и вооружил своё «потешное» войско, состоявшее из сверстников по мальчишеским играм. В 1685 году его «потешные», одетые в иностранные кафтаны, под барабанный бой полковым строем шли через Москву из Преображенского в село Воробьёво. Сам Пётр служил барабанщиком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5076720" y="456840"/>
            <a:ext cx="368640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Потешный полк</a:t>
            </a:r>
            <a:endParaRPr b="0" lang="en-US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5"/>
          <p:cNvSpPr/>
          <p:nvPr/>
        </p:nvSpPr>
        <p:spPr>
          <a:xfrm>
            <a:off x="395280" y="476280"/>
            <a:ext cx="8424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 14 лет Пётр завёл при своих «потешных» артиллерию. Огнестрельный мастер 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Фёдор Зоммер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показывал царю гранатное и огнестрельное дело. В Преображенском, против дворца, на берегу Яузы был построен «потешный городок». При постройке крепости Пётр сам деятельно работал, помогал рубить брёвна, устанавливать пушки.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ётр заинтересовался всеми науками, которые были связаны с военным делом. Под руководством голландца 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Тиммерман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он изучал арифметику, геометрию, военные нау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Содержимое 4" descr="Goto_Predestinacia_2.jpg"/>
          <p:cNvPicPr/>
          <p:nvPr/>
        </p:nvPicPr>
        <p:blipFill>
          <a:blip r:embed="rId1"/>
          <a:stretch/>
        </p:blipFill>
        <p:spPr>
          <a:xfrm>
            <a:off x="324000" y="981000"/>
            <a:ext cx="4608360" cy="489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148000" y="981000"/>
            <a:ext cx="3617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етр не походил ни на одного из европейских государей своего времени. Во время путешествия в Европу молодой Петр трудился плотником на верфях Голландии и Англии, чтобы самому постичь все премудрости корабельного дел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Содержимое 4" descr="петр1.jpg"/>
          <p:cNvPicPr/>
          <p:nvPr/>
        </p:nvPicPr>
        <p:blipFill>
          <a:blip r:embed="rId1"/>
          <a:stretch/>
        </p:blipFill>
        <p:spPr>
          <a:xfrm>
            <a:off x="468360" y="404640"/>
            <a:ext cx="4822920" cy="571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508720" y="1125000"/>
            <a:ext cx="325728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вел новый календарь и повелел отсчитывать годы от Рождества Христова. Стали праздновать Новый год 1 января</a:t>
            </a: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5508720" y="260280"/>
            <a:ext cx="3254400" cy="72072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еобразования 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Содержимое 4" descr="0007-009-V-1703-g.Byla-izdana-1-ja-russkaja-gazeta-Vedomosti.jpg"/>
          <p:cNvPicPr/>
          <p:nvPr/>
        </p:nvPicPr>
        <p:blipFill>
          <a:blip r:embed="rId1"/>
          <a:stretch/>
        </p:blipFill>
        <p:spPr>
          <a:xfrm>
            <a:off x="611280" y="620640"/>
            <a:ext cx="4160880" cy="5616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003280" y="1844640"/>
            <a:ext cx="3745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ыпустил первую печатную газету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5003280" y="456840"/>
            <a:ext cx="375948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еобразования</a:t>
            </a:r>
            <a:endParaRPr b="0" lang="en-US" sz="3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Содержимое 4" descr="post-13698-0-71946400-1334821662.jpg"/>
          <p:cNvPicPr/>
          <p:nvPr/>
        </p:nvPicPr>
        <p:blipFill>
          <a:blip r:embed="rId1"/>
          <a:stretch/>
        </p:blipFill>
        <p:spPr>
          <a:xfrm>
            <a:off x="468360" y="1413000"/>
            <a:ext cx="5524560" cy="4143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227280" y="1600200"/>
            <a:ext cx="25383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nstantia"/>
              </a:rPr>
              <a:t>Открыл первый музей и публичную библиотеку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643280" y="457200"/>
            <a:ext cx="4119840" cy="88416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еобразования</a:t>
            </a:r>
            <a:endParaRPr b="0" lang="en-US" sz="3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4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91" name="Содержимое 7" descr="i.jpg"/>
          <p:cNvPicPr/>
          <p:nvPr/>
        </p:nvPicPr>
        <p:blipFill>
          <a:blip r:embed="rId2"/>
          <a:stretch/>
        </p:blipFill>
        <p:spPr>
          <a:xfrm>
            <a:off x="250920" y="1989000"/>
            <a:ext cx="4105080" cy="324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2" name="Содержимое 8" descr="i (1).jpg"/>
          <p:cNvPicPr/>
          <p:nvPr/>
        </p:nvPicPr>
        <p:blipFill>
          <a:blip r:embed="rId3"/>
          <a:stretch/>
        </p:blipFill>
        <p:spPr>
          <a:xfrm>
            <a:off x="4643280" y="1989000"/>
            <a:ext cx="4321440" cy="324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04:55:58Z</dcterms:created>
  <dc:creator>Учитель</dc:creator>
  <dc:description/>
  <dc:language>en-US</dc:language>
  <cp:lastModifiedBy>Учитель</cp:lastModifiedBy>
  <dcterms:modified xsi:type="dcterms:W3CDTF">2013-04-02T10:49:48Z</dcterms:modified>
  <cp:revision>11</cp:revision>
  <dc:subject/>
  <dc:title>1. Где находились Сережа и Таня? 2. Почему они оказались одни? 3. Какие трудности возникли у Максима Петровича с передачей посылки? 4. Какую помощь оказал Сережа? 5. Какое чувство он испытывал, когда мимо проплывали огни вагонов? Почему?</dc:title>
</cp:coreProperties>
</file>