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11.gif" ContentType="image/gif"/>
  <Override PartName="/ppt/media/image9.png" ContentType="image/png"/>
  <Override PartName="/ppt/media/image7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A5D-6205-4E6E-B8B6-52E1FED3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AF7-F08B-4E0D-9165-479FEF9D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14AF-1380-4577-8691-AE8C5A36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8B2-4122-416E-8297-EAA7DAB7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A22-3922-4894-9A61-D0FB2CF6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AE1-781A-4505-8FDF-3B45446A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F01-117B-4EC9-94FD-F926FAF1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FD60-A7A6-4145-BE58-ED469405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C8E-E147-4398-AC33-7CFD1556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166-7F53-4E81-A4D3-E7579FFD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CDE-6CC1-4A86-8778-F376B437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632-1E27-4736-B0F8-FF85DD76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5E4F-DB60-4E3F-9CEB-187DCBC82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3708360" y="765000"/>
            <a:ext cx="504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Comic Sans MS"/>
              </a:rPr>
              <a:t>А</a:t>
            </a:r>
            <a:r>
              <a:rPr b="1" lang="en-US" sz="9600" spc="-1" strike="noStrike">
                <a:solidFill>
                  <a:srgbClr val="ffff00"/>
                </a:solidFill>
                <a:latin typeface="Comic Sans MS"/>
              </a:rPr>
              <a:t>з</a:t>
            </a:r>
            <a:r>
              <a:rPr b="1" lang="en-US" sz="9600" spc="-1" strike="noStrike">
                <a:solidFill>
                  <a:srgbClr val="008000"/>
                </a:solidFill>
                <a:latin typeface="Comic Sans MS"/>
              </a:rPr>
              <a:t>б</a:t>
            </a:r>
            <a:r>
              <a:rPr b="1" lang="en-US" sz="9600" spc="-1" strike="noStrike">
                <a:solidFill>
                  <a:srgbClr val="ff0066"/>
                </a:solidFill>
                <a:latin typeface="Comic Sans MS"/>
              </a:rPr>
              <a:t>у</a:t>
            </a:r>
            <a:r>
              <a:rPr b="1" lang="en-US" sz="9600" spc="-1" strike="noStrike">
                <a:solidFill>
                  <a:srgbClr val="ffff00"/>
                </a:solidFill>
                <a:latin typeface="Comic Sans MS"/>
              </a:rPr>
              <a:t>к</a:t>
            </a:r>
            <a:r>
              <a:rPr b="1" lang="en-US" sz="9600" spc="-1" strike="noStrike">
                <a:solidFill>
                  <a:srgbClr val="008000"/>
                </a:solidFill>
                <a:latin typeface="Comic Sans MS"/>
              </a:rPr>
              <a:t>а</a:t>
            </a: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9600" spc="-1" strike="noStrike">
                <a:solidFill>
                  <a:srgbClr val="ff0066"/>
                </a:solidFill>
                <a:latin typeface="Comic Sans MS"/>
              </a:rPr>
              <a:t>г</a:t>
            </a:r>
            <a:r>
              <a:rPr b="1" lang="en-US" sz="96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1" lang="en-US" sz="9600" spc="-1" strike="noStrike">
                <a:solidFill>
                  <a:srgbClr val="008000"/>
                </a:solidFill>
                <a:latin typeface="Comic Sans MS"/>
              </a:rPr>
              <a:t>р</a:t>
            </a:r>
            <a:r>
              <a:rPr b="1" lang="en-US" sz="9600" spc="-1" strike="noStrike">
                <a:solidFill>
                  <a:srgbClr val="ff0066"/>
                </a:solidFill>
                <a:latin typeface="Comic Sans MS"/>
              </a:rPr>
              <a:t>о</a:t>
            </a:r>
            <a:r>
              <a:rPr b="1" lang="en-US" sz="9600" spc="-1" strike="noStrike">
                <a:solidFill>
                  <a:srgbClr val="ffff00"/>
                </a:solidFill>
                <a:latin typeface="Comic Sans MS"/>
              </a:rPr>
              <a:t>д</a:t>
            </a:r>
            <a:r>
              <a:rPr b="1" lang="en-US" sz="9600" spc="-1" strike="noStrike">
                <a:solidFill>
                  <a:srgbClr val="008000"/>
                </a:solidFill>
                <a:latin typeface="Comic Sans MS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4211640" y="3860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1619280" y="450864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4"/>
          <p:cNvPicPr/>
          <p:nvPr/>
        </p:nvPicPr>
        <p:blipFill>
          <a:blip r:embed="rId1"/>
          <a:stretch/>
        </p:blipFill>
        <p:spPr>
          <a:xfrm>
            <a:off x="1042920" y="0"/>
            <a:ext cx="21607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48360" y="5229360"/>
            <a:ext cx="1900440" cy="1164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427640" y="4797360"/>
            <a:ext cx="1806480" cy="18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ОБРЫЙ СОВ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Азбуку города помни всег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Чтоб не случилась с тобою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бе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16000" y="4005360"/>
            <a:ext cx="2062080" cy="2517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651640" y="4076640"/>
            <a:ext cx="3095640" cy="2502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презентац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ающийся 2 класса МОУ Дровнинская средняя шко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ведев Е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.03.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од, в котором мы с вами жи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по праву сравнить с букв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збукой улиц, проспектом до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од всё время даёт нам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т она, азбука над гол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и развешаны вдоль мост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збуку города помни всегда, чтоб не случилась с тобою б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7" descr="7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0" y="0"/>
            <a:ext cx="4038480" cy="136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Untitled-1 copy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219640" y="260280"/>
            <a:ext cx="3381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ДОРОЖНЫЕ 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Знаки все мы знать долж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Чтобы, выехав на ры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Не остались дружно 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И без ног, и без боти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В красном треуголь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Знаки осторож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Они предупреждаю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К вниманью призыв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Запрещают 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Разное движение: обгоны, поворо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И в красные кружоч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Обводит их на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 ещё есть знаки- добрые друзь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Укажут направления вашего движ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де поесть, заправиться, посп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 как в деревню к бабушке поп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aivezvz[1]"/>
          <p:cNvPicPr/>
          <p:nvPr/>
        </p:nvPicPr>
        <p:blipFill>
          <a:blip r:embed="rId2"/>
          <a:stretch/>
        </p:blipFill>
        <p:spPr>
          <a:xfrm>
            <a:off x="7093080" y="414972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12"/>
          <p:cNvPicPr/>
          <p:nvPr/>
        </p:nvPicPr>
        <p:blipFill>
          <a:blip r:embed="rId3">
            <a:lum contrast="48000"/>
          </a:blip>
          <a:stretch/>
        </p:blipFill>
        <p:spPr>
          <a:xfrm rot="20484600">
            <a:off x="4642920" y="3789000"/>
            <a:ext cx="2286000" cy="204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Untitled-1 copy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5867280" y="1341360"/>
            <a:ext cx="27194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ВЕ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ТО</a:t>
            </a: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Ф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виду грозный и серьёз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ень грозный светоф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перекрёстка, с перекрё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меня глядит в уп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ё, что хочет он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умею, я ум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глазам его чи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т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зелён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жёлт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kf44ovig[1]"/>
          <p:cNvPicPr/>
          <p:nvPr/>
        </p:nvPicPr>
        <p:blipFill>
          <a:blip r:embed="rId1"/>
          <a:stretch/>
        </p:blipFill>
        <p:spPr>
          <a:xfrm>
            <a:off x="6588000" y="1557360"/>
            <a:ext cx="255600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8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imes New Roman"/>
              </a:rPr>
              <a:t>ПРАВИЛА СВЕТОФ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амый строгий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с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Если он гор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топ! Дороги да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уть для всех закры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48360" y="1171440"/>
            <a:ext cx="360036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горелся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жёлты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– нужно остановиться и посмотреть налево и  на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Ждите зелёного сигнал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348000" y="404640"/>
            <a:ext cx="265752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 за ним</a:t>
            </a:r>
            <a:r>
              <a:rPr b="1" lang="en-US" sz="3200" spc="-1" strike="noStrike">
                <a:solidFill>
                  <a:srgbClr val="2d1fe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зелёный</a:t>
            </a:r>
            <a:r>
              <a:rPr b="1" lang="en-US" sz="3200" spc="-1" strike="noStrike">
                <a:solidFill>
                  <a:srgbClr val="2d1fe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пыхне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ажет он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пятствий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мело в путь ид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64000" y="549360"/>
            <a:ext cx="35863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руки были ц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ноги были це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и эти надо зн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о знаки уваж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1"/>
          <p:cNvPicPr/>
          <p:nvPr/>
        </p:nvPicPr>
        <p:blipFill>
          <a:blip r:embed="rId1"/>
          <a:stretch/>
        </p:blipFill>
        <p:spPr>
          <a:xfrm>
            <a:off x="5435640" y="1413000"/>
            <a:ext cx="3303720" cy="4392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29512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АМ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. Не играйте на проезжей части до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.Будьте внимательны на улицах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.Переходите улицу только на зелёный свет или там, где есть знак «Пешеходный перех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. Ходите только по тротуару, придерживаясь правой ст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5. Стоящий на остановке автобус  обходите только сз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28:45Z</dcterms:created>
  <dc:creator>Медведев Егор и мама.</dc:creator>
  <dc:description/>
  <dc:language>en-US</dc:language>
  <cp:lastModifiedBy>Gagarin</cp:lastModifiedBy>
  <dcterms:modified xsi:type="dcterms:W3CDTF">2009-03-16T17:34:16Z</dcterms:modified>
  <cp:revision>3</cp:revision>
  <dc:subject/>
  <dc:title>Слайд 1</dc:title>
</cp:coreProperties>
</file>