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11.gif" ContentType="image/gif"/>
  <Override PartName="/ppt/media/image9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13E-F356-4E70-A709-02E5F5BD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70A-BCDE-4FD3-B171-3882C8F6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C9F-BFF2-4884-9137-35521FD3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4BB-1002-45E7-A235-4DC63ADF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8CD-1562-45B6-9094-328E28D6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C7A-216E-4467-89A3-554BA10E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3C6-6D58-4ED9-A1E2-23173C67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A38-2D61-4F45-ABA4-3BB8B83A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C70-69ED-4832-90B7-1A667043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796-18BF-47F9-A7C2-B4ABB77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628-D495-4A50-B267-E076D0CA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6A7-7C0C-45D4-B5B8-FF43047A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15D6-90F5-4F8F-BAF4-0C622F2BB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708360" y="76500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en-US" sz="9600" spc="-1" strike="noStrike">
                <a:solidFill>
                  <a:srgbClr val="ffff00"/>
                </a:solidFill>
                <a:latin typeface="Comic Sans MS"/>
              </a:rPr>
              <a:t>з</a:t>
            </a:r>
            <a:r>
              <a:rPr b="1" lang="en-US" sz="9600" spc="-1" strike="noStrike">
                <a:solidFill>
                  <a:srgbClr val="008000"/>
                </a:solidFill>
                <a:latin typeface="Comic Sans MS"/>
              </a:rPr>
              <a:t>б</a:t>
            </a:r>
            <a:r>
              <a:rPr b="1" lang="en-US" sz="9600" spc="-1" strike="noStrike">
                <a:solidFill>
                  <a:srgbClr val="ff0066"/>
                </a:solidFill>
                <a:latin typeface="Comic Sans MS"/>
              </a:rPr>
              <a:t>у</a:t>
            </a:r>
            <a:r>
              <a:rPr b="1" lang="en-US" sz="9600" spc="-1" strike="noStrike">
                <a:solidFill>
                  <a:srgbClr val="ffff00"/>
                </a:solidFill>
                <a:latin typeface="Comic Sans MS"/>
              </a:rPr>
              <a:t>к</a:t>
            </a:r>
            <a:r>
              <a:rPr b="1" lang="en-US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96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en-US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en-US" sz="9600" spc="-1" strike="noStrike">
                <a:solidFill>
                  <a:srgbClr val="008000"/>
                </a:solidFill>
                <a:latin typeface="Comic Sans MS"/>
              </a:rPr>
              <a:t>р</a:t>
            </a:r>
            <a:r>
              <a:rPr b="1" lang="en-US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en-US" sz="96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1" lang="en-US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211640" y="3860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619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4"/>
          <p:cNvPicPr/>
          <p:nvPr/>
        </p:nvPicPr>
        <p:blipFill>
          <a:blip r:embed="rId1"/>
          <a:stretch/>
        </p:blipFill>
        <p:spPr>
          <a:xfrm>
            <a:off x="1042920" y="0"/>
            <a:ext cx="2160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48360" y="5229360"/>
            <a:ext cx="190044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27640" y="4797360"/>
            <a:ext cx="1806480" cy="18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ОБРЫЙ СО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Азбуку города помни всег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тоб не случилась с тобою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бе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2062080" cy="2517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3095640" cy="250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езента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 2 класса МОУ Дровнинская средняя шко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ведев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03.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од, в котором мы с вами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по праву сравнить с букв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букой улиц, проспектом д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од всё время даёт нам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она, азбука над гол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и развешаны вдоль мост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буку города помни всегда, чтоб не случилась с тобою б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" descr="7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0" y="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219640" y="260280"/>
            <a:ext cx="3381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aivezvz[1]"/>
          <p:cNvPicPr/>
          <p:nvPr/>
        </p:nvPicPr>
        <p:blipFill>
          <a:blip r:embed="rId2"/>
          <a:stretch/>
        </p:blipFill>
        <p:spPr>
          <a:xfrm>
            <a:off x="7093080" y="41497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12"/>
          <p:cNvPicPr/>
          <p:nvPr/>
        </p:nvPicPr>
        <p:blipFill>
          <a:blip r:embed="rId3">
            <a:lum contrast="48000"/>
          </a:blip>
          <a:stretch/>
        </p:blipFill>
        <p:spPr>
          <a:xfrm rot="20484600">
            <a:off x="4642920" y="3789000"/>
            <a:ext cx="2286000" cy="204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Untitled-1 copy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867280" y="1341360"/>
            <a:ext cx="2719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ВЕ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ТО</a:t>
            </a: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иду грозный и серьёз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грозный свето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ерекрёстка, с перекрё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меня глядит в у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ё, что хочет он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умею, я ум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глазам его 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т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зелё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жёлт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kf44ovig[1]"/>
          <p:cNvPicPr/>
          <p:nvPr/>
        </p:nvPicPr>
        <p:blipFill>
          <a:blip r:embed="rId1"/>
          <a:stretch/>
        </p:blipFill>
        <p:spPr>
          <a:xfrm>
            <a:off x="6588000" y="1557360"/>
            <a:ext cx="25560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ПРАВИЛА СВЕТОФ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амый строгий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с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Если он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оп! Дороги да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уть для всех закр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48360" y="1171440"/>
            <a:ext cx="3600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горелс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жёлты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– нужно остановиться и посмотреть налево и  на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дите зелёного сигнал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48000" y="404640"/>
            <a:ext cx="265752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за ним</a:t>
            </a:r>
            <a:r>
              <a:rPr b="1" lang="en-US" sz="3200" spc="-1" strike="noStrike">
                <a:solidFill>
                  <a:srgbClr val="2d1fe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зелёный</a:t>
            </a:r>
            <a:r>
              <a:rPr b="1" lang="en-US" sz="3200" spc="-1" strike="noStrike">
                <a:solidFill>
                  <a:srgbClr val="2d1fe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пыхне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ажет о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пятствий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мело в путь и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64000" y="549360"/>
            <a:ext cx="35863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руки были ц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ноги были це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и эти надо зн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знаки уваж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1"/>
          <p:cNvPicPr/>
          <p:nvPr/>
        </p:nvPicPr>
        <p:blipFill>
          <a:blip r:embed="rId1"/>
          <a:stretch/>
        </p:blipFill>
        <p:spPr>
          <a:xfrm>
            <a:off x="5435640" y="1413000"/>
            <a:ext cx="3303720" cy="43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29512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. Не играйте на проезжей части до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.Будьте внимательны на улицах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Переходите улицу только на зелёный свет или там, где есть знак «Пешеходный перех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 Ходите только по тротуару, придерживаясь правой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. Стоящий на остановке автобус  обходите только сз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28:45Z</dcterms:created>
  <dc:creator>Медведев Егор и мама.</dc:creator>
  <dc:description/>
  <dc:language>en-US</dc:language>
  <cp:lastModifiedBy>Gagarin</cp:lastModifiedBy>
  <dcterms:modified xsi:type="dcterms:W3CDTF">2009-03-16T17:34:16Z</dcterms:modified>
  <cp:revision>3</cp:revision>
  <dc:subject/>
  <dc:title>Слайд 1</dc:title>
</cp:coreProperties>
</file>