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B72-A023-4A99-B113-CE8A8A73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700-73AB-4F84-8BE3-7C043551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8D7-55D5-442E-971E-DD6F524F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B8A-3160-4365-9E9F-DD1B99DD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AB4-8B76-4C38-AE3D-52C276FE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C2B-451C-43DB-8A44-AAC4152C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1B6-AE5B-457C-A85F-66531435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79E-A9B2-4C39-835E-9E4C0F1A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F6D-564D-4E94-9EF8-4AE02092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370-F3D6-4D79-8CEF-2D9C5334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9E4-6E8C-460F-9CD1-360A6702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530-186D-4B91-A8BC-C645D182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035F-F354-4DDC-B1B1-09ACADC0A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your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teams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ptain of our teams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! My name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favourit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9:29:16Z</dcterms:created>
  <dc:creator>Ирина</dc:creator>
  <dc:description/>
  <dc:language>en-US</dc:language>
  <cp:lastModifiedBy>Ирина</cp:lastModifiedBy>
  <dcterms:modified xsi:type="dcterms:W3CDTF">2013-02-11T19:29:33Z</dcterms:modified>
  <cp:revision>1</cp:revision>
  <dc:subject/>
  <dc:title>Present your team</dc:title>
</cp:coreProperties>
</file>