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09A-EF72-4E65-B102-D471FA9B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03F-635F-41B3-B9D2-50FC69E5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29C-A991-4632-8067-238A5740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039-4EF0-43D6-A336-78FD0834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0A5-F4A3-4082-A278-ABACF5E5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23F-3AEF-480D-B9C2-74A720AD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660-E419-43B2-85E9-0FB3360D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D56-07CC-4FFE-AF79-6AACB8F1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DD7-F5C9-4542-B0E2-D057D84B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C41-3AE7-4BDA-B0F5-04E2D1B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2EB-7FB8-4604-A2E4-F5AA06E9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B6F-0430-41B5-AEB9-E420567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FA7A-EAE5-48C9-ADDF-431C54EEC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your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teams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ptain of our teams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! My nam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favourit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29:33Z</dcterms:modified>
  <cp:revision>1</cp:revision>
  <dc:subject/>
  <dc:title>Present your team</dc:title>
</cp:coreProperties>
</file>