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7D1-7777-49C8-9A50-2448A973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310-36F3-4C5E-80E0-F0498E96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429-C55C-4B16-A80B-352081A1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AF8-FDBA-45E0-A98F-00FE9007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970-57C8-4A99-9AE4-4772DEC3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0B7-2637-41F5-86ED-EFAA24A8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562-7E7A-4AE6-B7EA-3F5625C6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B07-6CF8-44DF-8014-D35C32D6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BB9-3C65-498F-ACB8-583F5FB6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C8C-4251-4C6E-8FB5-104E4D91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2D0-591D-41C2-B59F-70C76B00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02B-7B68-4C2B-9F4F-F1F4CEDD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EB57-3CCD-44EE-AB09-EBDE4E3DE1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9817"/>
                </a:solidFill>
                <a:latin typeface="Arial"/>
              </a:rPr>
              <a:t>ИСКУССТВО</a:t>
            </a:r>
            <a:br>
              <a:rPr sz="5400"/>
            </a:br>
            <a:r>
              <a:rPr b="0" lang="en-US" sz="5400" spc="-1" strike="noStrike">
                <a:solidFill>
                  <a:srgbClr val="f99817"/>
                </a:solidFill>
                <a:latin typeface="Arial"/>
              </a:rPr>
              <a:t> ХОХЛОМЫ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5003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458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9817"/>
                </a:solidFill>
                <a:latin typeface="Arial"/>
              </a:rPr>
              <a:t>ПРОЦЕСС</a:t>
            </a:r>
            <a:br>
              <a:rPr sz="4800"/>
            </a:br>
            <a:r>
              <a:rPr b="0" lang="en-US" sz="4800" spc="-1" strike="noStrike">
                <a:solidFill>
                  <a:srgbClr val="f99817"/>
                </a:solidFill>
                <a:latin typeface="Arial"/>
              </a:rPr>
              <a:t>ПРОИЗВОДСТВА</a:t>
            </a:r>
            <a:br>
              <a:rPr sz="36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Рисунок 6" descr="Scan0001.tif"/>
          <p:cNvPicPr/>
          <p:nvPr/>
        </p:nvPicPr>
        <p:blipFill>
          <a:blip r:embed="rId1"/>
          <a:stretch/>
        </p:blipFill>
        <p:spPr>
          <a:xfrm>
            <a:off x="457200" y="1855800"/>
            <a:ext cx="3178080" cy="189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80000" y="1700280"/>
            <a:ext cx="46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Заготовка издел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C:\Documents and Settings\Администратор\Мои документы\Мои рисунки\Зима\хохлома\коллекция хохломы\01.gif"/>
          <p:cNvPicPr/>
          <p:nvPr/>
        </p:nvPicPr>
        <p:blipFill>
          <a:blip r:embed="rId2"/>
          <a:stretch/>
        </p:blipFill>
        <p:spPr>
          <a:xfrm>
            <a:off x="0" y="4292640"/>
            <a:ext cx="1662120" cy="192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79640" y="2349360"/>
            <a:ext cx="635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Грунтовка глиной- «вапили»(ва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7" descr="C:\Documents and Settings\Администратор\Мои документы\Мои рисунки\Зима\хохлома\коллекция хохломы\02.gif"/>
          <p:cNvPicPr/>
          <p:nvPr/>
        </p:nvPicPr>
        <p:blipFill>
          <a:blip r:embed="rId3"/>
          <a:stretch/>
        </p:blipFill>
        <p:spPr>
          <a:xfrm>
            <a:off x="468360" y="4292640"/>
            <a:ext cx="1654200" cy="194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80000" y="342900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Натирали серебристым порошком – луди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8" descr="C:\Documents and Settings\Администратор\Мои документы\Мои рисунки\Зима\хохлома\коллекция хохломы\03.gif"/>
          <p:cNvPicPr/>
          <p:nvPr/>
        </p:nvPicPr>
        <p:blipFill>
          <a:blip r:embed="rId4"/>
          <a:stretch/>
        </p:blipFill>
        <p:spPr>
          <a:xfrm>
            <a:off x="971640" y="4292640"/>
            <a:ext cx="16048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51280" y="4653000"/>
            <a:ext cx="23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Рос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9" descr="C:\Documents and Settings\Администратор\Мои документы\Мои рисунки\Зима\хохлома\коллекция хохломы\o4.gif"/>
          <p:cNvPicPr/>
          <p:nvPr/>
        </p:nvPicPr>
        <p:blipFill>
          <a:blip r:embed="rId5"/>
          <a:stretch/>
        </p:blipFill>
        <p:spPr>
          <a:xfrm>
            <a:off x="1476360" y="4292640"/>
            <a:ext cx="162252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24360" y="522936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Покрытие ла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калка в п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130480" y="4365720"/>
            <a:ext cx="17254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32320" cy="2631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3865680"/>
            <a:ext cx="3203640" cy="2992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69040" y="3645000"/>
            <a:ext cx="2874960" cy="299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276720" y="765000"/>
            <a:ext cx="2778120" cy="247032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3" descr="паис.bmp"/>
          <p:cNvPicPr/>
          <p:nvPr/>
        </p:nvPicPr>
        <p:blipFill>
          <a:blip r:embed="rId5"/>
          <a:stretch/>
        </p:blipFill>
        <p:spPr>
          <a:xfrm>
            <a:off x="179280" y="189000"/>
            <a:ext cx="2737080" cy="273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276720" y="3573360"/>
            <a:ext cx="288108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356000" y="1413000"/>
            <a:ext cx="465480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99817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ТРАВНЫЙ </a:t>
            </a:r>
            <a:br>
              <a:rPr sz="5400"/>
            </a:b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ОРНАМЕНТ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22644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99817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4358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УЗОР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ЯГОД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9280" y="333000"/>
            <a:ext cx="4470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9817"/>
                </a:solidFill>
                <a:latin typeface="Arial"/>
              </a:rPr>
              <a:t>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contrast="24000"/>
          </a:blip>
          <a:srcRect l="0" t="5748" r="0" b="0"/>
          <a:stretch/>
        </p:blipFill>
        <p:spPr>
          <a:xfrm>
            <a:off x="3348000" y="981000"/>
            <a:ext cx="5618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99817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УЗОР</a:t>
            </a:r>
            <a:br>
              <a:rPr sz="5400"/>
            </a:b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ЛИСТО-</a:t>
            </a:r>
            <a:br>
              <a:rPr sz="5400"/>
            </a:br>
            <a:r>
              <a:rPr b="0" lang="en-US" sz="5400" spc="-1" strike="noStrike">
                <a:solidFill>
                  <a:srgbClr val="f99817"/>
                </a:solidFill>
                <a:latin typeface="Times New Roman"/>
              </a:rPr>
              <a:t>   ЧКИ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6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contrast="12000"/>
          </a:blip>
          <a:srcRect l="0" t="3819" r="0" b="0"/>
          <a:stretch/>
        </p:blipFill>
        <p:spPr>
          <a:xfrm>
            <a:off x="3817800" y="981000"/>
            <a:ext cx="51642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14:07Z</dcterms:created>
  <dc:creator>VIKTOR</dc:creator>
  <dc:description/>
  <dc:language>en-US</dc:language>
  <cp:lastModifiedBy>VIKTOR</cp:lastModifiedBy>
  <dcterms:modified xsi:type="dcterms:W3CDTF">2010-01-18T19:53:51Z</dcterms:modified>
  <cp:revision>8</cp:revision>
  <dc:subject/>
  <dc:title>Слайд 1</dc:title>
</cp:coreProperties>
</file>