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039-7217-4468-8460-2D3A382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69D-5D4E-48EF-92CA-6CDFFDB9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132-1841-4694-AE7F-0C9F6F6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2E4-2BFF-4EF2-AA86-701E490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AF4-C5A1-4722-990B-B0155C4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158-EAFA-403C-B757-BEC14C4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3D1-E282-4330-AC75-06308C72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7D1-EC11-4977-B43C-2AD690C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5F7-EBF9-4550-AB2E-8D7ED7CD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1A1-91A2-479F-8E62-BAE3E136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A30-7B9B-40A1-A128-654E727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1F5-468D-4E00-B0A6-67E89CD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F8A-2F1C-4A01-8331-A34AC01EAD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ИСКУССТВО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 ХОХЛОМЫ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0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9817"/>
                </a:solidFill>
                <a:latin typeface="Arial"/>
              </a:rPr>
              <a:t>ПРОЦЕСС</a:t>
            </a:r>
            <a:br>
              <a:rPr sz="4800"/>
            </a:br>
            <a:r>
              <a:rPr b="0" lang="en-US" sz="4800" spc="-1" strike="noStrike">
                <a:solidFill>
                  <a:srgbClr val="f99817"/>
                </a:solidFill>
                <a:latin typeface="Arial"/>
              </a:rPr>
              <a:t>ПРОИЗВОДСТВА</a:t>
            </a:r>
            <a:br>
              <a:rPr sz="36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Рисунок 6" descr="Scan0001.tif"/>
          <p:cNvPicPr/>
          <p:nvPr/>
        </p:nvPicPr>
        <p:blipFill>
          <a:blip r:embed="rId1"/>
          <a:stretch/>
        </p:blipFill>
        <p:spPr>
          <a:xfrm>
            <a:off x="457200" y="1855800"/>
            <a:ext cx="3178080" cy="189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80000" y="1700280"/>
            <a:ext cx="46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Заготовка издел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C:\Documents and Settings\Администратор\Мои документы\Мои рисунки\Зима\хохлома\коллекция хохломы\01.gif"/>
          <p:cNvPicPr/>
          <p:nvPr/>
        </p:nvPicPr>
        <p:blipFill>
          <a:blip r:embed="rId2"/>
          <a:stretch/>
        </p:blipFill>
        <p:spPr>
          <a:xfrm>
            <a:off x="0" y="4292640"/>
            <a:ext cx="1662120" cy="192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79640" y="234936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рунтовка глиной- «вапили»(ва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C:\Documents and Settings\Администратор\Мои документы\Мои рисунки\Зима\хохлома\коллекция хохломы\02.gif"/>
          <p:cNvPicPr/>
          <p:nvPr/>
        </p:nvPicPr>
        <p:blipFill>
          <a:blip r:embed="rId3"/>
          <a:stretch/>
        </p:blipFill>
        <p:spPr>
          <a:xfrm>
            <a:off x="468360" y="4292640"/>
            <a:ext cx="165420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80000" y="342900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атирали серебристым порошком – луди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8" descr="C:\Documents and Settings\Администратор\Мои документы\Мои рисунки\Зима\хохлома\коллекция хохломы\03.gif"/>
          <p:cNvPicPr/>
          <p:nvPr/>
        </p:nvPicPr>
        <p:blipFill>
          <a:blip r:embed="rId4"/>
          <a:stretch/>
        </p:blipFill>
        <p:spPr>
          <a:xfrm>
            <a:off x="971640" y="4292640"/>
            <a:ext cx="16048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51280" y="465300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Рос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C:\Documents and Settings\Администратор\Мои документы\Мои рисунки\Зима\хохлома\коллекция хохломы\o4.gif"/>
          <p:cNvPicPr/>
          <p:nvPr/>
        </p:nvPicPr>
        <p:blipFill>
          <a:blip r:embed="rId5"/>
          <a:stretch/>
        </p:blipFill>
        <p:spPr>
          <a:xfrm>
            <a:off x="1476360" y="4292640"/>
            <a:ext cx="162252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522936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Покрытие л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ка в п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130480" y="4365720"/>
            <a:ext cx="1725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32320" cy="263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865680"/>
            <a:ext cx="3203640" cy="2992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69040" y="3645000"/>
            <a:ext cx="2874960" cy="299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76720" y="765000"/>
            <a:ext cx="277812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паис.bmp"/>
          <p:cNvPicPr/>
          <p:nvPr/>
        </p:nvPicPr>
        <p:blipFill>
          <a:blip r:embed="rId5"/>
          <a:stretch/>
        </p:blipFill>
        <p:spPr>
          <a:xfrm>
            <a:off x="179280" y="18900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76720" y="3573360"/>
            <a:ext cx="28810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356000" y="1413000"/>
            <a:ext cx="46548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99817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ТРАВНЫЙ 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ОРНАМЕНТ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264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9981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УЗОР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ЯГОД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333000"/>
            <a:ext cx="4470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contrast="24000"/>
          </a:blip>
          <a:srcRect l="0" t="5748" r="0" b="0"/>
          <a:stretch/>
        </p:blipFill>
        <p:spPr>
          <a:xfrm>
            <a:off x="3348000" y="981000"/>
            <a:ext cx="561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99817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УЗОР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ЛИСТО-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   ЧКИ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2000"/>
          </a:blip>
          <a:srcRect l="0" t="3819" r="0" b="0"/>
          <a:stretch/>
        </p:blipFill>
        <p:spPr>
          <a:xfrm>
            <a:off x="3817800" y="981000"/>
            <a:ext cx="51642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4:07Z</dcterms:created>
  <dc:creator>VIKTOR</dc:creator>
  <dc:description/>
  <dc:language>en-US</dc:language>
  <cp:lastModifiedBy>VIKTOR</cp:lastModifiedBy>
  <dcterms:modified xsi:type="dcterms:W3CDTF">2010-01-18T19:53:51Z</dcterms:modified>
  <cp:revision>8</cp:revision>
  <dc:subject/>
  <dc:title>Слайд 1</dc:title>
</cp:coreProperties>
</file>