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844-95DA-4F69-9B65-6DFABB0B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01A-4786-4D38-ADC7-350C8770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C4F-A59B-4F86-98CA-EA274738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F1D-B461-4D73-AB06-E39F9E28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A4F-4E06-47F0-9C26-CAB0454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26E-F01D-40F9-9FB1-6CC97EF0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C72-15DD-49A5-B3C0-19B4F7C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E57-A6A6-445E-91CA-0A120D06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35C-51AD-426E-AA6D-96547A46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3F7-3AC4-4184-9343-645FD85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288-3904-4DE4-A8CB-FD3D9A55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36E-39C0-4BFC-9E6B-893E2F1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A520-26BE-430B-8557-A6FF9D157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19280" y="907920"/>
            <a:ext cx="7704000" cy="568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 народная кук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7" descr="5"/>
          <p:cNvPicPr/>
          <p:nvPr/>
        </p:nvPicPr>
        <p:blipFill>
          <a:blip r:embed="rId3"/>
          <a:stretch/>
        </p:blipFill>
        <p:spPr>
          <a:xfrm>
            <a:off x="2714760" y="1571760"/>
            <a:ext cx="3929040" cy="5099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427280" y="549360"/>
            <a:ext cx="47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 праздник Ивана Купалы делали на крестообразной основе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па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наряжали в женские одежды (рубаху, сарафан, пояс). На руки Купавки вешали ленточки — заветные девичьи желания, потом их отправляли плыть по реке. Ленточки, плывущие по реке, забирали с собой несчастья и невз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"/>
          <p:cNvPicPr/>
          <p:nvPr/>
        </p:nvPicPr>
        <p:blipFill>
          <a:blip r:embed="rId1"/>
          <a:stretch/>
        </p:blipFill>
        <p:spPr>
          <a:xfrm>
            <a:off x="539640" y="981000"/>
            <a:ext cx="3592800" cy="4896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укла -крест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Admin\Desktop\SAM_00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857160"/>
            <a:ext cx="4929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 руки куклу беру,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ерегом назову.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т болезней огради, 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 дом удачу прив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Admin\Desktop\SAM_0014.JPG"/>
          <p:cNvPicPr/>
          <p:nvPr/>
        </p:nvPicPr>
        <p:blipFill>
          <a:blip r:embed="rId1"/>
          <a:stretch/>
        </p:blipFill>
        <p:spPr>
          <a:xfrm>
            <a:off x="5286240" y="1143000"/>
            <a:ext cx="3500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"/>
              </a:rPr>
              <a:t>Куклы-обере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глубокой древности у кукол было другое предназначение, она была человеку защитой от болезней, несчастий, злых духов. Кукла берегла человека, ее так и называли: оберег или береги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DSCN1710"/>
          <p:cNvPicPr/>
          <p:nvPr/>
        </p:nvPicPr>
        <p:blipFill>
          <a:blip r:embed="rId1"/>
          <a:stretch/>
        </p:blipFill>
        <p:spPr>
          <a:xfrm>
            <a:off x="6572160" y="3643200"/>
            <a:ext cx="2357640" cy="2954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6" name="Picture 9" descr="DSCN1754"/>
          <p:cNvPicPr/>
          <p:nvPr/>
        </p:nvPicPr>
        <p:blipFill>
          <a:blip r:embed="rId2"/>
          <a:stretch/>
        </p:blipFill>
        <p:spPr>
          <a:xfrm>
            <a:off x="2643120" y="3643200"/>
            <a:ext cx="3714840" cy="3043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7" name="Picture 11" descr="DSCN1709"/>
          <p:cNvPicPr/>
          <p:nvPr/>
        </p:nvPicPr>
        <p:blipFill>
          <a:blip r:embed="rId3"/>
          <a:stretch/>
        </p:blipFill>
        <p:spPr>
          <a:xfrm>
            <a:off x="142920" y="3643200"/>
            <a:ext cx="2057400" cy="299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очему у народной куклы нет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4200" y="1052280"/>
            <a:ext cx="42148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радиционная тряпичная кукла безлика. Кукла без лица считалась предметом неодушевленным, недоступным для вселения в него злых, недобрых сил, а значит, и безвредным для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DSCN1735"/>
          <p:cNvPicPr/>
          <p:nvPr/>
        </p:nvPicPr>
        <p:blipFill>
          <a:blip r:embed="rId1"/>
          <a:stretch/>
        </p:blipFill>
        <p:spPr>
          <a:xfrm>
            <a:off x="4572000" y="1143000"/>
            <a:ext cx="4390920" cy="5357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60512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Пеленашка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—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elenash"/>
          <p:cNvPicPr/>
          <p:nvPr/>
        </p:nvPicPr>
        <p:blipFill>
          <a:blip r:embed="rId1"/>
          <a:stretch/>
        </p:blipFill>
        <p:spPr>
          <a:xfrm>
            <a:off x="5357880" y="1071720"/>
            <a:ext cx="3000240" cy="4857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3" name="Picture 5" descr="DSCN1742"/>
          <p:cNvPicPr/>
          <p:nvPr/>
        </p:nvPicPr>
        <p:blipFill>
          <a:blip r:embed="rId2"/>
          <a:stretch/>
        </p:blipFill>
        <p:spPr>
          <a:xfrm>
            <a:off x="500040" y="1214280"/>
            <a:ext cx="3714840" cy="457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143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Парочка»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еразлучники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женской и мужской фигуры общая рука — символ крепкого брачного союза. Куклу дарили молодым на свадьбе, закрепленную на полотенце. Когда рождался в молодой семье первый ребенок, полотенцем начинали пользоваться, а куклу давали ребенку или хранили всю жизнь как оберег семьи и бра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5214960" y="428760"/>
            <a:ext cx="3751200" cy="328752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56" name="Picture 5" descr="Svadebnaya"/>
          <p:cNvPicPr/>
          <p:nvPr/>
        </p:nvPicPr>
        <p:blipFill>
          <a:blip r:embed="rId2"/>
          <a:stretch/>
        </p:blipFill>
        <p:spPr>
          <a:xfrm>
            <a:off x="5214960" y="3786120"/>
            <a:ext cx="3786120" cy="2857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72080" y="476280"/>
            <a:ext cx="3571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Зернушка -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крупеничк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 кукла, которая символизировала достаток в доме, была своего рода оберегом семьи. Делали эту куклу после сбора урожая. В основе этой куклы- мешочек, наполненный зер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DSCN1785"/>
          <p:cNvPicPr/>
          <p:nvPr/>
        </p:nvPicPr>
        <p:blipFill>
          <a:blip r:embed="rId1"/>
          <a:stretch/>
        </p:blipFill>
        <p:spPr>
          <a:xfrm>
            <a:off x="179280" y="357120"/>
            <a:ext cx="5464440" cy="6072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59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южных губерниях России существовала кукла — оберег жилища, называема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День и Ночь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она относится к двуликим или парным куклам). Она была изготовлена из тканей темных и светлых тонов. Светлая ткань символизировала день, а темная ткань—ночь. Рано утром, ежедневно её поворачивали светлой стороной (на день), а вечером- темной (на ночь).  Говорили: «День прошел, и слава Богу, пусть так же пройдет и ноч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9"/>
          <p:cNvPicPr/>
          <p:nvPr/>
        </p:nvPicPr>
        <p:blipFill>
          <a:blip r:embed="rId1"/>
          <a:stretch/>
        </p:blipFill>
        <p:spPr>
          <a:xfrm>
            <a:off x="6000840" y="285840"/>
            <a:ext cx="2892240" cy="271440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1" name="Picture 6" descr="8"/>
          <p:cNvPicPr/>
          <p:nvPr/>
        </p:nvPicPr>
        <p:blipFill>
          <a:blip r:embed="rId2"/>
          <a:stretch/>
        </p:blipFill>
        <p:spPr>
          <a:xfrm>
            <a:off x="6000840" y="3286080"/>
            <a:ext cx="2841480" cy="3022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Куклы-</a:t>
            </a:r>
            <a:r>
              <a:rPr b="0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лихорадки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Двенадцать куколок, спеленутые как младенцы, скрепленные вместе. Их помещали за печкой, чтобы их никто не видел. Лихорадки спасали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DSCN1712"/>
          <p:cNvPicPr/>
          <p:nvPr/>
        </p:nvPicPr>
        <p:blipFill>
          <a:blip r:embed="rId1"/>
          <a:stretch/>
        </p:blipFill>
        <p:spPr>
          <a:xfrm>
            <a:off x="1116000" y="404640"/>
            <a:ext cx="6973920" cy="3807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24360" y="1052280"/>
            <a:ext cx="496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рещенские дни делали куклу 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Крестец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ставили её у ведра с водой, обязательно освящённой. Считалось, что в эти дни вода была святой. Кукла была выполнена на крестообразной основе, её украшали тесёмочками и ленточ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3"/>
          <p:cNvPicPr/>
          <p:nvPr/>
        </p:nvPicPr>
        <p:blipFill>
          <a:blip r:embed="rId1"/>
          <a:stretch/>
        </p:blipFill>
        <p:spPr>
          <a:xfrm>
            <a:off x="395280" y="1052640"/>
            <a:ext cx="3249720" cy="45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1:29Z</dcterms:created>
  <dc:creator>Вера</dc:creator>
  <dc:description/>
  <dc:language>en-US</dc:language>
  <cp:lastModifiedBy>Admin</cp:lastModifiedBy>
  <dcterms:modified xsi:type="dcterms:W3CDTF">2012-04-06T02:44:16Z</dcterms:modified>
  <cp:revision>39</cp:revision>
  <dc:subject/>
  <dc:title>Слайд 1</dc:title>
</cp:coreProperties>
</file>