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784-DAAB-405E-AEDD-6E17358A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18E-3C9D-470F-A61A-64D51653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667-EF5A-44DF-A7EE-BA42DC93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F80-0E8A-430C-86D1-6B4D21B6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D13-613C-454E-9C57-E7306E4A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EAE-EEB5-44A5-81FD-F8404C35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D64-E87E-44A3-AA79-E1021EBD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4A2-51DB-4947-9EC3-8712536B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3DC-94A4-4339-B323-B1342FD9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5A7-B86D-400E-BC96-205561DC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510-62D7-4347-BBA0-D2AE2F53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AB8-6A7E-4F6E-9DC1-519E126A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13BA-6255-4B66-9FC1-7818753C9F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6" descr=""/>
          <p:cNvPicPr/>
          <p:nvPr/>
        </p:nvPicPr>
        <p:blipFill>
          <a:blip r:embed="rId1"/>
          <a:stretch/>
        </p:blipFill>
        <p:spPr>
          <a:xfrm>
            <a:off x="-109440" y="920880"/>
            <a:ext cx="9564480" cy="190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928960" y="3143160"/>
            <a:ext cx="3500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ud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357280" y="1071720"/>
            <a:ext cx="45007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 Animal Stances of Kung F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2143080" cy="288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3714840" y="1428840"/>
            <a:ext cx="1942920" cy="2698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6572160" y="1357200"/>
            <a:ext cx="1930320" cy="279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2206800" y="4143240"/>
            <a:ext cx="1579320" cy="251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5"/>
          <a:stretch/>
        </p:blipFill>
        <p:spPr>
          <a:xfrm>
            <a:off x="4929120" y="4143240"/>
            <a:ext cx="221472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OJ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6415200" cy="48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1357200" y="285840"/>
            <a:ext cx="6286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hite Ninj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68440" y="1571760"/>
            <a:ext cx="61038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Modern Summer Olympic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restling, Javelin, Fencing (1896)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rchery (1900)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oxing (1904)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Judo (1964)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ae Kwon Do (2000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 You a Martial Arts Mast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9-10 poi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you are a true martial arts master who may possess a black belt or tw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7-8 poi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nice work, you are on the right way to becoming a ma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-6 poi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you are no black belt, you’re a few kicks away from being a true ma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0-3 poi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you’re definitely no kung fu fighter. Take some more tr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                  Places </a:t>
            </a:r>
            <a:br>
              <a:rPr sz="4400"/>
            </a:br>
            <a:br>
              <a:rPr sz="4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e, gym, pool, goalkeeper, track, captain, pitch, court, team, coach, amateur, field, ice rink, champion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                      Pl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keep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ate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mp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t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e ri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                  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mb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wimm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a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i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se ri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i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ycl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35684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id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ck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eb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l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sketb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ugb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MARTIAL ARTS</a:t>
            </a:r>
            <a:br>
              <a:rPr sz="5400"/>
            </a:b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ystems of practices and traditions of combat.</a:t>
            </a:r>
            <a:br>
              <a:rPr sz="5400"/>
            </a:b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0040" y="3571560"/>
            <a:ext cx="81439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hysically defeat other persons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defend oneself or others from physical threa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tial Arts Qui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ch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ар кулак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ck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ар ног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t 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л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k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хв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ld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ерж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w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рос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pping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нож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ce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йка, поза, поло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учш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strength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ственная с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defence 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обо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ate” means “open hand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357280" y="1193760"/>
            <a:ext cx="46436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ujits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C:\Documents and Settings\Евгения\Рабочий стол\джиу.gif"/>
          <p:cNvPicPr/>
          <p:nvPr/>
        </p:nvPicPr>
        <p:blipFill>
          <a:blip r:embed="rId1"/>
          <a:stretch/>
        </p:blipFill>
        <p:spPr>
          <a:xfrm>
            <a:off x="2000160" y="1571760"/>
            <a:ext cx="5214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Japanese Samurai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"/>
          <p:cNvPicPr/>
          <p:nvPr/>
        </p:nvPicPr>
        <p:blipFill>
          <a:blip r:embed="rId1"/>
          <a:stretch/>
        </p:blipFill>
        <p:spPr>
          <a:xfrm>
            <a:off x="2143080" y="1571760"/>
            <a:ext cx="4572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0:09:05Z</dcterms:created>
  <dc:creator>SamLab.ws</dc:creator>
  <dc:description/>
  <dc:language>en-US</dc:language>
  <cp:lastModifiedBy>SamLab.ws</cp:lastModifiedBy>
  <dcterms:modified xsi:type="dcterms:W3CDTF">2010-12-19T17:54:20Z</dcterms:modified>
  <cp:revision>27</cp:revision>
  <dc:subject/>
  <dc:title>Слайд 1</dc:title>
</cp:coreProperties>
</file>