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036B-F334-479E-81FE-7388ED8C1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9F21-9399-4D89-BCE9-E1E380E5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B22D-CACD-4241-929E-E3D8CAA54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0433-D93F-4D1C-8CAD-0FBACAB5A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BFAD-13B4-422C-B32B-32388F14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F9E4-7F7B-41EB-8963-EBBCB529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F375-FD85-4129-ADA1-009273D6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FAF1-2B68-45E1-A34C-86219239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C565-5287-4F3D-8A22-EF3A710E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255C-C850-42F9-A15D-ADA6AA94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C833-AC7A-4488-AD91-66B0DB6A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8144-E9E6-4249-86F8-F23F2B3A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185C-7889-469E-8F28-4B8B92A5EF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27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6" descr=""/>
          <p:cNvPicPr/>
          <p:nvPr/>
        </p:nvPicPr>
        <p:blipFill>
          <a:blip r:embed="rId1"/>
          <a:stretch/>
        </p:blipFill>
        <p:spPr>
          <a:xfrm>
            <a:off x="-109440" y="920880"/>
            <a:ext cx="9564480" cy="1901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2928960" y="3143160"/>
            <a:ext cx="35002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Judo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2357280" y="1071720"/>
            <a:ext cx="450072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in Animal Stances of Kung F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85840" y="1428840"/>
            <a:ext cx="2143080" cy="2881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3714840" y="1428840"/>
            <a:ext cx="1942920" cy="2698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3"/>
          <a:stretch/>
        </p:blipFill>
        <p:spPr>
          <a:xfrm>
            <a:off x="6572160" y="1357200"/>
            <a:ext cx="1930320" cy="2792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4"/>
          <a:stretch/>
        </p:blipFill>
        <p:spPr>
          <a:xfrm>
            <a:off x="2206800" y="4143240"/>
            <a:ext cx="1579320" cy="2517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5"/>
          <a:stretch/>
        </p:blipFill>
        <p:spPr>
          <a:xfrm>
            <a:off x="4929120" y="4143240"/>
            <a:ext cx="2214720" cy="25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DOJO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500120" y="1714680"/>
            <a:ext cx="6415200" cy="48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3" descr=""/>
          <p:cNvPicPr/>
          <p:nvPr/>
        </p:nvPicPr>
        <p:blipFill>
          <a:blip r:embed="rId1"/>
          <a:stretch/>
        </p:blipFill>
        <p:spPr>
          <a:xfrm>
            <a:off x="1357200" y="285840"/>
            <a:ext cx="62866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White Ninj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468440" y="1571760"/>
            <a:ext cx="610380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Modern Summer Olympic G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Wrestling, Javelin, Fencing (1896);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rchery (1900);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Boxing (1904);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Judo (1964);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ae Kwon Do (2000)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re You a Martial Arts Mast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9-10 point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you are a true martial arts master who may possess a black belt or tw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7-8 point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nice work, you are on the right way to becoming a mas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4-6 poi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you are no black belt, you’re a few kicks away from being a true mas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0-3 poi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you’re definitely no kung fu fighter. Take some more tr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ople                   Places </a:t>
            </a:r>
            <a:br>
              <a:rPr sz="4400"/>
            </a:br>
            <a:br>
              <a:rPr sz="4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e, gym, pool, goalkeeper, track, captain, pitch, court, team, coach, amateur, field, ice rink, champion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ople                       Pla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keep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tai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a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ateu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mp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y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c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t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el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e rin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                    PL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40384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mb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wimm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kat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ail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rse rid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ki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ycl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356840"/>
            <a:ext cx="40384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rid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cke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asebal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olf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asketbal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ugb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MARTIAL ARTS</a:t>
            </a:r>
            <a:br>
              <a:rPr sz="5400"/>
            </a:b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systems of practices and traditions of combat.</a:t>
            </a:r>
            <a:br>
              <a:rPr sz="5400"/>
            </a:br>
            <a:br>
              <a:rPr sz="5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0040" y="3571560"/>
            <a:ext cx="814392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physically defeat other persons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defend oneself or others from physical threat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artial Arts Qui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85680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nch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дар кулак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ick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дар ног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st -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ула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ck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хва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ld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держи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ow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рос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ipping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нож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nce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ойка, поза, полож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e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лучша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ntal strength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мственная си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f-defence -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ооборо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8000"/>
                            </p:stCondLst>
                            <p:childTnLst>
                              <p:par>
                                <p:cTn id="1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8000"/>
                            </p:stCondLst>
                            <p:childTnLst>
                              <p:par>
                                <p:cTn id="1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0"/>
                            </p:stCondLst>
                            <p:childTnLst>
                              <p:par>
                                <p:cTn id="2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2000"/>
                            </p:stCondLst>
                            <p:childTnLst>
                              <p:par>
                                <p:cTn id="2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arate” means “open hand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357280" y="1193760"/>
            <a:ext cx="464364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Jujitsu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C:\Documents and Settings\Евгения\Рабочий стол\джиу.gif"/>
          <p:cNvPicPr/>
          <p:nvPr/>
        </p:nvPicPr>
        <p:blipFill>
          <a:blip r:embed="rId1"/>
          <a:stretch/>
        </p:blipFill>
        <p:spPr>
          <a:xfrm>
            <a:off x="2000160" y="1571760"/>
            <a:ext cx="52149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Japanese Samurai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3" descr=""/>
          <p:cNvPicPr/>
          <p:nvPr/>
        </p:nvPicPr>
        <p:blipFill>
          <a:blip r:embed="rId1"/>
          <a:stretch/>
        </p:blipFill>
        <p:spPr>
          <a:xfrm>
            <a:off x="2143080" y="1571760"/>
            <a:ext cx="457200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10:09:05Z</dcterms:created>
  <dc:creator>SamLab.ws</dc:creator>
  <dc:description/>
  <dc:language>en-US</dc:language>
  <cp:lastModifiedBy>SamLab.ws</cp:lastModifiedBy>
  <dcterms:modified xsi:type="dcterms:W3CDTF">2010-12-19T17:54:20Z</dcterms:modified>
  <cp:revision>27</cp:revision>
  <dc:subject/>
  <dc:title>Слайд 1</dc:title>
</cp:coreProperties>
</file>