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9BD-7768-4DB1-AC19-857B6DBD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A37-C812-4515-9E46-46B2F5B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EA6-3C38-4588-95A8-E60DF3FE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D88-9D9A-4B38-9675-7CD9D801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A3D-8EE2-4E5F-8468-47E28E27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464-20A9-4A54-A4A1-6E34D02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025-CC33-4D7B-A4E6-F348AE8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1EF-5A51-4B41-B50D-11BB25F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1CE-367F-45C3-BF0D-EEB0FF0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8D6-7C61-4FAD-A5CB-4CD273E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8EF-83D7-4A03-91A5-8EDABEE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E5B-B297-49D3-8C4C-423924C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10A-AC64-43A7-8C60-FBA5F1A52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iki.iot.ru/index.php/&#1048;&#1079;&#1086;&#1073;&#1088;&#1072;&#1078;&#1077;&#1085;&#1080;&#1077;:Toleran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6600cc"/>
                </a:solidFill>
                <a:uFillTx/>
                <a:latin typeface="Arial"/>
              </a:rPr>
              <a:t>Разговор   о толерант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494172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классно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ницыной Г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пасская СОШ Ряза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ед вами две дороги, выбирайт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ой человек и его девушка гуляли по городу. На бордюре сидел плохо одетый пожилой мужчина. Возле него валялась потрепанная сумка. Он тихонько стонал, а в глазах стояли слез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ожди, я подойду к нему, - сказала деву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вздумай. Он грязный, ты подцепишь заразу, - ответил молодой человек, сжав ее ру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пусти. Видишь у него сломана нога. Смотри, у него кровь на штан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нам-то что? Он сам винов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усти мою руку, ты делаешь мне больно. Ему нужна помощ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ворю тебе: он сам во всем виноват. Работать надо, а он попрошайничает, ворует, пьянствует. Зачем ему помога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все равно подойду. – Девушка вырвала ру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тебя не пущу. Ты – моя девушка и не смей общаться со «всякими». Пойдем отсюда, - он попытался увести 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наешь что, я… Да как ты можешь? Ему больно! Больно, ты понимаешь? Нет, ты не понимаешь! Девушка оттолкнула парня и подошла к мужчине. Парень еще раз попытался удержать ее. Она решительно одернула ру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с вами? – спросила она мужчину. – что с вашей но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я сломал ее… кровь у меня. Я не знаю, что делать и где в этом городе больница. Я не отсюда. Мне очень боль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ейчас, сейчас. Позвольте, я посмотрю. Потерпите. Нужно вызвать «скору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ушай, - обратилась девушка к молодому человеку, который подошел к ним, - у тебя нет «мобильника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ь промолчал. Девушка вопросительно посмотрела на него и вдруг почувствовала брезгливость, которая исходила ото всей его позы, взгляда… Она поднялась и приблизилась к парн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ди отсюда! Никогда больше не звони мне и не приходи! Я больше знать тебя не хо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ужели ты из-за какого-то бомжа, алкоголика можешь так поступить? Глупая! Ты пожалеешь об э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ушка пожала плечами и снова опустилась на колени. Парень пошел проч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 вас открытый перелом, - проговорила она. – Я пойду вызвать врача. Потерпите, - она быстро подошла к телефонному аппара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вушка! – окликнул ее мужчина – Спасибо вам! – Девушка обернулась и улыбнула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обязательно найдете себе счаст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4358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молодой человек отказался помоч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бы вы поступили в этом случа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обычно поступаете, если видите, что человеку нужна помощ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ы должны поступать с людьми, которые просят милостын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cc00ff"/>
                </a:solidFill>
                <a:uFillTx/>
                <a:latin typeface="Arial"/>
              </a:rPr>
              <a:t>Сделав добро, человек сам становится лучше, чище, светлее. Если мы будем внимательны к любому человеку, с которым вступаем во взаимодействие, будь то случайный попутчик, бродяга или друг, - это и будет проявление добр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два пути развития лич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леран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олерант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260280"/>
          <a:ext cx="8785080" cy="6470640"/>
        </p:xfrm>
        <a:graphic>
          <a:graphicData uri="http://schemas.openxmlformats.org/drawingml/2006/table">
            <a:tbl>
              <a:tblPr/>
              <a:tblGrid>
                <a:gridCol w="4312080"/>
                <a:gridCol w="447300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Толерантная лич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нтолерантная личность</a:t>
                      </a: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уважение мнения других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доброжела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желание что-либо делать вмест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понимание и принят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чуткость, любозна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снисходи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доверие, гуманизм</a:t>
                      </a:r>
                      <a:r>
                        <a:rPr b="0" lang="en-US" sz="20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пониман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гнорирован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эгоизм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терпим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ыражение пренебрежения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аздражительность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равнодушие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цинизм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немотивированная агрессивн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ерантный п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это путь человека, хорошо знающего себя, комфортно чувствующего себя в окружающей среде, понимающего других людей и готового всегда прийти на помощь, человека с доброжелательным отношением к иным культурам, взглядам, тради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олерантный п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арактеризуется представлением человека о собственной исключительности, низким уровнем воспитанности, чувством дискомфортности существования в окружающей его действительности, желанием власти, непринятием противоположных взглядов, традиций и обыча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к сказ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бы вы назвали поведение короля в начале истор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думаете, почему изменился коро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гда ли в жизни происходят такие измен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у нас учит эта сказ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569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Человек должен стремиться к тому, чтобы изменить себя в лучшую сторону, жить в мире с собой. Единственная настоящая ошибка – не исправлять своих прошлых ошиб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Правила толерантного общ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важай собеседни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Старайся понять то, о чем говорят другие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тстаивай свое мнение такти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Ищи лучшие аргумент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Будь справедливым, готовым принять правоту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Стремись учитывать интере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 – это маленькая семья. И хотелось бы, чтобы в нашей семье всегда царила доброта, уважение, взаимопонимание, не было бы ни ссор, ни ругани. А что же для этого нуж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тайская притча «Ладная семья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Жила-была на свете семья. Она была не простая. Более 100 человек насчитывалось в этой семье. И занимала она целое село. Так и жили всей семьей и всем селом. Вы скажете: ну и что, мало ли больших семейств на свете. Но дело в том, что семья была особая – мир и лад царили в той семье и, стало быть, на селе. Ни ссор, ни ругани, ни, Боже упаси, драк и раздоров. Дошел слух об этой семье до самого владыки страны. И он решил проверить, правду ли молвят люди. Прибыл он в село, и душа его возрадовалась: кругом чистота, красота, достаток и мир. Хорошо детям, спокойно старикам. Удивился владыка. Решил узнать, как жители села добились такого лада, пришел к главе семьи; расскажи, мол, как ты добиваешься такого согласия и мира в твоей семье. Тот взял лист бумаги и стал что-то писать писал долго – видно, не очень силен был в грамоте. Затем передал лист владыке. Тот взял бумагу и стал разбирать каракули старика. Разобрал с трудом и удивился. Три слова были начертаны на бумаг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любов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прощ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терпе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в конце листа: сто раз любовь, сто раз прощение, сто раз терпение. Прочел владыка, почесал, как водится, за ухом и спросил: - И все? - Да, - ответил старик, - это и есть основа жизни всякой хорошей семьи. И, подумав, добавил: - И мира то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9999"/>
                </a:solidFill>
                <a:uFillTx/>
                <a:latin typeface="Arial"/>
              </a:rPr>
              <a:t>«Мы разные – в этом наше богатство, мы вместе – в этом наша сила!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686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и классного ча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уровня культуры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ние уважения к одноклассникам, терпимости к чужому мн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общение к культуре разных на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Толера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 лат. toleranti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терп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спанском язы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о означает способность признавать отличные от своих собственных идеи и м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ранцуз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ношение при котором допускается, что другие могут думать или действовать иначе, нежели ты с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гли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отовность быть терпимым, снисходительны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итай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зволять, принимать, быть по отношению к другим великодушны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раб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щение, снисходительность, мягкость, милосердие, сострадание, благосклонность, терпение, расположенность к друг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русс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пособность терпеть что-то или кого-то (быть выдержанным, выносливым, стойким, уметь мириться с существованием чего-либо, кого-либо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из определений вам импонирует более вс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на ваш взгляд, в разных странах определения различ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что же объединяет эти опреде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так актуальна толерантность в настоящее врем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6 НОЯБРЯ - МЕЖДУНАРОДНЫЙ ДЕНЬ ТОЛЕРАНТНОСТИ (ТЕРПИМОСТИ)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ждународный день терпимости (толерантности) объявлен ЮНЕСКО в ноябре 1995 года по случаю 50-летнего юбилея этой орган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1996 году Генеральная Ассамблея ООН предложила всем государствам  ежегодно 16 ноября отмечать Международный день, посвященный терпимости, приурочивая к нему соответствующие мероприятия, ориентированные как на учебные заведения, так и на широкую обществе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05360"/>
            <a:ext cx="3600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лерант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это уважение, принятие и правильное понимание богатого многообразия культур нашего мира, форм самовыражения и способов проявления человеческой индивидуа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являть толерант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значит признавать то, что люди различаются по внешнему виду, положению, интересам, поведению и ценностям и обладают правом жить в мире, сохраняя при этом свою индивидуальн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Современный культурный челове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не только образованный человек, но человек, обладающий чувством самоуважения и уважаемый окружающ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Толерантность считается признаком высокого духовного и интеллектуального развития индивидуума, группы, общества в ц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333360"/>
          <a:ext cx="8424360" cy="6264000"/>
        </p:xfrm>
        <a:graphic>
          <a:graphicData uri="http://schemas.openxmlformats.org/drawingml/2006/table">
            <a:tbl>
              <a:tblPr/>
              <a:tblGrid>
                <a:gridCol w="3272040"/>
                <a:gridCol w="2048760"/>
                <a:gridCol w="3103560"/>
              </a:tblGrid>
              <a:tr h="20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пимость к чужим мнениям, верованиям, поведе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стр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другого таким, какой он е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олерант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другого таким, какой он е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 прав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трудничество, дух партне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лосердие, Уважение человеческого достоин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7:26:54Z</dcterms:created>
  <dc:creator>DEPO</dc:creator>
  <dc:description/>
  <dc:language>en-US</dc:language>
  <cp:lastModifiedBy>Home</cp:lastModifiedBy>
  <dcterms:modified xsi:type="dcterms:W3CDTF">2013-04-02T16:38:10Z</dcterms:modified>
  <cp:revision>4</cp:revision>
  <dc:subject/>
  <dc:title>Слайд 1</dc:title>
</cp:coreProperties>
</file>