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4FE-B5D1-4851-9F3D-A5EF1263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4C6-95B5-4A49-8D93-1825247B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783-4C96-4C8D-8DF3-C7EB23E7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8A36-62BE-4524-A008-93764CBA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E1E0-CAC9-45DF-B9CA-C52F9DC2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1FB-E3C0-4EE8-8816-ED43B2C7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7EB5-987D-4810-BF88-F5B99482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E24-3FA0-4D76-B770-8980DBF1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0428-05D3-485C-B7DD-05EE5C5F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3CEC-F35D-4F3C-8AF0-B1ED3332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08A-DF41-4456-8A09-234B2A45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1B3-A229-4CC0-B51C-35C63F14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77A3-4AE9-442D-BA3B-3FE69F437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iki.iot.ru/index.php/&#1048;&#1079;&#1086;&#1073;&#1088;&#1072;&#1078;&#1077;&#1085;&#1080;&#1077;:Toleran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6600cc"/>
                </a:solidFill>
                <a:uFillTx/>
                <a:latin typeface="Arial"/>
              </a:rPr>
              <a:t>Разговор   о толерантност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64000" y="494172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классного ч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ницыной Г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Спасская СОШ Ряза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еред вами две дороги, выбирайте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ой человек и его девушка гуляли по городу. На бордюре сидел плохо одетый пожилой мужчина. Возле него валялась потрепанная сумка. Он тихонько стонал, а в глазах стояли слез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ожди, я подойду к нему, - сказала девуш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вздумай. Он грязный, ты подцепишь заразу, - ответил молодой человек, сжав ее рук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тпусти. Видишь у него сломана нога. Смотри, у него кровь на штан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 нам-то что? Он сам винова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усти мою руку, ты делаешь мне больно. Ему нужна помощ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оворю тебе: он сам во всем виноват. Работать надо, а он попрошайничает, ворует, пьянствует. Зачем ему помогать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Я все равно подойду. – Девушка вырвала рук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Я тебя не пущу. Ты – моя девушка и не смей общаться со «всякими». Пойдем отсюда, - он попытался увести 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наешь что, я… Да как ты можешь? Ему больно! Больно, ты понимаешь? Нет, ты не понимаешь! Девушка оттолкнула парня и подошла к мужчине. Парень еще раз попытался удержать ее. Она решительно одернула рук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то с вами? – спросила она мужчину. – что с вашей ног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я сломал ее… кровь у меня. Я не знаю, что делать и где в этом городе больница. Я не отсюда. Мне очень боль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ейчас, сейчас. Позвольте, я посмотрю. Потерпите. Нужно вызвать «скорую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лушай, - обратилась девушка к молодому человеку, который подошел к ним, - у тебя нет «мобильника»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ень промолчал. Девушка вопросительно посмотрела на него и вдруг почувствовала брезгливость, которая исходила ото всей его позы, взгляда… Она поднялась и приблизилась к парн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ди отсюда! Никогда больше не звони мне и не приходи! Я больше знать тебя не хоч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ужели ты из-за какого-то бомжа, алкоголика можешь так поступить? Глупая! Ты пожалеешь об э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ушка пожала плечами и снова опустилась на колени. Парень пошел проч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 вас открытый перелом, - проговорила она. – Я пойду вызвать врача. Потерпите, - она быстро подошла к телефонному аппара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евушка! – окликнул ее мужчина – Спасибо вам! – Девушка обернулась и улыбнула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 обязательно найдете себе счасть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4358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молодой человек отказался помоч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бы вы поступили в этом случа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вы обычно поступаете, если видите, что человеку нужна помощ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мы должны поступать с людьми, которые просят милостын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вод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cc00ff"/>
                </a:solidFill>
                <a:uFillTx/>
                <a:latin typeface="Arial"/>
              </a:rPr>
              <a:t>Сделав добро, человек сам становится лучше, чище, светлее. Если мы будем внимательны к любому человеку, с которым вступаем во взаимодействие, будь то случайный попутчик, бродяга или друг, - это и будет проявление добр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ть два пути развития личнос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олерант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олерант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79280" y="260280"/>
          <a:ext cx="8785080" cy="6470640"/>
        </p:xfrm>
        <a:graphic>
          <a:graphicData uri="http://schemas.openxmlformats.org/drawingml/2006/table">
            <a:tbl>
              <a:tblPr/>
              <a:tblGrid>
                <a:gridCol w="4312080"/>
                <a:gridCol w="447300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Толерантная личност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Интолерантная личность</a:t>
                      </a: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уважение мнения других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доброжелательность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желание что-либо делать вместе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понимание и принятие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чуткость, любознательность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снисходительность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доверие, гуманизм</a:t>
                      </a: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непонимание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игнорирование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эгоизм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нетерпимость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выражение пренебрежения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раздражительность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равнодушие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цинизм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немотивированная агрессивн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лерантный пу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это путь человека, хорошо знающего себя, комфортно чувствующего себя в окружающей среде, понимающего других людей и готового всегда прийти на помощь, человека с доброжелательным отношением к иным культурам, взглядам, традиц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олерантный пу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характеризуется представлением человека о собственной исключительности, низким уровнем воспитанности, чувством дискомфортности существования в окружающей его действительности, желанием власти, непринятием противоположных взглядов, традиций и обыча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к сказ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бы вы назвали поведение короля в начале истори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вы думаете, почему изменился коро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гда ли в жизни происходят такие изменен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у нас учит эта сказк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569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Человек должен стремиться к тому, чтобы изменить себя в лучшую сторону, жить в мире с собой. Единственная настоящая ошибка – не исправлять своих прошлых ошиб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Правила толерантного общени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Уважай собеседник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Старайся понять то, о чем говорят другие.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тстаивай свое мнение такти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Ищи лучшие аргументы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удь справедливым, готовым принять правоту друг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Стремись учитывать интересы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 – это маленькая семья. И хотелось бы, чтобы в нашей семье всегда царила доброта, уважение, взаимопонимание, не было бы ни ссор, ни ругани. А что же для этого нужн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итайская притча «Ладная семья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ла-была на свете семья. Она была не простая. Более 100 человек насчитывалось в этой семье. И занимала она целое село. Так и жили всей семьей и всем селом. Вы скажете: ну и что, мало ли больших семейств на свете. Но дело в том, что семья была особая – мир и лад царили в той семье и, стало быть, на селе. Ни ссор, ни ругани, ни, Боже упаси, драк и раздоров. Дошел слух об этой семье до самого владыки страны. И он решил проверить, правду ли молвят люди. Прибыл он в село, и душа его возрадовалась: кругом чистота, красота, достаток и мир. Хорошо детям, спокойно старикам. Удивился владыка. Решил узнать, как жители села добились такого лада, пришел к главе семьи; расскажи, мол, как ты добиваешься такого согласия и мира в твоей семье. Тот взял лист бумаги и стал что-то писать писал долго – видно, не очень силен был в грамоте. Затем передал лист владыке. Тот взял бумагу и стал разбирать каракули старика. Разобрал с трудом и удивился. Три слова были начертаны на бумаг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любов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прощ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терпен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в конце листа: сто раз любовь, сто раз прощение, сто раз терпение. Прочел владыка, почесал, как водится, за ухом и спросил: - И все? - Да, - ответил старик, - это и есть основа жизни всякой хорошей семьи. И, подумав, добавил: - И мира тож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9999"/>
                </a:solidFill>
                <a:uFillTx/>
                <a:latin typeface="Arial"/>
              </a:rPr>
              <a:t>«Мы разные – в этом наше богатство, мы вместе – в этом наша сила!»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6868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и классного ча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ышение уровня культуры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питание уважения к одноклассникам, терпимости к чужому мн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общение к культуре разных на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"/>
              </a:rPr>
              <a:t>Толеран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 лат. toleranti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2800" spc="-1" strike="noStrike" u="sng">
                <a:solidFill>
                  <a:srgbClr val="009999"/>
                </a:solidFill>
                <a:uFillTx/>
                <a:latin typeface="Arial"/>
              </a:rPr>
              <a:t>терп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спанском язы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но означает способность признавать отличные от своих собственных идеи и м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ранцузс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тношение при котором допускается, что другие могут думать или действовать иначе, нежели ты са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нглийс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готовность быть терпимым, снисходительны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итайс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озволять, принимать, быть по отношению к другим великодушны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рабс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ощение, снисходительность, мягкость, милосердие, сострадание, благосклонность, терпение, расположенность к друг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русс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пособность терпеть что-то или кого-то (быть выдержанным, выносливым, стойким, уметь мириться с существованием чего-либо, кого-либо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5075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е из определений вам импонирует более все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на ваш взгляд, в разных странах определения различн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что же объединяет эти опреде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так актуальна толерантность в настоящее врем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362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6 НОЯБРЯ - МЕЖДУНАРОДНЫЙ ДЕНЬ ТОЛЕРАНТНОСТИ (ТЕРПИМОСТИ)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ждународный день терпимости (толерантности) объявлен ЮНЕСКО в ноябре 1995 года по случаю 50-летнего юбилея этой орган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1996 году Генеральная Ассамблея ООН предложила всем государствам  ежегодно 16 ноября отмечать Международный день, посвященный терпимости, приурочивая к нему соответствующие мероприятия, ориентированные как на учебные заведения, так и на широкую обществен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005360"/>
            <a:ext cx="36003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олерантность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это уважение, принятие и правильное понимание богатого многообразия культур нашего мира, форм самовыражения и способов проявления человеческой индивидуа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оявлять толерант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значит признавать то, что люди различаются по внешнему виду, положению, интересам, поведению и ценностям и обладают правом жить в мире, сохраняя при этом свою индивидуаль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Современный культурный челове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не только образованный человек, но человек, обладающий чувством самоуважения и уважаемый окружающи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Толерантность считается признаком высокого духовного и интеллектуального развития индивидуума, группы, общества в це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5280" y="333360"/>
          <a:ext cx="8424360" cy="6264000"/>
        </p:xfrm>
        <a:graphic>
          <a:graphicData uri="http://schemas.openxmlformats.org/drawingml/2006/table">
            <a:tbl>
              <a:tblPr/>
              <a:tblGrid>
                <a:gridCol w="3272040"/>
                <a:gridCol w="2048760"/>
                <a:gridCol w="3103560"/>
              </a:tblGrid>
              <a:tr h="208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пимость к чужим мнениям, верованиям, поведе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острад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 другого таким, какой он е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9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лерант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 другого таким, какой он е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ажение прав друг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отрудничество, дух партнер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лосердие, Уважение человеческого достоин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7:26:54Z</dcterms:created>
  <dc:creator>DEPO</dc:creator>
  <dc:description/>
  <dc:language>en-US</dc:language>
  <cp:lastModifiedBy>Home</cp:lastModifiedBy>
  <dcterms:modified xsi:type="dcterms:W3CDTF">2013-04-02T16:38:10Z</dcterms:modified>
  <cp:revision>4</cp:revision>
  <dc:subject/>
  <dc:title>Слайд 1</dc:title>
</cp:coreProperties>
</file>