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C48-48C4-4ACB-A047-8D4B0A5B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A91-5E36-4522-A308-BBE9962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C5B-03D0-4EBD-8DD3-1DF140C8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2BB-3878-4A60-A34D-2AC21A3F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E65A-319D-4F4F-98C1-007CBC18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8551-CA46-4494-80FC-8456BBC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E87-8615-42D1-B48D-D0D53BAF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EB35-E23D-4C6B-AFAE-38282F6D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5670-A2A6-4DCF-B2DB-E083341C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D284-0225-4401-B6BF-2C3D856B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B1CB-EC77-4CC1-BFB2-E01DD2E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291-A683-48F2-ADD1-D878289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710-961C-48E5-A3B1-1B30293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709-CE54-48CE-9C7E-A2CF420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65B4-A5DB-4056-90FE-73D28AE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C106-E37A-4DFC-800E-EB84D351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FFDC-C7C5-4097-9EA3-F44EEA75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343-9407-4D05-9CD5-5A8828A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D54-932F-48F1-B77E-45B63895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D75-3FD1-45E5-95A2-CAB2C746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169-FD36-468F-8339-F4037B2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681-6FF6-44E1-90D8-63A5806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3CC-C9FB-4704-95EC-39A94105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903-103E-4FDA-B747-81833B58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9F9-E4DC-4E55-ABB5-A54390BA7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 algn="ctr">
              <a:spcBef>
                <a:spcPts val="79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7480-7E60-472B-B823-7736BDF86C2D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81440" y="259920"/>
            <a:ext cx="93250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Интегрированный</a:t>
            </a: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урок химии и математик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08360" y="1428840"/>
            <a:ext cx="518328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Решение задач на растворы и спла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03280" y="5715000"/>
            <a:ext cx="6408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Димитровград, 2013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88" name="Picture 8" descr="Изображение 059"/>
          <p:cNvPicPr/>
          <p:nvPr/>
        </p:nvPicPr>
        <p:blipFill>
          <a:blip r:embed="rId1"/>
          <a:stretch/>
        </p:blipFill>
        <p:spPr>
          <a:xfrm>
            <a:off x="285840" y="928800"/>
            <a:ext cx="3452760" cy="2500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gran"/>
          <p:cNvPicPr/>
          <p:nvPr/>
        </p:nvPicPr>
        <p:blipFill>
          <a:blip r:embed="rId2"/>
          <a:stretch/>
        </p:blipFill>
        <p:spPr>
          <a:xfrm>
            <a:off x="357120" y="3714840"/>
            <a:ext cx="421488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5214960" y="4500720"/>
            <a:ext cx="3605040" cy="128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читель математики высшей категории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МБОУ СОШ №23 Авакян Л.Р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Учитель химии высшей категории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МБОУСОШ №23 Шарафутдинова Р.Ф.</a:t>
            </a:r>
            <a:endParaRPr b="1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                                          </a:t>
            </a: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914400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дача№1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д посадкой семена томата дезинфицируют   15%-ным раствором марганцовки. Скольк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граммов марганцовки потребуется для приготовления  500 г. такого раств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бенг свеча"/>
          <p:cNvPicPr/>
          <p:nvPr/>
        </p:nvPicPr>
        <p:blipFill>
          <a:blip r:embed="rId1"/>
          <a:stretch/>
        </p:blipFill>
        <p:spPr>
          <a:xfrm>
            <a:off x="428760" y="357120"/>
            <a:ext cx="5715000" cy="4000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000080" y="4357800"/>
            <a:ext cx="735804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№ 2: На изготовление одной  бенгальской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чи расходуется  5 г смеси, содержащей 2,2 г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еза и 0,25 г алюминия. Определите процентное 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железа и алюминия в одной свече.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13840"/>
            <a:ext cx="51847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А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Агрегат непрерывного горячего цинкования мощность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0 тыс.тон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горяч"/>
          <p:cNvPicPr/>
          <p:nvPr/>
        </p:nvPicPr>
        <p:blipFill>
          <a:blip r:embed="rId1"/>
          <a:stretch/>
        </p:blipFill>
        <p:spPr>
          <a:xfrm>
            <a:off x="5286240" y="1785960"/>
            <a:ext cx="359892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агрегат горяч цинкования"/>
          <p:cNvPicPr/>
          <p:nvPr/>
        </p:nvPicPr>
        <p:blipFill>
          <a:blip r:embed="rId2"/>
          <a:stretch/>
        </p:blipFill>
        <p:spPr>
          <a:xfrm>
            <a:off x="539640" y="404640"/>
            <a:ext cx="3032280" cy="223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57120" y="4857840"/>
            <a:ext cx="8786880" cy="20001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№3: Кузов отечественного автомобиля  в среднем 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сит 1 тонну. Подсчитано, что цинк составляет в нем  15 кг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 детали из цинка и  оцинкованной стали).  Определите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овую долю цинка  в автомобиле?</a:t>
            </a:r>
            <a:br>
              <a:rPr sz="1600"/>
            </a:br>
            <a:br>
              <a:rPr sz="1600"/>
            </a:br>
            <a:br>
              <a:rPr sz="1400"/>
            </a:b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133" name="Picture 9" descr="корпас авто"/>
          <p:cNvPicPr/>
          <p:nvPr/>
        </p:nvPicPr>
        <p:blipFill>
          <a:blip r:embed="rId3"/>
          <a:stretch/>
        </p:blipFill>
        <p:spPr>
          <a:xfrm>
            <a:off x="500040" y="2714760"/>
            <a:ext cx="450072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642960"/>
            <a:ext cx="7286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«Смешивание растворов»</a:t>
            </a:r>
            <a:br>
              <a:rPr sz="4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Алгебраический способ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равило креста ( квадрат Пирсо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8400" y="3141720"/>
            <a:ext cx="84294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28760" y="1500120"/>
            <a:ext cx="84294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28760" y="1500120"/>
            <a:ext cx="84294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3484440" y="857160"/>
            <a:ext cx="25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4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714240" y="2214720"/>
            <a:ext cx="8001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мешивании 10% -го и 30%-го раствора 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рганцовки получают  200 г. 16% -го раствора марганцовки. Сколько граммов каждого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твора взяли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Решение задач с использованием правила «креста»(Квадрата Пирсона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28760" y="1857240"/>
          <a:ext cx="8207280" cy="3429000"/>
        </p:xfrm>
        <a:graphic>
          <a:graphicData uri="http://schemas.openxmlformats.org/drawingml/2006/table">
            <a:tbl>
              <a:tblPr/>
              <a:tblGrid>
                <a:gridCol w="1368360"/>
                <a:gridCol w="863640"/>
                <a:gridCol w="1008000"/>
                <a:gridCol w="2273400"/>
                <a:gridCol w="2693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 30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г  30% раствора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ить: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г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частей: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г : 10=20г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 10%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 г 10% раствора</a:t>
                      </a:r>
                      <a:endParaRPr b="1" lang="en-US" sz="2000" spc="-1" strike="noStrike">
                        <a:solidFill>
                          <a:srgbClr val="3366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Line 109"/>
          <p:cNvSpPr/>
          <p:nvPr/>
        </p:nvSpPr>
        <p:spPr>
          <a:xfrm>
            <a:off x="1619280" y="1989000"/>
            <a:ext cx="288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Line 110"/>
          <p:cNvSpPr/>
          <p:nvPr/>
        </p:nvSpPr>
        <p:spPr>
          <a:xfrm>
            <a:off x="2340000" y="2708280"/>
            <a:ext cx="431640" cy="504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Line 111"/>
          <p:cNvSpPr/>
          <p:nvPr/>
        </p:nvSpPr>
        <p:spPr>
          <a:xfrm flipH="1">
            <a:off x="1907640" y="2781360"/>
            <a:ext cx="287640" cy="43164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Line 112"/>
          <p:cNvSpPr/>
          <p:nvPr/>
        </p:nvSpPr>
        <p:spPr>
          <a:xfrm flipH="1">
            <a:off x="2771640" y="1989000"/>
            <a:ext cx="144720" cy="36036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071720" y="2428920"/>
            <a:ext cx="3025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е количество воды и 80% -го 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створа уксусной кислоты надо 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зять для того, чтобы приготовить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00г. 8%-го столового уксуса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3368520" y="714240"/>
            <a:ext cx="24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5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2285640"/>
            <a:ext cx="82090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колько необходимо взять со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 воды, чтобы приготовить 20 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%-го раствора поваренной со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7138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 №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Для художественного литья приготовили два слитка серебра с медью. В первом слитке 360г серебра и 40г меди, во втором слитке 450г серебра и 150г меди. Сколько взяли от каждого, если масса нового слитка 200г, и в нем содержится 81% серебр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серебро=медь"/>
          <p:cNvPicPr/>
          <p:nvPr/>
        </p:nvPicPr>
        <p:blipFill>
          <a:blip r:embed="rId1"/>
          <a:stretch/>
        </p:blipFill>
        <p:spPr>
          <a:xfrm>
            <a:off x="1071720" y="2286000"/>
            <a:ext cx="314316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Pic04[1]"/>
          <p:cNvPicPr/>
          <p:nvPr/>
        </p:nvPicPr>
        <p:blipFill>
          <a:blip r:embed="rId2"/>
          <a:stretch/>
        </p:blipFill>
        <p:spPr>
          <a:xfrm>
            <a:off x="4643280" y="2071800"/>
            <a:ext cx="3635640" cy="2270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filigree610_big[1]"/>
          <p:cNvPicPr/>
          <p:nvPr/>
        </p:nvPicPr>
        <p:blipFill>
          <a:blip r:embed="rId3"/>
          <a:stretch/>
        </p:blipFill>
        <p:spPr>
          <a:xfrm>
            <a:off x="2143080" y="4357800"/>
            <a:ext cx="342900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okuvrezn_m[1]"/>
          <p:cNvPicPr/>
          <p:nvPr/>
        </p:nvPicPr>
        <p:blipFill>
          <a:blip r:embed="rId4"/>
          <a:stretch/>
        </p:blipFill>
        <p:spPr>
          <a:xfrm>
            <a:off x="571680" y="4500720"/>
            <a:ext cx="1371600" cy="2071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omslenkakrysh_b[1]"/>
          <p:cNvPicPr/>
          <p:nvPr/>
        </p:nvPicPr>
        <p:blipFill>
          <a:blip r:embed="rId5"/>
          <a:stretch/>
        </p:blipFill>
        <p:spPr>
          <a:xfrm>
            <a:off x="5786280" y="4643280"/>
            <a:ext cx="3089520" cy="186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06436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87280" y="2095560"/>
            <a:ext cx="5181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Rectangle 108"/>
          <p:cNvSpPr/>
          <p:nvPr/>
        </p:nvSpPr>
        <p:spPr>
          <a:xfrm>
            <a:off x="504720" y="2672280"/>
            <a:ext cx="842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шав 49-процентый и 95-процентный растворы кислоты и добавив 10 кг воды, получили 51-процентный раствор кислоты. Если бы вместо 10 кг воды добавить 10 кг 50-процентного раствора той же кислоты, то получили бы 56-процентный раствор кислоты. Сколько кг 49-процентного раствора использовали для получения смеси?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502080" y="692280"/>
            <a:ext cx="23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ча №8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13840"/>
            <a:ext cx="760104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урока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ссмотреть методы решения задач на растворы и смеси в   химии и математик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ировать навыки решения расчетных задач с использованием понятия «доля»(химия), «процентная концентрация».  (математик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7160" y="2000160"/>
            <a:ext cx="77472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Обобщить знания учащихся по теме «Расчетные задачи с использованием понятий «доля», «процентная концентраци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Развивать умения решать расчетные задачи, используя методы, применяемые в химии и математи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 алгебраический метод, квадрат Пирсона), сокращая временные промежутки, отводимые на решения подобных задач на зачетах (экзаменах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Расширять кругозор учащихся, воспитывать гордость за свой регион, за счет привлечения материалов национально-регионального компонен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14200" y="8571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500040" y="-1325520"/>
            <a:ext cx="90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755640" y="1844640"/>
            <a:ext cx="874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Закрепить способы решения задач на смеси и растворы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Решить задачи по карточкам</a:t>
            </a: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14320" y="1785960"/>
            <a:ext cx="607212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Verdana"/>
              </a:rPr>
              <a:t>СПАСИБО ЗА УРОК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785600"/>
            <a:ext cx="89917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Только из союза двух работающих вместе и при  помощи друг друга рождаются великие ве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уан де Сент-Экзюпе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агностические рабо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ние В 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Диаграмма 3" descr=""/>
          <p:cNvPicPr/>
          <p:nvPr/>
        </p:nvPicPr>
        <p:blipFill>
          <a:blip r:embed="rId1"/>
          <a:stretch/>
        </p:blipFill>
        <p:spPr>
          <a:xfrm>
            <a:off x="2028960" y="2319480"/>
            <a:ext cx="6095880" cy="406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71320" y="499680"/>
            <a:ext cx="84200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называют процент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Выразить в виде десятичной дроби 17%, 40%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Установить соответствие: 40%              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5%              0,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0%              0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%                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 найти процент от чи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Найти:   20% от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% от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202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и  - это однородные и неоднородны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системы, состоящие  из двух боле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компон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ородные (гомогенные) системы  - раств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дкие ( растворы кислот, оснований, соле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ообразные( смеси газов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ердые ( сплав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900000" y="4292640"/>
            <a:ext cx="4248360" cy="2376360"/>
          </a:xfrm>
          <a:prstGeom prst="ellipse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692360" y="4724280"/>
            <a:ext cx="698400" cy="5763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156360" y="3645000"/>
            <a:ext cx="2627280" cy="792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(С) целое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4941720"/>
            <a:ext cx="3060720" cy="172728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В,Д - составные части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компоненты системы )</a:t>
            </a:r>
            <a:endParaRPr b="1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995640" y="5445000"/>
            <a:ext cx="720720" cy="64800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195640" y="5734080"/>
            <a:ext cx="720720" cy="69696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1258920" y="4581000"/>
            <a:ext cx="3168720" cy="151164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2987640" y="5300640"/>
            <a:ext cx="1079640" cy="122400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4787640" y="4076640"/>
            <a:ext cx="1368360" cy="72072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286280" y="642960"/>
            <a:ext cx="9929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спространение смесей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3789000"/>
            <a:ext cx="874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тм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идр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литосфе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биосистем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уктах, производимых челове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Картинка 11 из 1155"/>
          <p:cNvPicPr/>
          <p:nvPr/>
        </p:nvPicPr>
        <p:blipFill>
          <a:blip r:embed="rId1"/>
          <a:stretch/>
        </p:blipFill>
        <p:spPr>
          <a:xfrm>
            <a:off x="2556000" y="3573360"/>
            <a:ext cx="2160360" cy="230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22 из 1155"/>
          <p:cNvPicPr/>
          <p:nvPr/>
        </p:nvPicPr>
        <p:blipFill>
          <a:blip r:embed="rId2"/>
          <a:stretch/>
        </p:blipFill>
        <p:spPr>
          <a:xfrm>
            <a:off x="6659640" y="476280"/>
            <a:ext cx="1946160" cy="21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i?id=5343143&amp;tov=6"/>
          <p:cNvPicPr/>
          <p:nvPr/>
        </p:nvPicPr>
        <p:blipFill>
          <a:blip r:embed="rId3"/>
          <a:stretch/>
        </p:blipFill>
        <p:spPr>
          <a:xfrm>
            <a:off x="6372360" y="5157720"/>
            <a:ext cx="214632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img9363"/>
          <p:cNvPicPr/>
          <p:nvPr/>
        </p:nvPicPr>
        <p:blipFill>
          <a:blip r:embed="rId4"/>
          <a:stretch/>
        </p:blipFill>
        <p:spPr>
          <a:xfrm>
            <a:off x="4859280" y="3789360"/>
            <a:ext cx="125892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2 из 593894"/>
          <p:cNvPicPr/>
          <p:nvPr/>
        </p:nvPicPr>
        <p:blipFill>
          <a:blip r:embed="rId5"/>
          <a:stretch/>
        </p:blipFill>
        <p:spPr>
          <a:xfrm>
            <a:off x="611280" y="162864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Картинка 4 из 11704"/>
          <p:cNvPicPr/>
          <p:nvPr/>
        </p:nvPicPr>
        <p:blipFill>
          <a:blip r:embed="rId6"/>
          <a:stretch/>
        </p:blipFill>
        <p:spPr>
          <a:xfrm>
            <a:off x="3429000" y="1643040"/>
            <a:ext cx="2665440" cy="168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Картинка 4 из 1065"/>
          <p:cNvPicPr/>
          <p:nvPr/>
        </p:nvPicPr>
        <p:blipFill>
          <a:blip r:embed="rId7"/>
          <a:stretch/>
        </p:blipFill>
        <p:spPr>
          <a:xfrm>
            <a:off x="6443640" y="2924280"/>
            <a:ext cx="2449440" cy="217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907920"/>
            <a:ext cx="5184720" cy="62712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ДОЛ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932360" y="2349360"/>
            <a:ext cx="3313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ъемная доля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зообразного компонента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системе С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)=V(A) /V(C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11280" y="2349360"/>
            <a:ext cx="3097080" cy="20876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овая доля 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понента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в системе С: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(A)=m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A) /m(C)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0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2771280" y="1557360"/>
            <a:ext cx="151308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435640" y="1557360"/>
            <a:ext cx="1512720" cy="792000"/>
          </a:xfrm>
          <a:prstGeom prst="line">
            <a:avLst/>
          </a:prstGeom>
          <a:ln w="12600">
            <a:solidFill>
              <a:srgbClr val="3366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Verdana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5010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ь состоит из «чистого вещества» и «примес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й(а)чистого вещества в смеси называется отношение количества чистого вещества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меси к общему количеству(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еси при условии, что они измерены одной и той же единицей массы или объема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m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я чистого вещества в смеси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личество чистого вещества в см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е количество см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7:58:40Z</dcterms:created>
  <dc:creator>marina</dc:creator>
  <dc:description/>
  <cp:keywords/>
  <dc:language>en-US</dc:language>
  <cp:lastModifiedBy>Лена</cp:lastModifiedBy>
  <dcterms:modified xsi:type="dcterms:W3CDTF">2013-02-18T15:49:20Z</dcterms:modified>
  <cp:revision>108</cp:revision>
  <dc:subject/>
  <dc:title>Проект для научной выстав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49</vt:lpwstr>
  </property>
</Properties>
</file>