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F54-5E63-41D8-B53B-0F498570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D0B-9416-4A71-B779-16176359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A28-252A-4B33-8956-05C68D98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56A-EF28-4ECF-B1FC-0DCA70A4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556-955F-4A93-B399-E03ED674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DF1-81FA-4E58-AC23-91CE9832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D98-441B-4D28-8934-AEA8C14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2B2-A387-4A96-B523-303A1B61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714-D227-471C-8836-E5462C87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072-8BAF-41C5-B4AB-359D74A5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884-C52A-4502-A9D5-D99F3CC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85E-52A8-4692-A2BA-C5C5388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3112-99B7-4D08-9C0C-028972F80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421000"/>
            <a:ext cx="518472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33:05Z</dcterms:modified>
  <cp:revision>4</cp:revision>
  <dc:subject/>
  <dc:title>Present your team</dc:title>
</cp:coreProperties>
</file>