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17F-64A4-4831-BD6C-F5511AAA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FD5-2827-47E8-AFBD-CC393904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9EC-5092-4C23-9C42-4D4F58B0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C21-2671-4C58-B8FA-FD733D18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03C1-DE8A-4F02-AB46-F032CCEC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C0B-BA50-4DC7-9627-58921292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401-3D2B-44C6-AE54-34A9F6AF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CE1-3AE0-4851-87C4-CC41F871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B20-22D5-41BD-9946-1E48F2B2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E12-DF4D-48A6-96D5-1EA83F29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F85-A8C3-4728-B565-1DAFDCB3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750-F4CE-4E77-B7A5-36CD358F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098F-1F77-4F6F-8C00-816186C2D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2421000"/>
            <a:ext cx="5184720" cy="18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9:29:16Z</dcterms:created>
  <dc:creator>Ирина</dc:creator>
  <dc:description/>
  <dc:language>en-US</dc:language>
  <cp:lastModifiedBy>Ирина</cp:lastModifiedBy>
  <dcterms:modified xsi:type="dcterms:W3CDTF">2013-02-11T19:33:05Z</dcterms:modified>
  <cp:revision>4</cp:revision>
  <dc:subject/>
  <dc:title>Present your team</dc:title>
</cp:coreProperties>
</file>