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43E-B400-4C16-AAAF-8B5D4424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C59-CA24-4BE4-A89B-DEE4C151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042-D153-4AF1-8F0E-2B6B087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BF6-1AE3-48B5-979A-2A6F1A56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23F9-0595-4685-842A-DE76C2EB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B7EC-D168-4181-8686-2E7D720E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0A6-17E1-47BE-BF82-3CB4D09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1718-9D71-40C9-A869-766A513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11F9-90F7-4917-B98A-5D1D918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F463-3914-44C9-883E-F7B76303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55BE-AFD3-487F-8809-ED88F2D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51A-5504-4317-A97F-F6F0E318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2018-903E-478E-897E-FC33806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FE2E-C3E2-4818-93B7-89B1ECC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AD4-4FB4-4476-896D-42B77463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44A-64DB-455C-A020-5344586A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53C1-220B-4EF9-8D78-FFFC1C74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CCF7-17E5-4050-A393-A3923846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BA443-8B3D-44A7-8E13-AEA33907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9D737-DB8E-4012-8C14-968B6F5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C6AB5-34FA-4019-A1CD-67B9674F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3587-E12F-47A6-9513-FDB3320F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992-17BE-4C92-83AA-91449FBF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2F940-6DEF-435C-8481-28F564BD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BFE7A-F437-41B5-AC2B-D2D525D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D0BBE-307A-4961-8F97-63E4C9A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12C4D-7614-452F-8B6C-00082BF9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AF3B3-5C61-4F72-81CE-627358A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5EA22-E69F-4529-ABA8-BA8049F5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F1BD8-3184-4224-90AB-4DA6C48D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CE97-AFA8-4866-A175-DE52DC55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3833-C223-4B51-9986-AF2CCDA2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06268-64E1-411B-83E9-1AA1156C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E32-3190-4724-B966-A793679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6B75-C215-4389-BD34-738956A7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2107-B623-4A28-97F5-72579B1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AEC2-9CC0-4C2F-BC3E-586818D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B0AB-6EEC-476E-B80C-F21CCC2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A097-8D6B-4FA5-A59F-5FD976A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B0B2-74A3-401B-909C-DAA2E9C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D9B3-2B2A-41B9-9584-40592EAF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8C8D-3ADC-4819-A03D-66E7A13F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6E88-FA14-4E4A-806B-AE3E3DE7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35350-B406-4CA1-9BAC-FEEBD690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569-7945-44E3-82C6-AB94DF77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6A37D-2128-4D02-B835-864224F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4CB18-FE19-47EB-BBAE-C8CCCA7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DAD5E-C4B7-4C84-B540-18276256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3079B-E622-4AB5-A974-6FCF19D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CA87F-945E-4486-A77B-4301DC8D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FDBFB-C146-4CC7-902B-6A8A7F0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91F90-BEC7-41B0-AFCB-46221108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8A247-0B63-4DF3-ADD0-6C68458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97347-CB9F-41AC-83EA-693524A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A64D6-161C-41BD-8296-D1DB8B4B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CF9-3BB0-4FB6-852F-D2F03255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9566C-E507-49C2-8971-7F701F18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E6C96-6526-47CE-A1D0-439BC337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B2AD7-59FA-4204-8455-881D25F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33522-F5E3-4D9A-9A46-E1883772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F16D4-29DB-4198-9208-4974D788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EB2C3-67F5-47A6-8A82-F2B9D82A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C328B-D8ED-4CEB-932B-F1AE50BA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341BF-305A-4777-8924-E564D4A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E7CE1-CE61-48B9-B682-DAF7035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9D868-FE26-4FB4-AEDB-EF3F307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083-8816-407D-A625-8196CD0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9EB3F-B1FC-4230-BD43-A9BBCA0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D0F90-F8E4-4E7C-BB4B-37064EEB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054DF-D7A6-491D-949F-B596B57F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AC2CF-A16A-4BB7-A067-C188B075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7C6EB-98EF-4639-A9D4-69A3F597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D4ADD-2CD7-40C9-AE17-1B4E846B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A2C3F-1C0A-4435-A5AF-8495D88D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1D197-9DC4-42C8-A198-665355A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E3733-BE8B-4F64-B411-F5FBFC2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3BBC8-3056-442E-AF82-E9DD926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6E1-2E65-4C96-B91D-1CD3C64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2C13A-6606-42A0-B359-0FCB6B3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A434F-7BE0-4920-A1A4-7E8E7BD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C2B6C-3A05-40A9-A9CA-827AE32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27A84A-EFE4-4A72-920D-3002D9A8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A0351-CF5C-4286-9F3D-B0ED1823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63D-F7D0-46A3-AFAC-2DDD518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5FB2-E6F7-4493-91AA-9B18255B64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FB91-70A3-4DAE-B8CA-33C8875770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0E7-8F23-40B8-9F14-555BC1ECCE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CA64-C7EC-4CE8-870C-9635B655FE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8DE-C855-4A2A-AA0D-DB759A272B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F941-BDF9-4938-BA1A-86D9E5EE01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A6F-DCA5-4746-A5FE-9199EF6F13C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981000"/>
            <a:ext cx="6778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РОЛЬ ФОЛЬКЛОРА В ПРОЦЕССЕ ФОРМИРОВАНИЯ ДУХОВНО-НРАВСТВЕННЫХ КАЧЕСТВ  ДОШКОЛЬНИКОВ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620640"/>
            <a:ext cx="6172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Управление образования администрации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города Старый Оскол и Старооскольского района Белгородской области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Муниципальное дошкольное образовательное учреждение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Детский сад №63 «Машенька»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Центр развития ребенка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оспитатель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инокурова Н.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Февраль 2012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ПИСЬМЕННЫМИ НОСИТЕЛЯМИ ХРИСТИАНСКИХ ИДЕЙ БЫЛИ КНИГИ ВЕТХОГО И НОВОГО ЗАВЕТОВ, БО­ГОСЛУЖЕБНЫЕ КНИГИ, ЖИТИЯ СВЯТЫХ (ОСОБЕННО ЛЮБИМОЕ НА РУСИ НАРОДНОЕ ЧТЕНИЕ), А ПОЗДНЕЕ, В Х</a:t>
            </a: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Х-ХХ ВЕКАХ, ПЕРИОДИЧЕСКИЕ ИЗДАНИЯ, В ПЕР­ВУЮ ОЧЕРЕДЬ, ЦЕРКОВНЫЕ КАЛЕНДАРИ.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355" name="Объект 5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273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ОТРЕБНОСТЬ В ОСМЫСЛЕНИИ ХРИСТИАНСКОГО ВЕРОУЧЕНИЯ И ПРИЛОЖЕНИИ ЕГО ПРИНЦИПОВ К ПРАКТИКЕ СЕМЕЙНОГО И ОБЩЕСТВЕН­НОГО ВОСПИТАНИЯ ВСЕГДА БЫЛА ДОСТАТОЧНО ВЕЛИ­КА В РУССКОЙ КРЕСТЬЯНСКОЙ СРЕДЕ. ПОЭТОМУ В РУССКОЙ НАРОДНОЙ ТРАДИЦИИ СФОРМИРОВАЛСЯ ЦЕЛЫЙ КОМПЛЕКС ФОЛЬКЛОРНЫХ ПРОИЗВЕДЕНИЙ, СПОСОБСТВОВАВШИХ ОБЕС­ПЕЧЕНИЮ НРАВСТВЕННОСТИ В СООТВЕТСТВИИ С ХРИСТИАНСКИМ УЧЕНИЕМ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Объект 4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358" name="Объект 5" descr=""/>
          <p:cNvPicPr/>
          <p:nvPr/>
        </p:nvPicPr>
        <p:blipFill>
          <a:blip r:embed="rId2"/>
          <a:stretch/>
        </p:blipFill>
        <p:spPr>
          <a:xfrm>
            <a:off x="4270320" y="2637000"/>
            <a:ext cx="3973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НАРОДНОЕ ПОЭТИЧЕСКОЕ СЛОВО – ОБРАЗЕЦ ДУХОВНОГО СЛУЖЕНИЯ ЛЮДЯМ.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26920" y="1862280"/>
          <a:ext cx="7409160" cy="4663800"/>
        </p:xfrm>
        <a:graphic>
          <a:graphicData uri="http://schemas.openxmlformats.org/drawingml/2006/table">
            <a:tbl>
              <a:tblPr/>
              <a:tblGrid>
                <a:gridCol w="2470320"/>
                <a:gridCol w="2468520"/>
                <a:gridCol w="2470320"/>
              </a:tblGrid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КА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СЛ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ТО ВОСПИТ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п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м, где дружат – живут не туж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-я заповедь о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т и пет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руг познается в бе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лосер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о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учше горькая правда, чем сладкая лож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уш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лк и семеро козл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ви смирнее, будешь всем мил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я заповедь о послушании род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рона и кув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ла бы охота, заладиться люб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удолюб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РОДНОЕ ПОЭТИЧЕСКОЕ СЛОВО – ОБРАЗЕЦ ДУХОВНОГО СЛУЖЕНИЯ ЛЮДЯМ. ОНО КАК РОДНИК, КАК ЧИСТЕЙШИЙ КЛЮЧ, БЬЮЩИЙ ИЗ НЕДР ЗЕМЛИ, К КОТОРОМУ ПРИПАДАЮТ ПОКОЛЕНИЯ, НАПОЛНЯЯСЬ ЖИВИТЕЛЬНОЙ СИЛОЙ. ОНО ПЕРЕДАЕТ ПРОШЛОЕ, ПОСТУПЬ НАСТОЯЩЕГО И БУДУЩЕГО. И ЗВУЧАТ ИЗ ПОКОЛЕНИЯ В ПОКОЛЕНИЕ МАТЕРИНСКИЕ КОЛЫБЕЛЬНЫЕ ПЕСНИ, СКАЗКИ, ПОТЕШКИ, НЕБЫЛИЦЫ, ПОГОВОРКИ, БАСЕНКИ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Объект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57600" cy="3124080"/>
          </a:xfrm>
          <a:prstGeom prst="rect">
            <a:avLst/>
          </a:prstGeom>
          <a:ln w="0">
            <a:noFill/>
          </a:ln>
        </p:spPr>
      </p:pic>
      <p:pic>
        <p:nvPicPr>
          <p:cNvPr id="363" name="Объект 7" descr=""/>
          <p:cNvPicPr/>
          <p:nvPr/>
        </p:nvPicPr>
        <p:blipFill>
          <a:blip r:embed="rId2"/>
          <a:stretch/>
        </p:blipFill>
        <p:spPr>
          <a:xfrm>
            <a:off x="4270320" y="21337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СВОЕЙ РАБОТЕ Я ИСПОЛЬЗУЮ РАЗНЫЕ ВИДЫ ДЕЯТЕЛЬНОСТИ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600200"/>
          <a:ext cx="7467480" cy="3606840"/>
        </p:xfrm>
        <a:graphic>
          <a:graphicData uri="http://schemas.openxmlformats.org/drawingml/2006/table">
            <a:tbl>
              <a:tblPr/>
              <a:tblGrid>
                <a:gridCol w="874800"/>
                <a:gridCol w="659268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 обучении правильному произнош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приобщении детей к русской национальн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епосредственно образовате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бесе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аблюд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ародных подвижных иг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играх на развитие мелкой мото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еатрализова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инсцениров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ОТРАДНОЕ ЯВЛЕНИЕ: В ПОСЛЕДНИЕ ГОДЫ ВОЗРАСТАЕТ ИНТЕРЕС К ФОЛЬКЛОРИСТИКЕ. ОБЩЕСТВО КАК БУДТО ПОЧУВСТВОВАЛО: ЖИВИТЕЛЬНУЮ СИЛУ ОБНОВЛЕНИЯ, КОТОРУЮ  МОЖНО ПОЧЕРПНУТЬ В НЕИССЯКАЕМЫХ ИСТОЧНИКАХ НАРОДНОЙ МУДРОСТИ. НЕ СЛУЧАЙНО СЛОВО “ФОЛЬКЛОР”, БУДУЧИ АНГЛИЙСКОГО ПРОИСХОЖДЕНИЯ, ПЕРЕВОДИТСЯ БУКВАЛЬНО КАК “НАРОДНАЯ МУДРОСТЬ”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Объект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57600" cy="316692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5" descr=""/>
          <p:cNvPicPr/>
          <p:nvPr/>
        </p:nvPicPr>
        <p:blipFill>
          <a:blip r:embed="rId2"/>
          <a:stretch/>
        </p:blipFill>
        <p:spPr>
          <a:xfrm>
            <a:off x="4270320" y="21337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463320"/>
            <a:ext cx="7697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ОСПИТАНИЕ НА ФОЛЬКЛОРНОЙ ОСНОВЕ ДАЕТ ПРЕКРАСНУЮ ВОЗМОЖНОСТЬ ФОРМИРОВАТЬ В КАЖДОМ РЕБЕНКЕ ЛУЧШИЕ ЧЕЛОВЕЧЕСКИЕ КАЧЕСТВА – УВАЖИТЕЛЬНОЕ И БЕРЕЖНОЕ ОТНОШЕНИЕ К СВОЕЙ КУЛЬТУРЕ, ЛЮБОВЬ К РОДНОМУ КРАЮ, ТРАДИЦИЯМ ДУХОВНОЙ КУЛЬТУРЫ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DSCN1723"/>
          <p:cNvPicPr/>
          <p:nvPr/>
        </p:nvPicPr>
        <p:blipFill>
          <a:blip r:embed="rId1"/>
          <a:stretch/>
        </p:blipFill>
        <p:spPr>
          <a:xfrm>
            <a:off x="2916360" y="1847880"/>
            <a:ext cx="5400720" cy="3597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100_3330"/>
          <p:cNvPicPr/>
          <p:nvPr/>
        </p:nvPicPr>
        <p:blipFill>
          <a:blip r:embed="rId2"/>
          <a:stretch/>
        </p:blipFill>
        <p:spPr>
          <a:xfrm>
            <a:off x="0" y="3711600"/>
            <a:ext cx="3941640" cy="295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SCN2964"/>
          <p:cNvPicPr/>
          <p:nvPr/>
        </p:nvPicPr>
        <p:blipFill>
          <a:blip r:embed="rId3"/>
          <a:stretch/>
        </p:blipFill>
        <p:spPr>
          <a:xfrm>
            <a:off x="0" y="1700280"/>
            <a:ext cx="3600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КАК СОСТАВНАЯ ЧАСТЬ КРАСОТЫ, ЦЕЛЫЙ КОМПЛЕКС ФОЛЬКЛОРНЫХ ПРОИЗВЕДЕНИЙ, СПОСОБСТВУЮЩИХ ОБЕС­ПЕЧЕНИЮ НРАВСТВЕННОГО ОТНОШЕНИЯ  В СООТВЕТСТВИИ С ХРИСТИАНСКИМ УЧЕНИЕМ, НАРОДНЫЕ ПРОИЗВЕДЕНИЯ КРУПНОЙ И МАЛОЙ ФОРМЫ, ПРИЗВАНЫ СПАСТИ МИР. СПАСТИ ОТ ГРЯЗИ, ПРАГМАТИЗМА И СТЯЖАТЕЛЬСТВА, КОТОРЫЕ ПЫТАЮТСЯ ВОЗВЕСТИ В ДОБРОДЕТЕЛЬ. ТОЛЬКО ДУХОВНОСТЬ И КРАСОТА СПОСОБНЫ ВЫВЕСТИ ЛЮДЕЙ К СВЕТУ, К БУДУЩЕМУ!</a:t>
            </a:r>
            <a:br>
              <a:rPr sz="1300"/>
            </a:b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1300"/>
            </a:b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Объект 7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57600" cy="29811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9" descr=""/>
          <p:cNvPicPr/>
          <p:nvPr/>
        </p:nvPicPr>
        <p:blipFill>
          <a:blip r:embed="rId2"/>
          <a:stretch/>
        </p:blipFill>
        <p:spPr>
          <a:xfrm>
            <a:off x="4270320" y="2349360"/>
            <a:ext cx="36576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3-04-01T14:06:29Z</cp:lastPrinted>
  <dcterms:modified xsi:type="dcterms:W3CDTF">2013-04-02T18:05:49Z</dcterms:modified>
  <cp:revision>37</cp:revision>
  <dc:subject/>
  <dc:title>РОЛЬ ФОЛЬКЛОРА В ДУХОВНО-НРАВСТВЕННОМ ВОСПИТАНИИ ДОШКОЛЬНИКОВ. </dc:title>
</cp:coreProperties>
</file>