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807-1FE8-4F79-994D-ED77FCC5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47A-7FEC-46E3-B084-BBFDE5CB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70A-3E01-4433-9FC9-C8C26E80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840-DD01-46B8-9B64-F7D78A67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A012-B5BE-4538-A241-8AC0CB89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E06-FC80-4CD0-B7B6-15C4B84A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8852-4C8A-4BDF-8D02-683478B9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D5F-5CE1-43A3-972F-0B60E3C2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FCFD-0766-44B4-BBC7-956E33F0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7D94-D55C-4F19-AB92-E9EA9D6A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ED7-9A13-4334-ABDF-7A2BB8B7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4A9-A0D9-4608-A736-E1BB83AE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B39C-9594-41F8-8258-E03E076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DF26-9ADD-4699-ACCA-672AA74F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45E5-F9B7-4B2D-985C-415B0614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A110-1EF6-44D7-9EA3-19CBD1AE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4439-E29A-4E22-86EC-32827B23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018E0-8C26-4AD1-A79A-5520A18D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1CBD6-A789-45A3-B274-392551BD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D9210-5CB2-406F-A319-6E760531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FDC11-0658-48A7-AA89-1265728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FD8D8-3971-48D3-8C7D-BC8D4A93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A45-C96B-4FF7-9F0E-FDCFBA0E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5CD43-C4B9-4E36-B47D-FD67AF00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3BA9B-5A8B-43FB-83D5-46537B28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1AE38-1702-4595-8F3B-D52BEDE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E581A-4F05-4531-84DB-A5CDE42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CE3B6-D3C1-4CE1-B7A9-73E73B53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D68F2-EC91-4997-A697-EC173185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40D4D-E266-4A97-A658-AB758D9C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64C5E-D251-49E1-A8C1-2EC8B37B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6727D-6A9A-4017-B2FB-D4CF867C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913B-794C-44FA-BB03-3426C685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3DC-7817-40D7-B547-0ED501C0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330C-D81F-4A97-8B7D-BCFF2AE4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7D198-A9A5-41BF-A163-DDEBCD14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30B4-384E-4FC5-AEB6-94B73FC7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C4DAC-E341-4171-ACBB-C2B9C332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6ED2D-1C7E-4B79-8EB9-6B2DFB7C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9E7D-A6B2-4052-B900-E5CC3FD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8578C-E658-4231-8193-6075E141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9B352-6232-4F30-8723-5910AD67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B2C6-9AD7-489A-B5B1-4EE256B7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36BA1-1DD1-4664-87C7-65636AC8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80B-66A5-4C8D-BF1B-BA43103F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02F01-C2D6-4353-B802-231B76B3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7EB56-0070-43BD-AA11-40942888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C979F-EF14-4F0A-9A1A-AE8220F4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52A0F-906A-43C0-8BB3-EBB9C377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75B4D-9A37-493B-9D58-B2A0D2E9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155FD-DF32-4874-813A-9A8F019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86D4B-2F37-4803-A87E-46396B65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3F3ACD-B917-4500-BB46-08B635EB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176BB-F65C-4820-954A-6F082D35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FD688-CFDD-49D2-83CE-BB7C6EFB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3A1-F871-4DFD-96FB-65088FD9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05BD1-4004-41DC-889B-7C86F00C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13841-E9F2-4818-8340-45670894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1BCE9-B8AE-48E1-B435-9EFE65D7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A0C03-FFBE-4A64-8CEB-213D4F27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354EF-765E-4DD4-BFA7-745625A6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D5064-6178-4884-B591-49AD9565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B590C-9FDC-47CF-9A2A-7373BF5C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5FBCF-B73B-4A77-BD70-76E17155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7FCA3-BE94-4D68-B5C9-FEB07526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51A0F-8E5B-45FF-8A2A-913DE9C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6BF-2454-4BBE-857B-BE58781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46786-8AEF-403F-99B0-A6D04CF3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5205B-E00D-48F6-9843-526F9D86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3F603-B824-4C95-8CFC-F88A4B16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D9CA2-3651-40D0-9FC3-686B3FBE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DADFC-BBB7-468B-B061-BF189DBB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75E39-EB6D-4C40-AFCD-C90B0295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9B49C-28FA-47C6-AF35-FE852D70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12EF63-1906-43AF-A942-475AEA2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96BEC-492D-400B-A075-2FEAB25F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F26B5-AFC6-4C41-A0A5-41EAF279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708-D546-490A-9574-43BF2FB7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BA297-5BB2-4BF1-9FFF-2A55DE11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DA943-5243-41C5-B59D-BEEB2C18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0CC98-0643-4DD0-B3A6-F9BE4E24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02E6BB-C71E-456E-954B-D17641D8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F29D2-7862-4829-A5BB-28C6D959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307-DE72-41BE-9012-5A6CBE6D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4D9D-32CA-414D-B9F1-6AC12AE7C2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9701-E4E6-4175-8DD5-58672D08AA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0FCB-62C0-406B-BC16-6AB471DFA0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8D8C-B302-419A-BF52-57ED8B131E5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B79-3EC2-4FD2-9B43-0E8D6F5710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2C26-F4E7-45B6-A4D9-EAB0D0FD52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1EAB-7CD6-4223-95C0-8304283441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2600" y="981000"/>
            <a:ext cx="6778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РОЛЬ ФОЛЬКЛОРА В ПРОЦЕССЕ ФОРМИРОВАНИЯ ДУХОВНО-НРАВСТВЕННЫХ КАЧЕСТВ  ДОШКОЛЬНИКОВ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620640"/>
            <a:ext cx="6172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Управление образования администрации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города Старый Оскол и Старооскольского района Белгородской области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Муниципальное дошкольное образовательное учреждение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Детский сад №63 «Машенька»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75f6d"/>
                </a:solidFill>
                <a:latin typeface="Century Schoolbook"/>
              </a:rPr>
              <a:t>Центр развития ребенка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Воспитатель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Винокурова Н.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575f6d"/>
                </a:solidFill>
                <a:latin typeface="Century Schoolbook"/>
              </a:rPr>
              <a:t>Февраль 2012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ПИСЬМЕННЫМИ НОСИТЕЛЯМИ ХРИСТИАНСКИХ ИДЕЙ БЫЛИ КНИГИ ВЕТХОГО И НОВОГО ЗАВЕТОВ, БО­ГОСЛУЖЕБНЫЕ КНИГИ, ЖИТИЯ СВЯТЫХ (ОСОБЕННО ЛЮБИМОЕ НА РУСИ НАРОДНОЕ ЧТЕНИЕ), А ПОЗДНЕЕ, В Х</a:t>
            </a: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I</a:t>
            </a: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Х-ХХ ВЕКАХ, ПЕРИОДИЧЕСКИЕ ИЗДАНИЯ, В ПЕР­ВУЮ ОЧЕРЕДЬ, ЦЕРКОВНЫЕ КАЛЕНДАРИ.</a:t>
            </a:r>
            <a:br>
              <a:rPr sz="1400"/>
            </a:b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Объект 4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2952720" cy="3240000"/>
          </a:xfrm>
          <a:prstGeom prst="rect">
            <a:avLst/>
          </a:prstGeom>
          <a:ln w="0">
            <a:noFill/>
          </a:ln>
        </p:spPr>
      </p:pic>
      <p:pic>
        <p:nvPicPr>
          <p:cNvPr id="355" name="Объект 5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273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ПОТРЕБНОСТЬ В ОСМЫСЛЕНИИ ХРИСТИАНСКОГО ВЕРОУЧЕНИЯ И ПРИЛОЖЕНИИ ЕГО ПРИНЦИПОВ К ПРАКТИКЕ СЕМЕЙНОГО И ОБЩЕСТВЕН­НОГО ВОСПИТАНИЯ ВСЕГДА БЫЛА ДОСТАТОЧНО ВЕЛИ­КА В РУССКОЙ КРЕСТЬЯНСКОЙ СРЕДЕ. ПОЭТОМУ В РУССКОЙ НАРОДНОЙ ТРАДИЦИИ СФОРМИРОВАЛСЯ ЦЕЛЫЙ КОМПЛЕКС ФОЛЬКЛОРНЫХ ПРОИЗВЕДЕНИЙ, СПОСОБСТВОВАВШИХ ОБЕС­ПЕЧЕНИЮ НРАВСТВЕННОСТИ В СООТВЕТСТВИИ С ХРИСТИАНСКИМ УЧЕНИЕМ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Объект 4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672000" cy="3024360"/>
          </a:xfrm>
          <a:prstGeom prst="rect">
            <a:avLst/>
          </a:prstGeom>
          <a:ln w="0">
            <a:noFill/>
          </a:ln>
        </p:spPr>
      </p:pic>
      <p:pic>
        <p:nvPicPr>
          <p:cNvPr id="358" name="Объект 5" descr=""/>
          <p:cNvPicPr/>
          <p:nvPr/>
        </p:nvPicPr>
        <p:blipFill>
          <a:blip r:embed="rId2"/>
          <a:stretch/>
        </p:blipFill>
        <p:spPr>
          <a:xfrm>
            <a:off x="4270320" y="2637000"/>
            <a:ext cx="3973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НАРОДНОЕ ПОЭТИЧЕСКОЕ СЛОВО – ОБРАЗЕЦ ДУХОВНОГО СЛУЖЕНИЯ ЛЮДЯМ. 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826920" y="1862280"/>
          <a:ext cx="7409160" cy="4663800"/>
        </p:xfrm>
        <a:graphic>
          <a:graphicData uri="http://schemas.openxmlformats.org/drawingml/2006/table">
            <a:tbl>
              <a:tblPr/>
              <a:tblGrid>
                <a:gridCol w="2470320"/>
                <a:gridCol w="2468520"/>
                <a:gridCol w="2470320"/>
              </a:tblGrid>
              <a:tr h="64044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КА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СЛО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ТО ВОСПИТЫ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044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п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ам, где дружат – живут не туж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-я заповедь о тру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044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т и пет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руг познается в бед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лосерд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76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ло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учше горькая правда, чем сладкая лож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слуш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476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лк и семеро козля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Живи смирнее, будешь всем миле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я заповедь о послушании родител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4760"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рона и кув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ла бы охота, заладиться любая раб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рудолюб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НАРОДНОЕ ПОЭТИЧЕСКОЕ СЛОВО – ОБРАЗЕЦ ДУХОВНОГО СЛУЖЕНИЯ ЛЮДЯМ. ОНО КАК РОДНИК, КАК ЧИСТЕЙШИЙ КЛЮЧ, БЬЮЩИЙ ИЗ НЕДР ЗЕМЛИ, К КОТОРОМУ ПРИПАДАЮТ ПОКОЛЕНИЯ, НАПОЛНЯЯСЬ ЖИВИТЕЛЬНОЙ СИЛОЙ. ОНО ПЕРЕДАЕТ ПРОШЛОЕ, ПОСТУПЬ НАСТОЯЩЕГО И БУДУЩЕГО. И ЗВУЧАТ ИЗ ПОКОЛЕНИЯ В ПОКОЛЕНИЕ МАТЕРИНСКИЕ КОЛЫБЕЛЬНЫЕ ПЕСНИ, СКАЗКИ, ПОТЕШКИ, НЕБЫЛИЦЫ, ПОГОВОРКИ, БАСЕНКИ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Объект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657600" cy="3124080"/>
          </a:xfrm>
          <a:prstGeom prst="rect">
            <a:avLst/>
          </a:prstGeom>
          <a:ln w="0">
            <a:noFill/>
          </a:ln>
        </p:spPr>
      </p:pic>
      <p:pic>
        <p:nvPicPr>
          <p:cNvPr id="363" name="Объект 7" descr=""/>
          <p:cNvPicPr/>
          <p:nvPr/>
        </p:nvPicPr>
        <p:blipFill>
          <a:blip r:embed="rId2"/>
          <a:stretch/>
        </p:blipFill>
        <p:spPr>
          <a:xfrm>
            <a:off x="4270320" y="213372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В СВОЕЙ РАБОТЕ Я ИСПОЛЬЗУЮ РАЗНЫЕ ВИДЫ ДЕЯТЕЛЬНОСТИ: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57200" y="1600200"/>
          <a:ext cx="7467480" cy="3606840"/>
        </p:xfrm>
        <a:graphic>
          <a:graphicData uri="http://schemas.openxmlformats.org/drawingml/2006/table">
            <a:tbl>
              <a:tblPr/>
              <a:tblGrid>
                <a:gridCol w="874800"/>
                <a:gridCol w="659268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 обучении правильному произнош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приобщении детей к русской национальной куль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непосредственно образовате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бесе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наблюде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08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народных подвижных иг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играх на развитие мелкой мото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театрализован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 инсценировк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1400" spc="-1" strike="noStrike">
                <a:solidFill>
                  <a:srgbClr val="575f6d"/>
                </a:solidFill>
                <a:latin typeface="Century Schoolbook"/>
              </a:rPr>
              <a:t>ОТРАДНОЕ ЯВЛЕНИЕ: В ПОСЛЕДНИЕ ГОДЫ ВОЗРАСТАЕТ ИНТЕРЕС К ФОЛЬКЛОРИСТИКЕ. ОБЩЕСТВО КАК БУДТО ПОЧУВСТВОВАЛО: ЖИВИТЕЛЬНУЮ СИЛУ ОБНОВЛЕНИЯ, КОТОРУЮ  МОЖНО ПОЧЕРПНУТЬ В НЕИССЯКАЕМЫХ ИСТОЧНИКАХ НАРОДНОЙ МУДРОСТИ. НЕ СЛУЧАЙНО СЛОВО “ФОЛЬКЛОР”, БУДУЧИ АНГЛИЙСКОГО ПРОИСХОЖДЕНИЯ, ПЕРЕВОДИТСЯ БУКВАЛЬНО КАК “НАРОДНАЯ МУДРОСТЬ”.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Объект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657600" cy="3166920"/>
          </a:xfrm>
          <a:prstGeom prst="rect">
            <a:avLst/>
          </a:prstGeom>
          <a:ln w="0">
            <a:noFill/>
          </a:ln>
        </p:spPr>
      </p:pic>
      <p:pic>
        <p:nvPicPr>
          <p:cNvPr id="368" name="Объект 5" descr=""/>
          <p:cNvPicPr/>
          <p:nvPr/>
        </p:nvPicPr>
        <p:blipFill>
          <a:blip r:embed="rId2"/>
          <a:stretch/>
        </p:blipFill>
        <p:spPr>
          <a:xfrm>
            <a:off x="4270320" y="213372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280" y="463320"/>
            <a:ext cx="7697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575f6d"/>
                </a:solidFill>
                <a:latin typeface="Century Schoolbook"/>
              </a:rPr>
              <a:t>ВОСПИТАНИЕ НА ФОЛЬКЛОРНОЙ ОСНОВЕ ДАЕТ ПРЕКРАСНУЮ ВОЗМОЖНОСТЬ ФОРМИРОВАТЬ В КАЖДОМ РЕБЕНКЕ ЛУЧШИЕ ЧЕЛОВЕЧЕСКИЕ КАЧЕСТВА – УВАЖИТЕЛЬНОЕ И БЕРЕЖНОЕ ОТНОШЕНИЕ К СВОЕЙ КУЛЬТУРЕ, ЛЮБОВЬ К РОДНОМУ КРАЮ, ТРАДИЦИЯМ ДУХОВНОЙ КУЛЬТУРЫ.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4" descr="DSCN1723"/>
          <p:cNvPicPr/>
          <p:nvPr/>
        </p:nvPicPr>
        <p:blipFill>
          <a:blip r:embed="rId1"/>
          <a:stretch/>
        </p:blipFill>
        <p:spPr>
          <a:xfrm>
            <a:off x="2916360" y="1847880"/>
            <a:ext cx="5400720" cy="3597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100_3330"/>
          <p:cNvPicPr/>
          <p:nvPr/>
        </p:nvPicPr>
        <p:blipFill>
          <a:blip r:embed="rId2"/>
          <a:stretch/>
        </p:blipFill>
        <p:spPr>
          <a:xfrm>
            <a:off x="0" y="3711600"/>
            <a:ext cx="3941640" cy="2957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DSCN2964"/>
          <p:cNvPicPr/>
          <p:nvPr/>
        </p:nvPicPr>
        <p:blipFill>
          <a:blip r:embed="rId3"/>
          <a:stretch/>
        </p:blipFill>
        <p:spPr>
          <a:xfrm>
            <a:off x="0" y="1700280"/>
            <a:ext cx="3600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13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ru-RU" sz="1300" spc="-1" strike="noStrike">
                <a:solidFill>
                  <a:srgbClr val="575f6d"/>
                </a:solidFill>
                <a:latin typeface="Century Schoolbook"/>
              </a:rPr>
              <a:t>КАК СОСТАВНАЯ ЧАСТЬ КРАСОТЫ, ЦЕЛЫЙ КОМПЛЕКС ФОЛЬКЛОРНЫХ ПРОИЗВЕДЕНИЙ, СПОСОБСТВУЮЩИХ ОБЕС­ПЕЧЕНИЮ НРАВСТВЕННОГО ОТНОШЕНИЯ  В СООТВЕТСТВИИ С ХРИСТИАНСКИМ УЧЕНИЕМ, НАРОДНЫЕ ПРОИЗВЕДЕНИЯ КРУПНОЙ И МАЛОЙ ФОРМЫ, ПРИЗВАНЫ СПАСТИ МИР. СПАСТИ ОТ ГРЯЗИ, ПРАГМАТИЗМА И СТЯЖАТЕЛЬСТВА, КОТОРЫЕ ПЫТАЮТСЯ ВОЗВЕСТИ В ДОБРОДЕТЕЛЬ. ТОЛЬКО ДУХОВНОСТЬ И КРАСОТА СПОСОБНЫ ВЫВЕСТИ ЛЮДЕЙ К СВЕТУ, К БУДУЩЕМУ!</a:t>
            </a:r>
            <a:br>
              <a:rPr sz="1300"/>
            </a:br>
            <a:r>
              <a:rPr b="0" lang="ru-RU" sz="13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1300"/>
            </a:b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Объект 7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57600" cy="2981160"/>
          </a:xfrm>
          <a:prstGeom prst="rect">
            <a:avLst/>
          </a:prstGeom>
          <a:ln w="0">
            <a:noFill/>
          </a:ln>
        </p:spPr>
      </p:pic>
      <p:pic>
        <p:nvPicPr>
          <p:cNvPr id="375" name="Объект 9" descr=""/>
          <p:cNvPicPr/>
          <p:nvPr/>
        </p:nvPicPr>
        <p:blipFill>
          <a:blip r:embed="rId2"/>
          <a:stretch/>
        </p:blipFill>
        <p:spPr>
          <a:xfrm>
            <a:off x="4270320" y="2349360"/>
            <a:ext cx="36576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3-04-01T14:06:29Z</cp:lastPrinted>
  <dcterms:modified xsi:type="dcterms:W3CDTF">2013-04-02T18:05:49Z</dcterms:modified>
  <cp:revision>37</cp:revision>
  <dc:subject/>
  <dc:title>РОЛЬ ФОЛЬКЛОРА В ДУХОВНО-НРАВСТВЕННОМ ВОСПИТАНИИ ДОШКОЛЬНИКОВ. </dc:title>
</cp:coreProperties>
</file>