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0762-9938-4390-BE01-7F88CAD830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A958-6729-4042-BC02-1A6B693603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86A-48EC-4330-83A1-4F28B9DE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810-D81B-492A-98CC-CB1E57F6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903-3E8E-4D8F-B3D2-2FA8F52B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5AF-40BE-45A6-B0D7-99124F66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56A5-FC44-4CBE-9E27-CD328FFB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4A60-9835-4E4A-A619-E80A7F3E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C25D-5215-4069-83CE-683B0F22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ADF8-7E8B-456F-9272-49CEDD60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3D8B-BCD6-4A1F-A160-C26F7EB0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4E3D-76C4-4955-B978-CFC07CBD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F0BC-B795-406A-858F-26538F5D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8E1-E3DF-47CA-8235-41D9D31E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E77A-7ECA-4D25-95D3-CB397BBD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29A0-45DD-4C00-8136-D26A1802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3476-FD6E-4FE7-8CA9-27077323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0DA7-86D9-4D76-B9A0-4702EE21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95AB-B398-4B34-B172-D5A03D88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3123-CD9F-4653-846C-D7E5B6D7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0515-6855-4CA7-9CB1-C35A6E78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758F-6A57-423D-AABA-F578D715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90BC-D5E5-4DB2-A9D3-3C01F213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DA8A-C0C5-43C0-A42C-487178C6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073-003E-46BD-97A1-5D89C9D9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63485-FF48-482A-91A0-2E3B2E1E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B72DA-1BEC-408A-9149-F1F733E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491C9-9190-40A3-975A-A36BDFDA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E3BC8-BE31-42C9-B067-87E580AA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40EB4-ACA0-4319-9D12-B0AE624A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C0EA-2149-46D9-AE1B-584AEC89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D1DD-D324-4949-B6B1-39AB1B3E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E6168-5D3F-4C7F-AA2A-C70F7CE4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C266D-67C8-42D0-99F1-4639525D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7D325-72DD-4907-A06E-0507F0BC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14B-08A2-4895-AF35-7C53AC9A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E7F4-9A46-4A9F-937F-DD445821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5DA0E-7F24-480D-B997-A8655FB8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C5EC-D77F-49D2-A064-372BFDB1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82CEB-C54F-4466-8FDC-E296A038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6396-C02D-4DE9-A028-5BAC3C1E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E9D1C-7739-40F8-B44C-FE90570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36298-D9C1-4A33-8A2C-4A8DB049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C6AB-4EB1-4993-A52D-CB7805B2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9FB8-CFD1-44F8-A633-3EAE8050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7DB31-DC43-49E2-AF06-ED6EDB93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620-0170-4282-9CAF-319855CB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4DFA5-FA27-48DF-90CB-00EB65AA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30A20-529D-4CC3-B7DB-BEB92AFC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4F674-C427-4ACB-8F6D-ACA62AA2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7246E-5BC8-4600-B2C7-E6A39DA0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825F4-F946-4013-9992-13A356FF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AA640-4588-4733-9DDE-328C6FF5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DF2F5-6008-457C-9B51-D1710991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3B158-8818-4B45-86FD-BAE8BB9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94FE9-D930-4CED-A3B8-D5C6AF08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A6564-CA3B-4890-BDE1-F54DF309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AA0-772D-4051-B03E-490A6099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2931E-460B-4D8A-A169-EA050FCE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885-F2BA-4967-9154-A0A221F6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3A9-84B9-4C1D-AC71-019055A6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915-24BE-4190-8E5B-80A8A3AE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1d7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FD20-57B0-4A53-8FCC-385F560C186B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1d7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E26C-8A3E-4F6E-9F3B-3C83E611975B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1d7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6474-22D5-4714-A7C3-74CBFD9BBAB6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2CC1-E704-4B13-893F-5029E37CF2C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0588-2AE8-431C-B91F-56BBB1EE68F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83;&#1091;&#1075;&#1072;_(&#1088;&#1077;&#1082;&#1072;)" TargetMode="External"/><Relationship Id="rId2" Type="http://schemas.openxmlformats.org/officeDocument/2006/relationships/hyperlink" Target="http://ru.wikipedia.org/wiki/&#1042;&#1086;&#1083;&#1075;&#1072;_(&#1088;&#1077;&#1082;&#1072;)" TargetMode="External"/><Relationship Id="rId3" Type="http://schemas.openxmlformats.org/officeDocument/2006/relationships/hyperlink" Target="http://ru.wikipedia.org/wiki/&#1050;&#1086;&#1089;&#1090;&#1088;&#1086;&#1084;&#1072;" TargetMode="External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229600" cy="27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f273e"/>
                </a:solidFill>
                <a:latin typeface="Arial Black"/>
              </a:rPr>
              <a:t>ТЕМА: город Шарья 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"/>
          <p:cNvSpPr/>
          <p:nvPr/>
        </p:nvSpPr>
        <p:spPr>
          <a:xfrm>
            <a:off x="395280" y="404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1f08"/>
                </a:solidFill>
                <a:latin typeface="Arial"/>
              </a:rPr>
              <a:t>Окружающий</a:t>
            </a:r>
            <a:br>
              <a:rPr sz="3600"/>
            </a:br>
            <a:r>
              <a:rPr b="0" lang="en-US" sz="3600" spc="-1" strike="noStrike">
                <a:solidFill>
                  <a:srgbClr val="fe1f08"/>
                </a:solidFill>
                <a:latin typeface="Arial"/>
              </a:rPr>
              <a:t>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258920" y="4653000"/>
            <a:ext cx="68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Выполнил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ученица 2 в клас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Разумова Диа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Евразия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19" name="Рисунок 18" descr="http://temples.ru/private/f000264/264_0087035b.jpg"/>
          <p:cNvPicPr/>
          <p:nvPr/>
        </p:nvPicPr>
        <p:blipFill>
          <a:blip r:embed="rId1"/>
          <a:stretch/>
        </p:blipFill>
        <p:spPr>
          <a:xfrm>
            <a:off x="684360" y="189000"/>
            <a:ext cx="5013000" cy="52560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84360" y="5949360"/>
            <a:ext cx="3816360" cy="3682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Церковь Николая в городе Шар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город Шарья – это город в котором я родилас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"/>
          <p:cNvSpPr/>
          <p:nvPr/>
        </p:nvSpPr>
        <p:spPr>
          <a:xfrm>
            <a:off x="1042920" y="260280"/>
            <a:ext cx="52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ород Шарь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 Black"/>
              </a:rPr>
              <a:t>Спасибо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 Black"/>
              </a:rPr>
              <a:t>за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 Black"/>
              </a:rPr>
              <a:t>внимание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"/>
          <p:cNvSpPr/>
          <p:nvPr/>
        </p:nvSpPr>
        <p:spPr>
          <a:xfrm>
            <a:off x="1042920" y="260280"/>
            <a:ext cx="52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ород Шарь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ород Шарь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Город Шарья – это город России, находится в Костромской области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1960" y="344520"/>
            <a:ext cx="748008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ород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Шарь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                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"/>
          <p:cNvSpPr/>
          <p:nvPr/>
        </p:nvSpPr>
        <p:spPr>
          <a:xfrm>
            <a:off x="6010920" y="2349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3577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453080" y="443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78160" y="54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56000" y="3789360"/>
            <a:ext cx="4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81080" y="213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637000"/>
            <a:ext cx="77724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Город Шарья – основан в 1906 году, население в город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36 659 человек</a:t>
            </a: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ород Шарь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Город расположен на реке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Ветлуг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 (приток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Волги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)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97240" indent="-5972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Шарья – город равноудалённый от областных центров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Костром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 (на запад), Нижний Новгород (на юг) и Киров (на восток). Примерно на том же расстоянии в северном направлении находится город Великий Устюг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"/>
          <p:cNvSpPr/>
          <p:nvPr/>
        </p:nvSpPr>
        <p:spPr>
          <a:xfrm>
            <a:off x="0" y="3286080"/>
            <a:ext cx="4786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cc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84820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16360" y="5373720"/>
            <a:ext cx="416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103"/>
                </a:solidFill>
                <a:latin typeface="Arial"/>
              </a:rPr>
              <a:t>Герб города Шарь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9640" y="404640"/>
            <a:ext cx="66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Символы города Шарь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Рисунок 6" descr="File:Flag of Sharya (Kostroma oblast).png"/>
          <p:cNvPicPr/>
          <p:nvPr/>
        </p:nvPicPr>
        <p:blipFill>
          <a:blip r:embed="rId1"/>
          <a:stretch/>
        </p:blipFill>
        <p:spPr>
          <a:xfrm>
            <a:off x="324000" y="2205000"/>
            <a:ext cx="3006720" cy="191628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3" descr="http://www.bankgorodov.ru/coa/2224.png"/>
          <p:cNvPicPr/>
          <p:nvPr/>
        </p:nvPicPr>
        <p:blipFill>
          <a:blip r:embed="rId2"/>
          <a:stretch/>
        </p:blipFill>
        <p:spPr>
          <a:xfrm>
            <a:off x="5508720" y="2276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395280" y="4437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103"/>
                </a:solidFill>
                <a:latin typeface="Arial"/>
              </a:rPr>
              <a:t>Флаг города Шарь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476360" y="765000"/>
            <a:ext cx="806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042920" y="260280"/>
            <a:ext cx="52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ород Шарь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39640" y="2360880"/>
            <a:ext cx="66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Современная Шарья - один из центров лесной и деревообрабатывающей промышленности области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63370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Достопримечательности города Шарь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10" name="Рисунок 9" descr="Файл:Sharya Monument.jpg"/>
          <p:cNvPicPr/>
          <p:nvPr/>
        </p:nvPicPr>
        <p:blipFill>
          <a:blip r:embed="rId1"/>
          <a:stretch/>
        </p:blipFill>
        <p:spPr>
          <a:xfrm>
            <a:off x="324000" y="1557360"/>
            <a:ext cx="6912000" cy="42480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830880" y="6085800"/>
            <a:ext cx="4708440" cy="3682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Памятник павшим воинам в городе Шар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Евразия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13" name="Рисунок 12" descr="File:Sharya Vokzal.jpg"/>
          <p:cNvPicPr/>
          <p:nvPr/>
        </p:nvPicPr>
        <p:blipFill>
          <a:blip r:embed="rId1"/>
          <a:stretch/>
        </p:blipFill>
        <p:spPr>
          <a:xfrm>
            <a:off x="539640" y="549360"/>
            <a:ext cx="5896080" cy="49672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826920" y="5836680"/>
            <a:ext cx="2673360" cy="3682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Вокзал в городе Шар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Евразия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"/>
          <p:cNvSpPr/>
          <p:nvPr/>
        </p:nvSpPr>
        <p:spPr>
          <a:xfrm>
            <a:off x="684360" y="5949360"/>
            <a:ext cx="4679640" cy="3682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Паровоз-памятник П36-0147 город Шар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Рисунок 15" descr="File:Sharya monument parovoz.jpg"/>
          <p:cNvPicPr/>
          <p:nvPr/>
        </p:nvPicPr>
        <p:blipFill>
          <a:blip r:embed="rId1"/>
          <a:stretch/>
        </p:blipFill>
        <p:spPr>
          <a:xfrm>
            <a:off x="539640" y="836640"/>
            <a:ext cx="5937480" cy="444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</cp:lastModifiedBy>
  <dcterms:modified xsi:type="dcterms:W3CDTF">2013-03-17T16:17:05Z</dcterms:modified>
  <cp:revision>194</cp:revision>
  <dc:subject/>
  <dc:title>ПУТЕШЕСТВИЕ ПО ПЛАНЕТЕ</dc:title>
</cp:coreProperties>
</file>