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CECB-02D3-4D4A-A800-94E224275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54FC-ED16-44C1-ABD4-D7D374E2CC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832-3A0C-4980-8D1A-29358BEC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86C-0D12-47AC-9DF8-F07B3CF1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434-CBE8-4577-A3F6-D6560291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214-3B4D-43F6-A57D-5D335BAB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B4D2-8BB4-41E7-BCED-5E946FD2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D114-E31D-4C39-A6C5-A75E50B3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C12-4FD2-4C1C-B1F3-2C3EC9A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5263-12C5-4263-A2F6-8FCAB6C9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D653-F245-4DEA-9179-1A2091CB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643-724C-485B-AB42-6F0CBC53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02D5-C07A-4BC9-A4D0-5B5E6D1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AE6-A556-4B0E-BEEA-D33178B4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8E23-A2E4-4FEC-B512-A8DF47C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F88-77DD-44DC-AA8B-8223193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320E-4DE7-4D39-BCCC-57B09D5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2827-398E-4382-B95A-3766DE37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3D39-4700-487E-B1DE-F87539D6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2D1F-42C2-4C05-B767-FF0B8D16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9D04-E237-4E0E-B417-67D13CFF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100E3-1326-4811-A1FB-4D697579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EEAF-85E7-4CC2-83F0-806C998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AE02B-17F3-42B6-BA03-1CF68157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858-26BA-498C-8EF7-B8CC880C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3AFC2-91B7-4C4E-9136-D847F2DE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E6FF-065D-47DC-9229-DFEAF41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1F57-6324-4A2B-BCEC-2C08CCD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4547-D8D8-4ADD-9F39-94773D6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229C-4311-47BF-8657-60AC4236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46AF-78D8-4DD6-9A94-E37BAC7E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4601-05A5-44AF-B95E-437B87B4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3E8C-C96A-4141-9B58-A1816AD7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069F-A009-46D2-868F-DB4BC185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6B37-51A8-43EF-AAD3-264E96F9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9C5-1E3B-4D85-AA68-C26B17E5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A4709-B96A-4953-B677-0E11CA6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079B-F4D2-4AD8-90E6-0A042350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A879A-0D0F-45C4-A31E-8D8C98B6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F83D-700D-4FCB-91B4-B79EE76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A4CF-14FE-4AB9-A737-C6B360FB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FE78-F10C-438F-8E81-D2FF286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4936-4F58-4D4D-94A3-876F4E8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24BE-B28F-44C5-B09B-42FA6CC9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DCBF-195A-4561-9CA5-D949ED6B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5E98-70A2-427F-81DB-F0597F81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54A-0BC0-4F96-B8A2-66C4B1F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E880-BA3E-4C10-9555-C5152A6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D80A1-8F7D-4191-907E-97A7A6A5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6886-0994-41B7-964E-0EE5A97B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EA58-B86C-4DBA-BE47-F70B805B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61F12-5297-4580-A1AA-D05A39D1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E226-A459-48D4-B024-BFB8499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256D-3CC6-4A8B-93AC-65F92D37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CC93-D611-41A8-A6E0-6399FFA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0F001-0BB9-4B8B-90AB-C68E9176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62BF-1901-4C2B-A2A4-9CC893F3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642-F42F-44AA-AA64-28537E2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B4763-DADC-4FCA-BED5-588FBD5F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C07-4B6D-45AC-AEE1-70A81DE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C4B-A9EE-4A42-B5E8-8C2E29D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414-BC38-4777-803D-43F9657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1d7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A824-C840-410E-B2B4-62F728E20661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1d7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D90-B071-4954-9496-30C726A3BF6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1d7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1634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b4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cada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c7b7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C0B-6D27-43BD-BAC4-2CC585092A0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26B-831D-4769-959B-3367AAEB5A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CD6-228A-425E-BF41-560BD4C41D7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90;&#1083;&#1091;&#1075;&#1072;_(&#1088;&#1077;&#1082;&#1072;)" TargetMode="External"/><Relationship Id="rId2" Type="http://schemas.openxmlformats.org/officeDocument/2006/relationships/hyperlink" Target="http://ru.wikipedia.org/wiki/&#1042;&#1086;&#1083;&#1075;&#1072;_(&#1088;&#1077;&#1082;&#1072;)" TargetMode="External"/><Relationship Id="rId3" Type="http://schemas.openxmlformats.org/officeDocument/2006/relationships/hyperlink" Target="http://ru.wikipedia.org/wiki/&#1050;&#1086;&#1089;&#1090;&#1088;&#1086;&#1084;&#1072;" TargetMode="Externa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2133720"/>
            <a:ext cx="8229600" cy="27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f273e"/>
                </a:solidFill>
                <a:latin typeface="Arial Black"/>
              </a:rPr>
              <a:t>ТЕМА: город Шарья 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404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1f08"/>
                </a:solidFill>
                <a:latin typeface="Arial"/>
              </a:rPr>
              <a:t>Окружающий</a:t>
            </a:r>
            <a:br>
              <a:rPr sz="3600"/>
            </a:br>
            <a:r>
              <a:rPr b="0" lang="en-US" sz="3600" spc="-1" strike="noStrike">
                <a:solidFill>
                  <a:srgbClr val="fe1f08"/>
                </a:solidFill>
                <a:latin typeface="Arial"/>
              </a:rPr>
              <a:t>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465300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ыполн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ученица 2 в 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Разумова Диа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Евраз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9" name="Рисунок 18" descr="http://temples.ru/private/f000264/264_0087035b.jpg"/>
          <p:cNvPicPr/>
          <p:nvPr/>
        </p:nvPicPr>
        <p:blipFill>
          <a:blip r:embed="rId1"/>
          <a:stretch/>
        </p:blipFill>
        <p:spPr>
          <a:xfrm>
            <a:off x="684360" y="189000"/>
            <a:ext cx="5013000" cy="5256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84360" y="5949360"/>
            <a:ext cx="381636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Церковь Николая в городе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город Шарья – это город в котором я родилас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1042920" y="260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 Black"/>
              </a:rPr>
              <a:t>Спасибо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 Black"/>
              </a:rPr>
              <a:t>за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 Black"/>
              </a:rPr>
              <a:t>внимание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1042920" y="260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Город Шарья – это город России, находится в Костромской области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1960" y="344520"/>
            <a:ext cx="748008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Шарь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endParaRPr b="0" lang="en-US" sz="2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6010920" y="234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357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53080" y="4437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78160" y="54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378936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213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637000"/>
            <a:ext cx="77724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Город Шарья – основан в 1906 году, население в город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   </a:t>
            </a:r>
            <a:r>
              <a:rPr b="0" lang="en-US" sz="4400" spc="-1" strike="noStrike">
                <a:solidFill>
                  <a:srgbClr val="fe1f08"/>
                </a:solidFill>
                <a:latin typeface="Arial Black"/>
              </a:rPr>
              <a:t>36 659 человек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ород расположен на реке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Ветлуг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(приток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Волги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)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-5972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Шарья – город равноудалённый от областных центров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Костром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(на запад), Нижний Новгород (на юг) и Киров (на восток). Примерно на том же расстоянии в северном направлении находится город Великий Устюг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0" y="3286080"/>
            <a:ext cx="4786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cc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848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16360" y="537372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103"/>
                </a:solidFill>
                <a:latin typeface="Arial"/>
              </a:rPr>
              <a:t>Герб города Шарь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404640"/>
            <a:ext cx="66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Символы города Шарь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6" descr="File:Flag of Sharya (Kostroma oblast).png"/>
          <p:cNvPicPr/>
          <p:nvPr/>
        </p:nvPicPr>
        <p:blipFill>
          <a:blip r:embed="rId1"/>
          <a:stretch/>
        </p:blipFill>
        <p:spPr>
          <a:xfrm>
            <a:off x="324000" y="2205000"/>
            <a:ext cx="3006720" cy="191628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" descr="http://www.bankgorodov.ru/coa/2224.png"/>
          <p:cNvPicPr/>
          <p:nvPr/>
        </p:nvPicPr>
        <p:blipFill>
          <a:blip r:embed="rId2"/>
          <a:stretch/>
        </p:blipFill>
        <p:spPr>
          <a:xfrm>
            <a:off x="5508720" y="2276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95280" y="443700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103"/>
                </a:solidFill>
                <a:latin typeface="Arial"/>
              </a:rPr>
              <a:t>Флаг города Шарь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476360" y="765000"/>
            <a:ext cx="806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42920" y="260280"/>
            <a:ext cx="52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город Ш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9640" y="2360880"/>
            <a:ext cx="66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Современная Шарья - один из центров лесной и деревообрабатывающей промышленности области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337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Достопримечательности города Шарь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0" name="Рисунок 9" descr="Файл:Sharya Monument.jpg"/>
          <p:cNvPicPr/>
          <p:nvPr/>
        </p:nvPicPr>
        <p:blipFill>
          <a:blip r:embed="rId1"/>
          <a:stretch/>
        </p:blipFill>
        <p:spPr>
          <a:xfrm>
            <a:off x="324000" y="1557360"/>
            <a:ext cx="6912000" cy="4248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830880" y="6085800"/>
            <a:ext cx="470844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амятник павшим воинам в городе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Евраз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3" name="Рисунок 12" descr="File:Sharya Vokzal.jpg"/>
          <p:cNvPicPr/>
          <p:nvPr/>
        </p:nvPicPr>
        <p:blipFill>
          <a:blip r:embed="rId1"/>
          <a:stretch/>
        </p:blipFill>
        <p:spPr>
          <a:xfrm>
            <a:off x="539640" y="549360"/>
            <a:ext cx="5896080" cy="49672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826920" y="5836680"/>
            <a:ext cx="267336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окзал в городе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Евраз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/>
          <p:nvPr/>
        </p:nvSpPr>
        <p:spPr>
          <a:xfrm>
            <a:off x="684360" y="5949360"/>
            <a:ext cx="4679640" cy="3682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аровоз-памятник П36-0147 город Шар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Рисунок 15" descr="File:Sharya monument parovoz.jpg"/>
          <p:cNvPicPr/>
          <p:nvPr/>
        </p:nvPicPr>
        <p:blipFill>
          <a:blip r:embed="rId1"/>
          <a:stretch/>
        </p:blipFill>
        <p:spPr>
          <a:xfrm>
            <a:off x="539640" y="836640"/>
            <a:ext cx="5937480" cy="44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</cp:lastModifiedBy>
  <dcterms:modified xsi:type="dcterms:W3CDTF">2013-03-17T16:17:05Z</dcterms:modified>
  <cp:revision>194</cp:revision>
  <dc:subject/>
  <dc:title>ПУТЕШЕСТВИЕ ПО ПЛАНЕТЕ</dc:title>
</cp:coreProperties>
</file>