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3D2-4936-442C-9DA4-3D2A0654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A33-7481-49CB-B621-42C4672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E6E-3C97-49AA-8FCC-7AD139C8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118-AA94-4B7A-9DC3-E0EDA5BE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2A31-CD38-4476-BA42-72E530EB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E742-4078-4873-B944-D0E31AC7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21E9-B0BD-4F28-BB88-8F49855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E69-42A9-4470-9D5F-AFD80FB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6A61-524A-43A4-9ED2-C6671AC9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EEB6-AF1C-484C-ADDD-CCDF2A23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2D2-1ACD-46A2-9A7B-01B7955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1EE-C552-47B8-B2F7-6E4786EB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CA9-9FD5-449A-840B-217D55D0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55F5-8BBD-4EB8-8BA8-A3B27CEE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A567-DB38-482B-85F6-E200AF4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E75A-BE42-471C-9E05-EEDA41EA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9CB4-F2EB-492B-9C25-5BD4161A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66A-C070-403A-B97A-99B6CBC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07C-9081-4D76-97BE-E01C6EA4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924-D72C-4977-A6D6-DCE98EC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5C1-FF72-42E8-9B03-0E28A05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629-B904-4DCC-BA68-3795F5E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166-31F6-4815-92BC-D495566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4CC-7044-4280-8F2F-E2A884F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C65-6F69-483A-9CD0-8962EAE8CF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E93C-4F68-4141-83DC-78AA3FA98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171440" y="2073240"/>
            <a:ext cx="68011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Elephant"/>
              </a:rPr>
              <a:t>«СОХРАНИМ НАШУ ЗЕМЛ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Elephant"/>
              <a:ea typeface="Elepha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Elephan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Elephant"/>
              </a:rPr>
              <a:t>ГОЛУБОЙ И ЗЕЛЁНОЙ 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Elephant"/>
              <a:ea typeface="Elephan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Жалоба №2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419720" y="1523880"/>
            <a:ext cx="4425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На земном шаре нет, пожалуй, такого существа, о котором рассказывали бы столько легенд и небылиц, как о нас. Не нравится, что темноту мы любим, что на обычных птиц и зверей не похожи. Но мы, же друзья человека, а не враги. Что же нам делать? Ведь такими мы и родились. Любим висеть вниз головой. А обижают нас незаслужен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Жалоба №3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3712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Я - единственное животное, которое может подпустить человека довольно близко. Но вовсе не потому, что я такой храбрый. Просто я плохо вижу и больше надеюсь на свой нюх. Зато у меня есть колючая защита. Кто я, узнайт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916520" y="1447920"/>
            <a:ext cx="3929040" cy="46479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Жалоба №4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410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214960" y="1142640"/>
            <a:ext cx="3929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Меня называют непоседливым зверьком. Я постоянно в движении: быстро спускаюсь с ели на землю, тотчас взлетаю по стволу обратно или перепрыгиваю с ветки на ветку. Ах, как я устала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5 конкурс: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en-US" sz="3600" spc="-1" strike="noStrike" u="sng">
                <a:solidFill>
                  <a:srgbClr val="ffffb7"/>
                </a:solidFill>
                <a:uFillTx/>
                <a:latin typeface="Arial Black"/>
              </a:rPr>
              <a:t>"Лекарственные растения"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047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Название, какого растения говорит, где оно живёт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563724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21760" y="6095880"/>
            <a:ext cx="31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Arial"/>
              </a:rPr>
              <a:t>ПОДОРОЖ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91404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Что за трава, которую и слепые узнают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419720" cy="5486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6019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КРАП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3927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Гирлянды белых маленьких колокольчиков висят между большими остроконечными листьями. А летом на месте цветов - красные ягоды. Они ядови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68648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81480" y="6095880"/>
            <a:ext cx="293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ЛАНДЫ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038480" y="5866920"/>
            <a:ext cx="3927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ВЕРО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457200"/>
            <a:ext cx="5334120" cy="5181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609480"/>
            <a:ext cx="3200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рава от 99 болезне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914400" y="5105520"/>
            <a:ext cx="120024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6 конкурс: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написать программу по охране окружающей сред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Black"/>
              </a:rPr>
              <a:t>Примерная программа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 Black"/>
              </a:rPr>
              <a:t>по охране окружающей сред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Создание специальных заповедников, национальных парков, а также заказников. Это необходимо для того, чтобы сохранить первозданность природных комплек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Также одной из не менее значимых мер является ограничение выбросов в атмосферу, что необходимо для улучшения нашей экологической обстан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Помимо этого также хотелось бы обратить ваше внимание и на такую меру, которую включает в себя охрана окружающей среды, как ограничение несанкционированного выброса мусора. Для этих целей специалисты-экологи используют специальные методы экологической логистики, которые способны решить данную проблему достаточно быстро и эффектив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Последняя мера, на которую мы бы хотели обратить ваше внимание, заключается в ограничении лова рыбы, а также охоты. Это поможет нам сохранить определенные виды живых существ: рыб животных и птиц, которых итак с каждым годов становится все меньше и мень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- Ребята, я и все кто готовили сегодняшний экологический день, надеются, что вы понимаете, какие экологические проблемы сейчас существуют и  что нужно бережно относиться к растениям и животным. Стараться, чтобы чёрных пятен на Земле было меньше. Ведь если погибнет природа, погибнем и мы с вами, т.е. всё челове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53000" cy="317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4572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Цель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раскрыть основные экологические проблемы нашей плане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525760"/>
            <a:ext cx="777240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- расширить кругозор учащихся об экологических проблема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- формирование бережного отношения и любви к природ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- развивать культуру поведения в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1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1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8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85800" y="304920"/>
            <a:ext cx="4191120" cy="6248160"/>
            <a:chOff x="685800" y="304920"/>
            <a:chExt cx="4191120" cy="62481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41911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685800" y="304920"/>
              <a:ext cx="4191120" cy="624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028840" y="685800"/>
            <a:ext cx="3816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 дарите любимым черёмухи ст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Боль сирени и вопли жасм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Будьте щедры душой, не тревожа куст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одарите звезду в небе си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е губите цветы на лугах и в лесу, Берегите красу первоздан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ПРЕЗЕНТАЦИЮ ПОДГОТОВИЛА УЧИТЕЛЬ АНГЛИЙСКОГО ЯЗЫКА МБОУ «КУГЕСЬСКАЯ СОШ №1» ФЕДОРОВА НАТАЛИЯ ЮРЬЕВН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нная презентация предназначена для учащихся 5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4648320" cy="6858000"/>
            <a:chOff x="0" y="0"/>
            <a:chExt cx="464832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0" y="0"/>
              <a:ext cx="464832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99ff66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45684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Есть просто хр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Есть храм нау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А есть ещё природы храм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С лесами, тянувшими р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Навстречу солнцу и ветр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Он свят в любое время сут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Открыт для нас в жару и сты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Входи сюд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Будь сердцем чуток, не оскверняй её святынь</a:t>
            </a:r>
            <a:r>
              <a:rPr b="0" lang="en-US" sz="2000" spc="-1" strike="noStrike">
                <a:solidFill>
                  <a:srgbClr val="ffffb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Земля? Какая о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Земля рождает прозрачные ручейки и мощные потоки, травы и деревья. Она носит на себе океаны, облака и их тени. Принимает все дожди, снега и туманы. Земля качает на себе города. Выбрасывает вспышки уносящихся ввысь ракет. Но человечество в последнее время стало об этом забывать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Н «Сохраним нашу землю голубой и зеленой"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392904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9720" y="304920"/>
            <a:ext cx="426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Кромсая лёд, меняет рек течень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Твердим о том, что дел не в провор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Но мы ещё придём просить прощень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 этих рек, барханов и бол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 самого гигантского восх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У самого мельчайшего маль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Пока об этом думать неох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Сейчас нам не до этого п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Аэродромы, пирсы и пер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Леса без птиц и земли без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Всё меньше окружающей природ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Всё больше окружающей сре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114800" cy="310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4114800" cy="3292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16761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Arial"/>
              </a:rPr>
              <a:t>придумать название  и девиз команды по защите окружающей сре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30492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 конкурс: 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92904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257440" y="1447920"/>
            <a:ext cx="3319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исовать эмблему команды и объяснить ее зна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3929040" cy="2025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85800" y="304920"/>
            <a:ext cx="66294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онкурс: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3 конкурс </a:t>
            </a:r>
            <a:br>
              <a:rPr sz="4400"/>
            </a:b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«</a:t>
            </a:r>
            <a:r>
              <a:rPr b="0" i="1" lang="ru-RU" sz="4400" spc="-1" strike="noStrike" u="sng">
                <a:solidFill>
                  <a:srgbClr val="ffffff"/>
                </a:solidFill>
                <a:uFillTx/>
                <a:latin typeface="Arial Black"/>
              </a:rPr>
              <a:t>Закончи пословицу»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Аист на крыше 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мир на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1560" indent="-6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90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Не плюй в колодец</a:t>
            </a: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2590920"/>
            <a:ext cx="457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пригодится водицы напи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58128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733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при матери доб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724280"/>
            <a:ext cx="3429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9880" indent="-119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47242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2600" indent="-10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4572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посади с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57680" indent="-15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733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При солнышке тепл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5720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Одно дерево срубил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b7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Arial Black"/>
              </a:rPr>
              <a:t>4 конкурс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"Лесные жалобы" </a:t>
            </a: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(определить от каких животных пришли жалобы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21337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Жалоба №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Сама знаю, что не красавица. Покажись я, многие шарахаются в сторону, а то ещё и камнем бросят или ногой пнут. А за что? Придумали ведь. Что от меня на руках бородавки бывают. Чушь какая-то! Не всем же быть красавицами! А польза от меня людям большая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00600" y="1981080"/>
            <a:ext cx="4191120" cy="4648320"/>
            <a:chOff x="4800600" y="1981080"/>
            <a:chExt cx="4191120" cy="46483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4800600" y="1981080"/>
              <a:ext cx="419112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4800600" y="1981080"/>
              <a:ext cx="419112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3-04-01T21:09:2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