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CD8C-0943-4F4B-BB56-465C23E3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E23-57FF-4748-A237-670F9CC7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DBBD-99B0-48B7-A189-DB175D63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1A82-19AC-405A-9DEC-BDF4A4BB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0D1C-506E-4CE3-B3E8-E483415B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69E6-E533-40DB-A95B-F1E817B5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833E-1706-485A-A6C4-E5AF8DF7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620F-5EEA-4226-BEE5-70ABA093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2EA7-DFEC-4736-B97B-53543DBD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6C46-6CA4-476B-9D5E-0843BEB5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0E50-E526-490B-AB3D-2B9F608D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B7BD-4A66-470E-AA29-A233FD6C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1828-8641-47B3-8D1A-F8F606F5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7B31-3BF1-4CE5-A166-27953CA4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031A-E6D6-46DA-93A5-61D41F6A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56C3-2F8D-448B-98F3-9384B8C0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F475-E422-4A83-99FC-590FC209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D25-6B34-44B7-B6E1-3CC78590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061-0C22-4C9E-8319-4DD9C465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2EE-FA62-4ACB-9C96-8D5D87D8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EBF3-59C5-46AC-A8D3-2BD807C1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E82-BC09-4D4D-8439-D0A05FA3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AA9-87A7-43F6-9C33-8B4EB776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51A-6029-45BC-AC35-C40C9AF7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034F-B1CC-423F-98B7-A42005C251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A072-D192-41CD-A85C-702F6B568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171440" y="2073240"/>
            <a:ext cx="6801120" cy="27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Elephant"/>
              </a:rPr>
              <a:t>«СОХРАНИМ НАШУ ЗЕМЛ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Elephant"/>
              <a:ea typeface="Elepha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Elephant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Elephant"/>
              </a:rPr>
              <a:t>ГОЛУБОЙ И ЗЕЛЁНОЙ 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Elephant"/>
              <a:ea typeface="Elephant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Black"/>
              </a:rPr>
              <a:t>Жалоба №2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419720" y="1523880"/>
            <a:ext cx="4425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На земном шаре нет, пожалуй, такого существа, о котором рассказывали бы столько легенд и небылиц, как о нас. Не нравится, что темноту мы любим, что на обычных птиц и зверей не похожи. Но мы, же друзья человека, а не враги. Что же нам делать? Ведь такими мы и родились. Любим висеть вниз головой. А обижают нас незаслужен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Black"/>
              </a:rPr>
              <a:t>Жалоба №3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240" y="13712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Я - единственное животное, которое может подпустить человека довольно близко. Но вовсе не потому, что я такой храбрый. Просто я плохо вижу и больше надеюсь на свой нюх. Зато у меня есть колючая защита. Кто я, узнайт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916520" y="1447920"/>
            <a:ext cx="3929040" cy="46479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Black"/>
              </a:rPr>
              <a:t>Жалоба №4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410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5214960" y="1142640"/>
            <a:ext cx="3929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Меня называют непоседливым зверьком. Я постоянно в движении: быстро спускаюсь с ели на землю, тотчас взлетаю по стволу обратно или перепрыгиваю с ветки на ветку. Ах, как я устала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b7"/>
                </a:solidFill>
                <a:uFillTx/>
                <a:latin typeface="Arial Black"/>
              </a:rPr>
              <a:t>5 конкурс: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i="1" lang="en-US" sz="3600" spc="-1" strike="noStrike" u="sng">
                <a:solidFill>
                  <a:srgbClr val="ffffb7"/>
                </a:solidFill>
                <a:uFillTx/>
                <a:latin typeface="Arial Black"/>
              </a:rPr>
              <a:t>"Лекарственные растения"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047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Название, какого растения говорит, где оно живёт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352680" y="1447920"/>
            <a:ext cx="5637240" cy="4495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721760" y="6095880"/>
            <a:ext cx="31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Arial"/>
              </a:rPr>
              <a:t>ПОДОРОЖ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914040"/>
            <a:ext cx="3429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Что за трава, которую и слепые узнают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343400" y="304920"/>
            <a:ext cx="4419720" cy="5486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105520" y="6019920"/>
            <a:ext cx="3429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КРАПИ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3927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Гирлянды белых маленьких колокольчиков висят между большими остроконечными листьями. А летом на месте цветов - красные ягоды. Они ядовит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686480" cy="5486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181480" y="6095880"/>
            <a:ext cx="293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ЛАНДЫ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038480" y="5866920"/>
            <a:ext cx="3927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ВЕРОБ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81280" y="457200"/>
            <a:ext cx="5334120" cy="5181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3520" y="609480"/>
            <a:ext cx="3200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рава от 99 болезне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914400" y="5105520"/>
            <a:ext cx="120024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6 конкурс: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написать программу по охране окружающей сред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6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Black"/>
              </a:rPr>
              <a:t>Примерная программа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 Black"/>
              </a:rPr>
              <a:t>по охране окружающей среды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0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Создание специальных заповедников, национальных парков, а также заказников. Это необходимо для того, чтобы сохранить первозданность природных комплекс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Также одной из не менее значимых мер является ограничение выбросов в атмосферу, что необходимо для улучшения нашей экологической обстанов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Помимо этого также хотелось бы обратить ваше внимание и на такую меру, которую включает в себя охрана окружающей среды, как ограничение несанкционированного выброса мусора. Для этих целей специалисты-экологи используют специальные методы экологической логистики, которые способны решить данную проблему достаточно быстро и эффектив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Последняя мера, на которую мы бы хотели обратить ваше внимание, заключается в ограничении лова рыбы, а также охоты. Это поможет нам сохранить определенные виды живых существ: рыб животных и птиц, которых итак с каждым годов становится все меньше и меньш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38098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- Ребята, я и все кто готовили сегодняшний экологический день, надеются, что вы понимаете, какие экологические проблемы сейчас существуют и  что нужно бережно относиться к растениям и животным. Стараться, чтобы чёрных пятен на Земле было меньше. Ведь если погибнет природа, погибнем и мы с вами, т.е. всё человеч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191120" y="304920"/>
            <a:ext cx="4653000" cy="3171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267080" y="3581280"/>
            <a:ext cx="45720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b7"/>
                </a:solidFill>
                <a:uFillTx/>
                <a:latin typeface="Arial Black"/>
              </a:rPr>
              <a:t>Цель: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раскрыть основные экологические проблемы нашей планет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525760"/>
            <a:ext cx="7772400" cy="37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- расширить кругозор учащихся об экологических проблемах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- формирование бережного отношения и любви к природ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- развивать культуру поведения в прир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63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1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1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85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685800" y="304920"/>
            <a:ext cx="4191120" cy="6248160"/>
            <a:chOff x="685800" y="304920"/>
            <a:chExt cx="4191120" cy="624816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685800" y="304920"/>
              <a:ext cx="41911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 txBox="1"/>
            <p:nvPr/>
          </p:nvSpPr>
          <p:spPr>
            <a:xfrm>
              <a:off x="685800" y="304920"/>
              <a:ext cx="4191120" cy="624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99ff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028840" y="685800"/>
            <a:ext cx="3816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Не дарите любимым черёмухи сто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Боль сирени и вопли жасм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Будьте щедры душой, не тревожа куст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Подарите звезду в небе син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Не губите цветы на лугах и в лесу, Берегите красу первозданн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ПРЕЗЕНТАЦИЮ ПОДГОТОВИЛА УЧИТЕЛЬ АНГЛИЙСКОГО ЯЗЫКА МБОУ «КУГЕСЬСКАЯ СОШ №1» ФЕДОРОВА НАТАЛИЯ ЮРЬЕВН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нная презентация предназначена для учащихся 5 кла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4648320" cy="6858000"/>
            <a:chOff x="0" y="0"/>
            <a:chExt cx="4648320" cy="68580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648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 txBox="1"/>
            <p:nvPr/>
          </p:nvSpPr>
          <p:spPr>
            <a:xfrm>
              <a:off x="0" y="0"/>
              <a:ext cx="464832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99ff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47960" y="456840"/>
            <a:ext cx="4267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Есть просто хра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Есть храм нау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А есть ещё природы храм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С лесами, тянувшими ру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Навстречу солнцу и ветр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Он свят в любое время сут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Открыт для нас в жару и сты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Входи сюда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Будь сердцем чуток, не оскверняй её святынь</a:t>
            </a:r>
            <a:r>
              <a:rPr b="0" lang="en-US" sz="2000" spc="-1" strike="noStrike">
                <a:solidFill>
                  <a:srgbClr val="ffffb7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28600" y="15998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Земля? Какая он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Земля рождает прозрачные ручейки и мощные потоки, травы и деревья. Она носит на себе океаны, облака и их тени. Принимает все дожди, снега и туманы. Земля качает на себе города. Выбрасывает вспышки уносящихся ввысь ракет. Но человечество в последнее время стало об этом забывать</a:t>
            </a: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4648320" cy="5562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0"/>
            <a:ext cx="8381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ВН «Сохраним нашу землю голубой и зеленой"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8320" y="4343400"/>
            <a:ext cx="3929040" cy="2362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19720" y="304920"/>
            <a:ext cx="426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Кромсая лёд, меняет рек течень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Твердим о том, что дел не в проворо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Но мы ещё придём просить прощень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У этих рек, барханов и бол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У самого гигантского восх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У самого мельчайшего маль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Пока об этом думать неохо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Сейчас нам не до этого по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Аэродромы, пирсы и перр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Леса без птиц и земли без 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Всё меньше окружающей природ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Всё больше окружающей сре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114800" cy="3102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52280" y="3429000"/>
            <a:ext cx="4114800" cy="3292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600" y="167616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Arial"/>
              </a:rPr>
              <a:t>придумать название  и девиз команды по защите окружающей сре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400" y="30492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1 конкурс: 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724280" cy="495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3929040" cy="4191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5257440" y="1447920"/>
            <a:ext cx="33195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исовать эмблему команды и объяснить ее зна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3929040" cy="2025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685800" y="304920"/>
            <a:ext cx="662940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 конкурс: 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 Black"/>
              </a:rPr>
              <a:t>3 конкурс </a:t>
            </a:r>
            <a:br>
              <a:rPr sz="4400"/>
            </a:b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 Black"/>
              </a:rPr>
              <a:t>«</a:t>
            </a: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Arial Black"/>
              </a:rPr>
              <a:t>Закончи пословицу»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120" y="19051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-6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Аист на крыше </a:t>
            </a: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1981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8000"/>
          </a:bodyPr>
          <a:p>
            <a:pPr marL="61560" indent="-6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ff"/>
                </a:solidFill>
                <a:latin typeface="Arial"/>
              </a:rPr>
              <a:t>мир на зем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5909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Не плюй в колодец</a:t>
            </a: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 indent="-8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 indent="-8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2590920"/>
            <a:ext cx="4572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ff"/>
                </a:solidFill>
                <a:latin typeface="Arial"/>
              </a:rPr>
              <a:t>пригодится водицы напи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358128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7339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ff"/>
                </a:solidFill>
                <a:latin typeface="Arial"/>
              </a:rPr>
              <a:t>при матери доб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724280"/>
            <a:ext cx="3429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119880" indent="-11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472428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45720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157680" indent="-15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ff"/>
                </a:solidFill>
                <a:latin typeface="Arial"/>
              </a:rPr>
              <a:t>посади сор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57680" indent="-15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7339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При солнышке тепл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 indent="-8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 indent="-8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45720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Одно дерево срубил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i="1" lang="en-US" sz="2800" spc="-1" strike="noStrike" u="sng">
                <a:solidFill>
                  <a:srgbClr val="ffff66"/>
                </a:solidFill>
                <a:uFillTx/>
                <a:latin typeface="Arial Black"/>
              </a:rPr>
              <a:t>4 конкурс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"Лесные жалобы" </a:t>
            </a:r>
            <a:r>
              <a:rPr b="1" lang="en-US" sz="2800" spc="-1" strike="noStrike">
                <a:solidFill>
                  <a:srgbClr val="ffff66"/>
                </a:solidFill>
                <a:latin typeface="Arial Black"/>
              </a:rPr>
              <a:t>(определить от каких животных пришли жалобы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213372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Жалоба №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Сама знаю, что не красавица. Покажись я, многие шарахаются в сторону, а то ещё и камнем бросят или ногой пнут. А за что? Придумали ведь. Что от меня на руках бородавки бывают. Чушь какая-то! Не всем же быть красавицами! А польза от меня людям большая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800600" y="1981080"/>
            <a:ext cx="4191120" cy="4648320"/>
            <a:chOff x="4800600" y="1981080"/>
            <a:chExt cx="4191120" cy="464832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4800600" y="1981080"/>
              <a:ext cx="419112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 txBox="1"/>
            <p:nvPr/>
          </p:nvSpPr>
          <p:spPr>
            <a:xfrm>
              <a:off x="4800600" y="1981080"/>
              <a:ext cx="419112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3-04-01T21:09:2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