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7E3-0741-4204-95AF-BAC23AF7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E3A-B581-4004-AC8D-882C04A9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324-F36C-42F0-B470-149493BB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5AE-10EA-420E-AEDD-1E99F989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937-B90D-4E17-A74B-C4538D0D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B3B-8B77-483D-86F4-ACE87095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DD4-2634-4839-8AAE-DE3A249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49F-A2B2-4C3E-A112-1088416A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245-AE7B-4F99-AB33-15D865F8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F6D-1B08-420F-B56B-7FC2455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E39-D64D-4A6B-9BDE-537B0A0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564-1570-4300-9FD6-81B229A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FA9497-E8C7-459D-A116-F141FE89ECD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rt in our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горь</cp:lastModifiedBy>
  <dcterms:modified xsi:type="dcterms:W3CDTF">2013-03-18T18:35:32Z</dcterms:modified>
  <cp:revision>5</cp:revision>
  <dc:subject/>
  <dc:title>Present your team</dc:title>
</cp:coreProperties>
</file>