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961-B0BF-4237-A5D9-4949F131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62F-E5BB-4424-ACC0-176CB565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3C8-E9E1-456C-9DA7-7F3E7D4C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B8A-54A2-449E-9285-874E82FA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C73-8986-4183-9B63-BB4276E4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B02-44C1-48A8-87D0-F651FE10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829-BDD5-401D-A66A-2CEBF7B5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A1A-D23E-415D-ABE1-9A63218F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AF7-FF83-4A34-BE42-BA2F96AD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FE6-C170-41B6-AA3F-C952F8A8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701-49CE-4C03-89B9-7A1F173C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778-D9E1-4EE0-8C1E-5C2F943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51E0F2-C953-47E6-B1C5-0384539234AA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421000"/>
            <a:ext cx="518472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rt in our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горь</cp:lastModifiedBy>
  <dcterms:modified xsi:type="dcterms:W3CDTF">2013-03-18T18:35:32Z</dcterms:modified>
  <cp:revision>5</cp:revision>
  <dc:subject/>
  <dc:title>Present your team</dc:title>
</cp:coreProperties>
</file>