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24B-02C1-4BBF-B53B-323821DE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AA4-E81C-42A0-BBA1-E5988CE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FBB-7771-4781-B526-76E2EC3A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FC2-2E0C-41EE-A1C6-E5CDFCBB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DA0-DB8E-4423-A375-EEAE7BCD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F8A8-A1D4-4058-AD87-FE868497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023-0BEC-457E-8908-6938506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CC5-5279-4AA0-83CF-B2DB53A2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AA0-B12E-47D2-AE5E-4A1C292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16D-458D-4600-95E8-B961726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66A-1B6E-4936-9CF6-F2447CCF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27F-3FF2-4E39-BA1C-367245C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3E6D9-36D4-410D-B374-B4636972D87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3:05Z</dcterms:modified>
  <cp:revision>4</cp:revision>
  <dc:subject/>
  <dc:title>Present your team</dc:title>
</cp:coreProperties>
</file>