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EEF-E1AB-42A0-BB2E-81663207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CD4-8D9A-49A1-B357-9283F4F7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996-5B73-4A9F-85B8-2E789CBF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BCA-9E0A-49D8-8D51-8067FF01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9E4-3EAE-4679-9AC3-3EAF62CE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205-4680-4274-959E-1E73E5F2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238-A8AD-4104-BADF-4693EAE5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155-B071-4313-A5FE-809F79BF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39C-E6D3-455E-977E-5EE05CE4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2C8-9442-4782-8708-98EF6487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77B-F54A-46CF-9185-578ECA2E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022-3409-433A-8541-4614D41F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E7C05-E525-4199-9121-4AAFABD5FCD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2421000"/>
            <a:ext cx="5184720" cy="18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9:29:16Z</dcterms:created>
  <dc:creator>Ирина</dc:creator>
  <dc:description/>
  <dc:language>en-US</dc:language>
  <cp:lastModifiedBy>Ирина</cp:lastModifiedBy>
  <dcterms:modified xsi:type="dcterms:W3CDTF">2013-02-11T19:33:05Z</dcterms:modified>
  <cp:revision>4</cp:revision>
  <dc:subject/>
  <dc:title>Present your team</dc:title>
</cp:coreProperties>
</file>