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gif" ContentType="image/gif"/>
  <Override PartName="/ppt/media/image14.wmf" ContentType="image/x-wmf"/>
  <Override PartName="/ppt/media/image13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18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B5E-089C-4171-92C4-C382079B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898-A848-47A2-BC9B-24022800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F44-2F5F-4137-94BC-AB06D6C0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6C6-140F-45BA-BCE4-F31D445B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376-7457-4A52-B255-EBF0F016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F621-7C1A-40AE-BCD5-367BE917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F542-CFD0-4D20-9EB6-BE3FFEE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45C-24BD-499C-90CE-C58F62E3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0F2D-151E-4B73-ACC9-6CDBE534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E03-E399-4D2F-9613-C6DC5E0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D71D-4567-4AB1-A554-BF4D3E7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863-B5F3-411B-B6F6-A8C89B4C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AD2-A59F-4717-80D6-97BDD4D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1417-34FF-4424-A35F-7B0A303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C394-1377-4553-8DAA-FB101D3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8620-3471-4697-ABB3-AF1F3EC3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B4E2-E839-44F3-B284-D70A80D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B65-B428-482A-9E72-C17CD02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401-9971-49C5-9D23-A02064E2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648-5AEE-4A48-9124-A866D152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EC-54F7-42CC-B206-17768997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3D7-BA8D-48ED-8D02-47190EF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301-A206-4156-B4F1-DE869E5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46A-7846-41D3-901C-E8157643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78D4-98D5-49A0-97EE-8A155AEA0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0E5-C384-4E39-AFB8-A47FCAC096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08720" y="1915920"/>
            <a:ext cx="297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1304"/>
                </a:solidFill>
                <a:latin typeface="Times New Roman"/>
              </a:rPr>
              <a:t>Виктор Юзефович Драгунский</a:t>
            </a:r>
            <a:r>
              <a:rPr b="1" i="1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221304"/>
                </a:solidFill>
                <a:latin typeface="Times New Roman"/>
              </a:rPr>
              <a:t>(1913-1972гг.)</a:t>
            </a:r>
            <a:endParaRPr b="0" lang="en-US" sz="36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25760" y="4571640"/>
            <a:ext cx="71611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85"/>
          <p:cNvPicPr/>
          <p:nvPr/>
        </p:nvPicPr>
        <p:blipFill>
          <a:blip r:embed="rId1"/>
          <a:stretch/>
        </p:blipFill>
        <p:spPr>
          <a:xfrm>
            <a:off x="1258920" y="765000"/>
            <a:ext cx="4033800" cy="555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S00554_"/>
          <p:cNvPicPr/>
          <p:nvPr/>
        </p:nvPicPr>
        <p:blipFill>
          <a:blip r:embed="rId2"/>
          <a:stretch/>
        </p:blipFill>
        <p:spPr>
          <a:xfrm>
            <a:off x="6300720" y="4292640"/>
            <a:ext cx="266400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чему Дениска решил отдать Мишке одну книжку? Отметь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ка не любит 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ниска понял, что Мишка расстроен и ему то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чется на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шка очень любит «Дядю Стёп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 Дениски дома уже есть «Дядя Стёп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е чувство испытал Дениска, вернувшись домой с карнавала? Отметь сво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дость: получил премию за лучший костю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легчение: наконец-то снял неудобный костю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дость: наконец-то скоро приедет мам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горчение: жалко книжку, отданную Ми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40000" y="1773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 rot="5242200">
            <a:off x="2375280" y="188028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826920" y="3141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826920" y="2637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826920" y="2060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826920" y="3645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826920" y="6165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826920" y="57340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826920" y="5229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26920" y="4724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492360" y="4437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6"/>
          <p:cNvSpPr/>
          <p:nvPr/>
        </p:nvSpPr>
        <p:spPr>
          <a:xfrm rot="5242200">
            <a:off x="864000" y="576972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7"/>
          <p:cNvSpPr/>
          <p:nvPr/>
        </p:nvSpPr>
        <p:spPr>
          <a:xfrm rot="5242200">
            <a:off x="864000" y="274392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8"/>
          <p:cNvSpPr/>
          <p:nvPr/>
        </p:nvSpPr>
        <p:spPr>
          <a:xfrm rot="5242200">
            <a:off x="3528000" y="454428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58" y="0"/>
                </a:lnTo>
                <a:lnTo>
                  <a:pt x="21600" y="10800"/>
                </a:lnTo>
                <a:lnTo>
                  <a:pt x="8158" y="21600"/>
                </a:lnTo>
                <a:lnTo>
                  <a:pt x="0" y="21600"/>
                </a:lnTo>
                <a:lnTo>
                  <a:pt x="13442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ословицы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1. Ум хорошо, а два луч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2. Шутке - минутка, делу – ч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3. Без беды друга не узнае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сова читает"/>
          <p:cNvPicPr/>
          <p:nvPr/>
        </p:nvPicPr>
        <p:blipFill>
          <a:blip r:embed="rId1"/>
          <a:stretch/>
        </p:blipFill>
        <p:spPr>
          <a:xfrm>
            <a:off x="6443640" y="4437000"/>
            <a:ext cx="1798560" cy="18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ва главная мысль этого произведения? Отметь сво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рядом настоящий друг, легче справитьс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зненными труд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 подручных средств можно изготовить прекрас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навальный костю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ё, что у тебя есть, надо с другом делить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спеши выбрасывать старые вещи: они могу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годитьс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какой из сборников можно было бы поместить это произведение? Отметь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азка за сказ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сказы о др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ихи о др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8388360" y="134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 rot="5400000">
            <a:off x="8424000" y="144864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71640" y="3716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71640" y="3068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971640" y="2421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971640" y="1773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116000" y="638172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116000" y="59500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116000" y="5516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116000" y="5084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5076720" y="4797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15"/>
          <p:cNvSpPr/>
          <p:nvPr/>
        </p:nvSpPr>
        <p:spPr>
          <a:xfrm rot="5400000">
            <a:off x="1151640" y="562536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6"/>
          <p:cNvSpPr/>
          <p:nvPr/>
        </p:nvSpPr>
        <p:spPr>
          <a:xfrm rot="5400000">
            <a:off x="5112000" y="490464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1007280" y="180900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41" y="0"/>
                </a:lnTo>
                <a:lnTo>
                  <a:pt x="21600" y="10800"/>
                </a:lnTo>
                <a:lnTo>
                  <a:pt x="7041" y="21600"/>
                </a:lnTo>
                <a:lnTo>
                  <a:pt x="0" y="21600"/>
                </a:lnTo>
                <a:lnTo>
                  <a:pt x="14559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1196640"/>
            <a:ext cx="77216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625760" y="3357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22-30 выразительное чтение по ролям для игры «Радиотеат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27280" y="1844640"/>
            <a:ext cx="47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елось бы вернуться в дет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радость, смех и добрые меч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одно есть сред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агунского перечитайте в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сть книг его задор , весел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ядит оптимизмом ва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нимут ваши настро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новых встреч и в добрый ч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сканирование0003"/>
          <p:cNvPicPr/>
          <p:nvPr/>
        </p:nvPicPr>
        <p:blipFill>
          <a:blip r:embed="rId1"/>
          <a:stretch/>
        </p:blipFill>
        <p:spPr>
          <a:xfrm>
            <a:off x="1187280" y="1341360"/>
            <a:ext cx="3024360" cy="3818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 rot="20386800">
            <a:off x="2123640" y="1267920"/>
            <a:ext cx="54864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.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 успеха в домашней 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ой работе!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3" descr="kotic"/>
          <p:cNvPicPr/>
          <p:nvPr/>
        </p:nvPicPr>
        <p:blipFill>
          <a:blip r:embed="rId7"/>
          <a:stretch/>
        </p:blipFill>
        <p:spPr>
          <a:xfrm>
            <a:off x="7524720" y="4941720"/>
            <a:ext cx="1152720" cy="1473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звоночки"/>
          <p:cNvPicPr/>
          <p:nvPr/>
        </p:nvPicPr>
        <p:blipFill>
          <a:blip r:embed="rId8"/>
          <a:stretch/>
        </p:blipFill>
        <p:spPr>
          <a:xfrm>
            <a:off x="1116000" y="404640"/>
            <a:ext cx="1440000" cy="129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705800" cy="63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21304"/>
                </a:solidFill>
                <a:latin typeface="Times New Roman"/>
              </a:rPr>
              <a:t>Кот в сапогах</a:t>
            </a:r>
            <a:endParaRPr b="0" lang="en-US" sz="48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95640" y="1700280"/>
            <a:ext cx="4753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834920" y="4581360"/>
            <a:ext cx="3733560" cy="19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1332000" y="1413000"/>
            <a:ext cx="2519280" cy="29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044669431_tonnel"/>
          <p:cNvPicPr/>
          <p:nvPr/>
        </p:nvPicPr>
        <p:blipFill>
          <a:blip r:embed="rId2"/>
          <a:stretch/>
        </p:blipFill>
        <p:spPr>
          <a:xfrm>
            <a:off x="5724360" y="3068640"/>
            <a:ext cx="259272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«Кот в сапогах»</a:t>
            </a:r>
            <a:endParaRPr b="0" lang="en-US" sz="44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615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picture"/>
          <p:cNvPicPr/>
          <p:nvPr/>
        </p:nvPicPr>
        <p:blipFill>
          <a:blip r:embed="rId1"/>
          <a:stretch/>
        </p:blipFill>
        <p:spPr>
          <a:xfrm>
            <a:off x="3276720" y="3716280"/>
            <a:ext cx="3144600" cy="2462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3" name="AutoShape 8"/>
          <p:cNvSpPr/>
          <p:nvPr/>
        </p:nvSpPr>
        <p:spPr>
          <a:xfrm rot="4235400">
            <a:off x="1474200" y="1268280"/>
            <a:ext cx="2160720" cy="25923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"/>
          <p:cNvSpPr/>
          <p:nvPr/>
        </p:nvSpPr>
        <p:spPr>
          <a:xfrm rot="6417000">
            <a:off x="6082920" y="1412640"/>
            <a:ext cx="2160720" cy="25923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 rot="20499600">
            <a:off x="1618560" y="2133360"/>
            <a:ext cx="249876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н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 rot="970800">
            <a:off x="5579640" y="2059920"/>
            <a:ext cx="321804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1304"/>
                </a:solidFill>
                <a:latin typeface="Times New Roman"/>
              </a:rPr>
              <a:t>бахилы</a:t>
            </a:r>
            <a:endParaRPr b="0" lang="en-US" sz="2800" spc="-1" strike="noStrike">
              <a:solidFill>
                <a:srgbClr val="221304"/>
              </a:solidFill>
              <a:latin typeface="Arial"/>
            </a:endParaRPr>
          </a:p>
        </p:txBody>
      </p:sp>
      <p:pic>
        <p:nvPicPr>
          <p:cNvPr id="107" name="Picture 13" descr="2510905"/>
          <p:cNvPicPr/>
          <p:nvPr/>
        </p:nvPicPr>
        <p:blipFill>
          <a:blip r:embed="rId4"/>
          <a:stretch/>
        </p:blipFill>
        <p:spPr>
          <a:xfrm>
            <a:off x="826920" y="3933720"/>
            <a:ext cx="2303640" cy="250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6aad6abc112037e33cf671aee1d382b"/>
          <p:cNvPicPr/>
          <p:nvPr/>
        </p:nvPicPr>
        <p:blipFill>
          <a:blip r:embed="rId5"/>
          <a:stretch/>
        </p:blipFill>
        <p:spPr>
          <a:xfrm>
            <a:off x="6877080" y="3933720"/>
            <a:ext cx="170964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0920" y="333360"/>
            <a:ext cx="734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арнав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народное праздн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костю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ахил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высокие  резинов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ап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21304"/>
                </a:solidFill>
                <a:latin typeface="Arial"/>
              </a:rPr>
              <a:t>Дениска Мишке купил две книжки.</a:t>
            </a:r>
            <a:endParaRPr b="0" lang="en-US" sz="72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59880"/>
          <p:cNvPicPr/>
          <p:nvPr/>
        </p:nvPicPr>
        <p:blipFill>
          <a:blip r:embed="rId1"/>
          <a:stretch/>
        </p:blipFill>
        <p:spPr>
          <a:xfrm>
            <a:off x="2771640" y="1197000"/>
            <a:ext cx="349272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3"/>
          <p:cNvSpPr txBox="1"/>
          <p:nvPr/>
        </p:nvSpPr>
        <p:spPr>
          <a:xfrm>
            <a:off x="1258920" y="148428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добр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6877080" y="765000"/>
            <a:ext cx="1225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зло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012000" y="155736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доверчив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042920" y="692280"/>
            <a:ext cx="16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жадн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3132000" y="33336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мечтатель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6804000" y="3357720"/>
            <a:ext cx="154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хитр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900000" y="220500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луп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1332000" y="602136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любознатель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1116000" y="4149720"/>
            <a:ext cx="1504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руб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4" name="WordArt 12"/>
          <p:cNvSpPr txBox="1"/>
          <p:nvPr/>
        </p:nvSpPr>
        <p:spPr>
          <a:xfrm>
            <a:off x="5651640" y="5877000"/>
            <a:ext cx="25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понятл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6732720" y="5013360"/>
            <a:ext cx="154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горд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826920" y="5229360"/>
            <a:ext cx="224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непоседл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7" name="WordArt 15"/>
          <p:cNvSpPr txBox="1"/>
          <p:nvPr/>
        </p:nvSpPr>
        <p:spPr>
          <a:xfrm>
            <a:off x="6084720" y="4221000"/>
            <a:ext cx="244800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аккуратн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8" name="WordArt 16"/>
          <p:cNvSpPr txBox="1"/>
          <p:nvPr/>
        </p:nvSpPr>
        <p:spPr>
          <a:xfrm>
            <a:off x="611280" y="3141720"/>
            <a:ext cx="259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трудолюбивый</a:t>
            </a:r>
            <a:endParaRPr b="0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  <p:sp>
        <p:nvSpPr>
          <p:cNvPr id="129" name="WordArt 17"/>
          <p:cNvSpPr txBox="1"/>
          <p:nvPr/>
        </p:nvSpPr>
        <p:spPr>
          <a:xfrm>
            <a:off x="6588000" y="2421000"/>
            <a:ext cx="21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44f00"/>
                </a:solidFill>
                <a:latin typeface="Arial"/>
              </a:rPr>
              <a:t>вежливый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c44f00"/>
              </a:solid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21304"/>
                </a:solidFill>
                <a:latin typeface="Monotype Corsiva"/>
              </a:rPr>
              <a:t>Проверка</a:t>
            </a:r>
            <a:endParaRPr b="0" lang="en-US" sz="6000" spc="-1" strike="noStrike">
              <a:solidFill>
                <a:srgbClr val="22130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81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 чём главным образом хотел рассказать автор? Отметь свой от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жизни Дениски во время кани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том, как можно самому изготовить костюм Кот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пог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 отношениях Дениски с его другом и близ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мамой, пап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школьном карнав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00000" y="602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900000" y="458136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00000" y="321300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900000" y="270828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219640" y="2060640"/>
            <a:ext cx="360360" cy="3952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5"/>
          <p:cNvSpPr/>
          <p:nvPr/>
        </p:nvSpPr>
        <p:spPr>
          <a:xfrm rot="5400000">
            <a:off x="934560" y="4689360"/>
            <a:ext cx="288720" cy="215640"/>
          </a:xfrm>
          <a:custGeom>
            <a:avLst/>
            <a:gdLst>
              <a:gd name="textAreaLeft" fmla="*/ 0 w 288720"/>
              <a:gd name="textAreaRight" fmla="*/ 289080 w 288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7" y="0"/>
                </a:lnTo>
                <a:lnTo>
                  <a:pt x="21600" y="10800"/>
                </a:lnTo>
                <a:lnTo>
                  <a:pt x="6527" y="21600"/>
                </a:lnTo>
                <a:lnTo>
                  <a:pt x="0" y="21600"/>
                </a:lnTo>
                <a:lnTo>
                  <a:pt x="15073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5400000">
            <a:off x="5256360" y="2170080"/>
            <a:ext cx="288720" cy="216000"/>
          </a:xfrm>
          <a:custGeom>
            <a:avLst/>
            <a:gdLst>
              <a:gd name="textAreaLeft" fmla="*/ 0 w 288720"/>
              <a:gd name="textAreaRight" fmla="*/ 289080 w 28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7" y="0"/>
                </a:lnTo>
                <a:lnTo>
                  <a:pt x="21600" y="10800"/>
                </a:lnTo>
                <a:lnTo>
                  <a:pt x="6527" y="21600"/>
                </a:lnTo>
                <a:lnTo>
                  <a:pt x="0" y="21600"/>
                </a:lnTo>
                <a:lnTo>
                  <a:pt x="15073" y="10800"/>
                </a:lnTo>
                <a:close/>
              </a:path>
            </a:pathLst>
          </a:cu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4:17:20Z</dcterms:created>
  <dc:creator>Я</dc:creator>
  <dc:description/>
  <dc:language>en-US</dc:language>
  <cp:lastModifiedBy>user</cp:lastModifiedBy>
  <dcterms:modified xsi:type="dcterms:W3CDTF">2012-12-24T06:18:39Z</dcterms:modified>
  <cp:revision>75</cp:revision>
  <dc:subject/>
  <dc:title>Литературные места России</dc:title>
</cp:coreProperties>
</file>