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7.gif" ContentType="image/gif"/>
  <Override PartName="/ppt/media/image14.wmf" ContentType="image/x-wmf"/>
  <Override PartName="/ppt/media/image13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16.png" ContentType="image/png"/>
  <Override PartName="/ppt/media/chimes.wav" ContentType="audio/x-wav"/>
  <Override PartName="/ppt/media/image6.jpeg" ContentType="image/jpeg"/>
  <Override PartName="/ppt/media/image5.jpeg" ContentType="image/jpeg"/>
  <Override PartName="/ppt/media/image18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849-2DC2-4EE9-B3F3-DCC146A5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675-5BC3-4866-84D3-7B410299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70A-E3DD-4DBE-B8C9-83AE50C1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A93-A224-4B59-A288-2FEA835A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757C-5818-4F65-AB71-0FF58091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A8D1-8A3A-43EC-BDD2-F106820E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F950-6E02-4CA9-97BD-057F6765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A5C3-22C7-4755-AF43-0FD45C95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E417-96EA-4433-8EA9-4954CD7A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4F98-791F-40DA-B6A1-E0767C1E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5D6D-93F8-447A-BE5B-B5F8438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22B-84F2-4FCD-9BC8-8F33E561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44FC-15D9-498A-9409-8E89A35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37A1-54DA-4795-9BA4-B1446D39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E08E-CC6F-44D8-AC53-B594C4C3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043A-9E87-42CB-B8B6-EE509826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A2C4-3CF5-484A-B048-33F343A6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B78-B9D0-4EAD-95AB-B4762DE6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FAA-9714-4C6A-A83E-80D8DF03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D63-9149-444E-9A1F-A5434D3F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F0F-60B6-4C66-B113-25A90E41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A05-DC56-43D1-8716-4C442AC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428-268E-443D-A691-F179020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8D8-5BCB-4771-9838-1710611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99DE-28FE-489C-97E6-B2DDBD692B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73C3-80E9-4E5E-B808-A08BE0ED70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720" y="1915920"/>
            <a:ext cx="297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1304"/>
                </a:solidFill>
                <a:latin typeface="Times New Roman"/>
              </a:rPr>
              <a:t>Виктор Юзефович Драгунский</a:t>
            </a:r>
            <a:r>
              <a:rPr b="1" i="1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221304"/>
                </a:solidFill>
                <a:latin typeface="Times New Roman"/>
              </a:rPr>
              <a:t>(1913-1972гг.)</a:t>
            </a:r>
            <a:endParaRPr b="0" lang="en-US" sz="36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25760" y="4571640"/>
            <a:ext cx="71611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85"/>
          <p:cNvPicPr/>
          <p:nvPr/>
        </p:nvPicPr>
        <p:blipFill>
          <a:blip r:embed="rId1"/>
          <a:stretch/>
        </p:blipFill>
        <p:spPr>
          <a:xfrm>
            <a:off x="1258920" y="765000"/>
            <a:ext cx="4033800" cy="555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BS00554_"/>
          <p:cNvPicPr/>
          <p:nvPr/>
        </p:nvPicPr>
        <p:blipFill>
          <a:blip r:embed="rId2"/>
          <a:stretch/>
        </p:blipFill>
        <p:spPr>
          <a:xfrm>
            <a:off x="6300720" y="4292640"/>
            <a:ext cx="266400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21304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чему Дениска решил отдать Мишке одну книжку? Отметь сво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ниска не любит 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ниска понял, что Мишка расстроен и ему то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чется нагр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шка очень любит «Дядю Стёп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Дениски дома уже есть «Дядя Стёп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е чувство испытал Дениска, вернувшись домой с карнавала? Отметь свой от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дость: получил премию за лучший костю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легчение: наконец-то снял неудобный костю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дость: наконец-то скоро приедет ма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горчение: жалко книжку, отданную Ми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40000" y="1773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 rot="5242200">
            <a:off x="2375280" y="188028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58" y="0"/>
                </a:lnTo>
                <a:lnTo>
                  <a:pt x="21600" y="10800"/>
                </a:lnTo>
                <a:lnTo>
                  <a:pt x="8158" y="21600"/>
                </a:lnTo>
                <a:lnTo>
                  <a:pt x="0" y="21600"/>
                </a:lnTo>
                <a:lnTo>
                  <a:pt x="13442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826920" y="314172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826920" y="2637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826920" y="2060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826920" y="3645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826920" y="616572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826920" y="57340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826920" y="5229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826920" y="47242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492360" y="4437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6"/>
          <p:cNvSpPr/>
          <p:nvPr/>
        </p:nvSpPr>
        <p:spPr>
          <a:xfrm rot="5242200">
            <a:off x="864000" y="576972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58" y="0"/>
                </a:lnTo>
                <a:lnTo>
                  <a:pt x="21600" y="10800"/>
                </a:lnTo>
                <a:lnTo>
                  <a:pt x="8158" y="21600"/>
                </a:lnTo>
                <a:lnTo>
                  <a:pt x="0" y="21600"/>
                </a:lnTo>
                <a:lnTo>
                  <a:pt x="13442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7"/>
          <p:cNvSpPr/>
          <p:nvPr/>
        </p:nvSpPr>
        <p:spPr>
          <a:xfrm rot="5242200">
            <a:off x="864000" y="274392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58" y="0"/>
                </a:lnTo>
                <a:lnTo>
                  <a:pt x="21600" y="10800"/>
                </a:lnTo>
                <a:lnTo>
                  <a:pt x="8158" y="21600"/>
                </a:lnTo>
                <a:lnTo>
                  <a:pt x="0" y="21600"/>
                </a:lnTo>
                <a:lnTo>
                  <a:pt x="13442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8"/>
          <p:cNvSpPr/>
          <p:nvPr/>
        </p:nvSpPr>
        <p:spPr>
          <a:xfrm rot="5242200">
            <a:off x="3528000" y="454428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58" y="0"/>
                </a:lnTo>
                <a:lnTo>
                  <a:pt x="21600" y="10800"/>
                </a:lnTo>
                <a:lnTo>
                  <a:pt x="8158" y="21600"/>
                </a:lnTo>
                <a:lnTo>
                  <a:pt x="0" y="21600"/>
                </a:lnTo>
                <a:lnTo>
                  <a:pt x="13442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21304"/>
                </a:solidFill>
                <a:latin typeface="Monotype Corsiva"/>
              </a:rPr>
              <a:t>Пословицы</a:t>
            </a:r>
            <a:endParaRPr b="0" lang="en-US" sz="6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1. Ум хорошо, а два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2. Шутке - минутка, делу –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3. Без беды друга не узнае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сова читает"/>
          <p:cNvPicPr/>
          <p:nvPr/>
        </p:nvPicPr>
        <p:blipFill>
          <a:blip r:embed="rId1"/>
          <a:stretch/>
        </p:blipFill>
        <p:spPr>
          <a:xfrm>
            <a:off x="6443640" y="4437000"/>
            <a:ext cx="1798560" cy="189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21304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ва главная мысль этого произведения? Отметь свой от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рядом настоящий друг, легче справиться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зненными труд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 подручных средств можно изготовить пре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навальный костю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ё, что у тебя есть, надо с другом делить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спеши выбрасывать старые вещи: они могу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годитьс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какой из сборников можно было бы поместить это произведение? Отметь сво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азка за сказ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казы о др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ихи о др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ческие расс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8388360" y="1341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 rot="5400000">
            <a:off x="8424000" y="144864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41" y="0"/>
                </a:lnTo>
                <a:lnTo>
                  <a:pt x="21600" y="10800"/>
                </a:lnTo>
                <a:lnTo>
                  <a:pt x="7041" y="21600"/>
                </a:lnTo>
                <a:lnTo>
                  <a:pt x="0" y="21600"/>
                </a:lnTo>
                <a:lnTo>
                  <a:pt x="14559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971640" y="37162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971640" y="3068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971640" y="2421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971640" y="1773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116000" y="638172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116000" y="59500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116000" y="5516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116000" y="5084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5076720" y="4797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5"/>
          <p:cNvSpPr/>
          <p:nvPr/>
        </p:nvSpPr>
        <p:spPr>
          <a:xfrm rot="5400000">
            <a:off x="1151640" y="562536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41" y="0"/>
                </a:lnTo>
                <a:lnTo>
                  <a:pt x="21600" y="10800"/>
                </a:lnTo>
                <a:lnTo>
                  <a:pt x="7041" y="21600"/>
                </a:lnTo>
                <a:lnTo>
                  <a:pt x="0" y="21600"/>
                </a:lnTo>
                <a:lnTo>
                  <a:pt x="14559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6"/>
          <p:cNvSpPr/>
          <p:nvPr/>
        </p:nvSpPr>
        <p:spPr>
          <a:xfrm rot="5400000">
            <a:off x="5112000" y="490464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41" y="0"/>
                </a:lnTo>
                <a:lnTo>
                  <a:pt x="21600" y="10800"/>
                </a:lnTo>
                <a:lnTo>
                  <a:pt x="7041" y="21600"/>
                </a:lnTo>
                <a:lnTo>
                  <a:pt x="0" y="21600"/>
                </a:lnTo>
                <a:lnTo>
                  <a:pt x="14559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7"/>
          <p:cNvSpPr/>
          <p:nvPr/>
        </p:nvSpPr>
        <p:spPr>
          <a:xfrm rot="5400000">
            <a:off x="1007280" y="180900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41" y="0"/>
                </a:lnTo>
                <a:lnTo>
                  <a:pt x="21600" y="10800"/>
                </a:lnTo>
                <a:lnTo>
                  <a:pt x="7041" y="21600"/>
                </a:lnTo>
                <a:lnTo>
                  <a:pt x="0" y="21600"/>
                </a:lnTo>
                <a:lnTo>
                  <a:pt x="14559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1196640"/>
            <a:ext cx="77216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625760" y="3357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22-30 выразительное чтение по ролям для игры «Радиотеат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27280" y="1844640"/>
            <a:ext cx="47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елось бы вернуться в дет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радость, смех и добрые меч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этого одно есть сред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агунского перечитайте в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книг его задор , весел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ядит оптимизмом ва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нимут ваши настро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новых встреч и в добрый ча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сканирование0003"/>
          <p:cNvPicPr/>
          <p:nvPr/>
        </p:nvPicPr>
        <p:blipFill>
          <a:blip r:embed="rId1"/>
          <a:stretch/>
        </p:blipFill>
        <p:spPr>
          <a:xfrm>
            <a:off x="1187280" y="1341360"/>
            <a:ext cx="3024360" cy="3818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 rot="20386800">
            <a:off x="2123640" y="1267920"/>
            <a:ext cx="54864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.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 успеха в домашней 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ой работе!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3" descr="kotic"/>
          <p:cNvPicPr/>
          <p:nvPr/>
        </p:nvPicPr>
        <p:blipFill>
          <a:blip r:embed="rId7"/>
          <a:stretch/>
        </p:blipFill>
        <p:spPr>
          <a:xfrm>
            <a:off x="7524720" y="4941720"/>
            <a:ext cx="1152720" cy="1473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звоночки"/>
          <p:cNvPicPr/>
          <p:nvPr/>
        </p:nvPicPr>
        <p:blipFill>
          <a:blip r:embed="rId8"/>
          <a:stretch/>
        </p:blipFill>
        <p:spPr>
          <a:xfrm>
            <a:off x="1116000" y="404640"/>
            <a:ext cx="1440000" cy="12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705800" cy="63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21304"/>
                </a:solidFill>
                <a:latin typeface="Times New Roman"/>
              </a:rPr>
              <a:t>Кот в сапогах</a:t>
            </a:r>
            <a:endParaRPr b="0" lang="en-US" sz="48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95640" y="1700280"/>
            <a:ext cx="4753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с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834920" y="4581360"/>
            <a:ext cx="3733560" cy="19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а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сканирование0003"/>
          <p:cNvPicPr/>
          <p:nvPr/>
        </p:nvPicPr>
        <p:blipFill>
          <a:blip r:embed="rId1"/>
          <a:stretch/>
        </p:blipFill>
        <p:spPr>
          <a:xfrm>
            <a:off x="1332000" y="1413000"/>
            <a:ext cx="2519280" cy="295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044669431_tonnel"/>
          <p:cNvPicPr/>
          <p:nvPr/>
        </p:nvPicPr>
        <p:blipFill>
          <a:blip r:embed="rId2"/>
          <a:stretch/>
        </p:blipFill>
        <p:spPr>
          <a:xfrm>
            <a:off x="5724360" y="3068640"/>
            <a:ext cx="259272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«Кот в сапогах»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61563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picture"/>
          <p:cNvPicPr/>
          <p:nvPr/>
        </p:nvPicPr>
        <p:blipFill>
          <a:blip r:embed="rId1"/>
          <a:stretch/>
        </p:blipFill>
        <p:spPr>
          <a:xfrm>
            <a:off x="3276720" y="3716280"/>
            <a:ext cx="3144600" cy="24624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3" name="AutoShape 8"/>
          <p:cNvSpPr/>
          <p:nvPr/>
        </p:nvSpPr>
        <p:spPr>
          <a:xfrm rot="4235400">
            <a:off x="1474200" y="1268280"/>
            <a:ext cx="2160720" cy="25923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6417000">
            <a:off x="6082920" y="1412640"/>
            <a:ext cx="2160720" cy="25923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 rot="20499600">
            <a:off x="1618560" y="2133360"/>
            <a:ext cx="249876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на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 rot="970800">
            <a:off x="5579640" y="2059920"/>
            <a:ext cx="32180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1304"/>
                </a:solidFill>
                <a:latin typeface="Times New Roman"/>
              </a:rPr>
              <a:t>бахилы</a:t>
            </a:r>
            <a:endParaRPr b="0" lang="en-US" sz="2800" spc="-1" strike="noStrike">
              <a:solidFill>
                <a:srgbClr val="221304"/>
              </a:solidFill>
              <a:latin typeface="Arial"/>
            </a:endParaRPr>
          </a:p>
        </p:txBody>
      </p:sp>
      <p:pic>
        <p:nvPicPr>
          <p:cNvPr id="107" name="Picture 13" descr="2510905"/>
          <p:cNvPicPr/>
          <p:nvPr/>
        </p:nvPicPr>
        <p:blipFill>
          <a:blip r:embed="rId4"/>
          <a:stretch/>
        </p:blipFill>
        <p:spPr>
          <a:xfrm>
            <a:off x="826920" y="3933720"/>
            <a:ext cx="2303640" cy="250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6aad6abc112037e33cf671aee1d382b"/>
          <p:cNvPicPr/>
          <p:nvPr/>
        </p:nvPicPr>
        <p:blipFill>
          <a:blip r:embed="rId5"/>
          <a:stretch/>
        </p:blipFill>
        <p:spPr>
          <a:xfrm>
            <a:off x="6877080" y="3933720"/>
            <a:ext cx="170964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0920" y="333360"/>
            <a:ext cx="734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арнав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народное праздн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костю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ахил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высокие  резин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ап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504036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21304"/>
                </a:solidFill>
                <a:latin typeface="Arial"/>
              </a:rPr>
              <a:t>Дениска Мишке купил две книжки.</a:t>
            </a:r>
            <a:endParaRPr b="0" lang="en-US" sz="72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59880"/>
          <p:cNvPicPr/>
          <p:nvPr/>
        </p:nvPicPr>
        <p:blipFill>
          <a:blip r:embed="rId1"/>
          <a:stretch/>
        </p:blipFill>
        <p:spPr>
          <a:xfrm>
            <a:off x="2771640" y="1197000"/>
            <a:ext cx="349272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3"/>
          <p:cNvSpPr txBox="1"/>
          <p:nvPr/>
        </p:nvSpPr>
        <p:spPr>
          <a:xfrm>
            <a:off x="1258920" y="1484280"/>
            <a:ext cx="16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добр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877080" y="765000"/>
            <a:ext cx="1225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зло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6012000" y="1557360"/>
            <a:ext cx="261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доверчив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042920" y="692280"/>
            <a:ext cx="167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жад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3132000" y="333360"/>
            <a:ext cx="30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мечтательн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6804000" y="3357720"/>
            <a:ext cx="154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хитр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900000" y="2205000"/>
            <a:ext cx="149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глуп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1332000" y="6021360"/>
            <a:ext cx="29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любознательн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1116000" y="4149720"/>
            <a:ext cx="150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груб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4" name="WordArt 12"/>
          <p:cNvSpPr txBox="1"/>
          <p:nvPr/>
        </p:nvSpPr>
        <p:spPr>
          <a:xfrm>
            <a:off x="5651640" y="5877000"/>
            <a:ext cx="25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понятлив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6732720" y="5013360"/>
            <a:ext cx="154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горд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826920" y="5229360"/>
            <a:ext cx="224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непоседлив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7" name="WordArt 15"/>
          <p:cNvSpPr txBox="1"/>
          <p:nvPr/>
        </p:nvSpPr>
        <p:spPr>
          <a:xfrm>
            <a:off x="6084720" y="4221000"/>
            <a:ext cx="244800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аккуратн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8" name="WordArt 16"/>
          <p:cNvSpPr txBox="1"/>
          <p:nvPr/>
        </p:nvSpPr>
        <p:spPr>
          <a:xfrm>
            <a:off x="611280" y="3141720"/>
            <a:ext cx="259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трудолюбив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9" name="WordArt 17"/>
          <p:cNvSpPr txBox="1"/>
          <p:nvPr/>
        </p:nvSpPr>
        <p:spPr>
          <a:xfrm>
            <a:off x="6588000" y="2421000"/>
            <a:ext cx="21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вежлив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21304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81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 чём главным образом хотел рассказать автор? Отметь свой отв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жизни Дениски во время кани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том, как можно самому изготовить костюм Кот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пог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 отношениях Дениски с его другом и близк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мамой, пап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школьном карнав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900000" y="6021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900000" y="4581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900000" y="3213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900000" y="27082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219640" y="2060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5"/>
          <p:cNvSpPr/>
          <p:nvPr/>
        </p:nvSpPr>
        <p:spPr>
          <a:xfrm rot="5400000">
            <a:off x="934560" y="4689360"/>
            <a:ext cx="288720" cy="215640"/>
          </a:xfrm>
          <a:custGeom>
            <a:avLst/>
            <a:gdLst>
              <a:gd name="textAreaLeft" fmla="*/ 0 w 288720"/>
              <a:gd name="textAreaRight" fmla="*/ 289080 w 288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27" y="0"/>
                </a:lnTo>
                <a:lnTo>
                  <a:pt x="21600" y="10800"/>
                </a:lnTo>
                <a:lnTo>
                  <a:pt x="6527" y="21600"/>
                </a:lnTo>
                <a:lnTo>
                  <a:pt x="0" y="21600"/>
                </a:lnTo>
                <a:lnTo>
                  <a:pt x="15073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 rot="5400000">
            <a:off x="5256360" y="2170080"/>
            <a:ext cx="288720" cy="216000"/>
          </a:xfrm>
          <a:custGeom>
            <a:avLst/>
            <a:gdLst>
              <a:gd name="textAreaLeft" fmla="*/ 0 w 288720"/>
              <a:gd name="textAreaRight" fmla="*/ 289080 w 288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27" y="0"/>
                </a:lnTo>
                <a:lnTo>
                  <a:pt x="21600" y="10800"/>
                </a:lnTo>
                <a:lnTo>
                  <a:pt x="6527" y="21600"/>
                </a:lnTo>
                <a:lnTo>
                  <a:pt x="0" y="21600"/>
                </a:lnTo>
                <a:lnTo>
                  <a:pt x="15073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4:17:20Z</dcterms:created>
  <dc:creator>Я</dc:creator>
  <dc:description/>
  <dc:language>en-US</dc:language>
  <cp:lastModifiedBy>user</cp:lastModifiedBy>
  <dcterms:modified xsi:type="dcterms:W3CDTF">2012-12-24T06:18:39Z</dcterms:modified>
  <cp:revision>75</cp:revision>
  <dc:subject/>
  <dc:title>Литературные места России</dc:title>
</cp:coreProperties>
</file>