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CF4BE-E529-4D4C-BAF4-F0B7B81BC2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27C0D-CEA4-4ABD-BAC3-86C5182BC3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39B04-C1F9-4FB5-99F2-12C92F2F03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77D-B76F-4D18-BFCB-0462D5C2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091-361D-4883-ADD3-CF83CBD4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15B-0B50-4FEE-BE29-050783DD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2A4-28AE-4E74-B7DD-947425ED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326-227A-472B-B1AB-30371A25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22C-3329-4059-A2E1-7299FDB8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7B3-3E5D-4BED-AAB0-919A0191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D9A-CD7A-4749-9FB9-805A2DEE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537-1934-4ED0-8416-B9A34A66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B32-69B2-4A2B-8B93-A3BF62C2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4FC-A219-4C13-9D06-DA3F9B2E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AD0-8BBD-4B1D-A724-B46190B2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CFB7CB-A64A-4121-B281-89A72AFE5F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360" y="755280"/>
            <a:ext cx="3744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ы и методы работы с родителями в начальной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у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атывает у родителей педагогические умения по эффективному решению всевозможных педагогических ситуа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едагогического практикума предлагается найти выход из какой-либо конфликтной ситуации, которая может сложиться во взаимоотношениях родителей и детей, родителей и школы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е уро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роводятся для того, чтобы ознакомить родителей с новыми программами по предмету, методикой преподавания, требованиями учителя. Это позволяет избежать многих конфликтов, вызванных незнанием или непониманием родителями всей сложности и специфики учебной деятельности в сегодняшней школ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дискусс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наиболее интересных форм повышения педагогической культуры. Ее особенность в том, что она позволяет вовлечь в обсуждение проблемы всех присутствующих, способствует выработке умения всесторонне анализировать факты и явления, опираясь на приобретенные навыки и накопленный опы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ые иг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ллективная творческая деятельность по изучению уровня сформированности педагогических умений у родител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тематические консульт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497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полезны и для учителя и для родите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успешного консультирования – доверительные отношения, взаимоуважение, заинтересованность, компетент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ска с родител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640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ая форма информирования родителей об успехах их детей.  Через сеть Интерн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й комит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ую помощь в организации взаимодействия родителей  в обучении и воспитании детей оказывает родительский комитет, избираемый на первом собрани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569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таких личных отношений педагога с родителями учащихся, которые ведут к искажению педагогического процесса и формируют такие ситуации, когда учитель идёт с родителями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 не выступает ведущи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ношения педагогов с родителями должны носить преимущественно деловой характер и касаться развития ребёнка в учебно-воспитательном процесс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 №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640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с родителями внутришкольных отнош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опросы и претензии, возникающие у родителей, принимаются педагогом, ставятся и рассматриваются совместно с администрацией на совещаниях, собраниях. О принятых мерах родители непременно извещ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713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личности ребёнка, его семьи. Обсуждаются и оцениваются исключительно поступки ребёнка, динамика его развития, эмоциональные реакции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6407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сложное в работе с детьми-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5364000"/>
            <a:ext cx="906948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35120459_26871288_23470663_53df713de657"/>
          <p:cNvPicPr/>
          <p:nvPr/>
        </p:nvPicPr>
        <p:blipFill>
          <a:blip r:embed="rId1"/>
          <a:stretch/>
        </p:blipFill>
        <p:spPr>
          <a:xfrm>
            <a:off x="936720" y="1763640"/>
            <a:ext cx="8136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его складывается сотрудничество с родителям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6407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ю доброжелательные отношения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 Постоянно информирую родителей о процессе воспитания (чем живет школа) и успехах, продвижении в развити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ую педагогическое просвещение родителей, стремлюсь к повышению их педагогическ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ю родителей к участию в совместной с детьми деятельности как в школе, так и вне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ником  в работе является родительский комит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ответственность родителей за процесс воспитания детей, заинтересовать их в продолжительном результате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042560"/>
            <a:ext cx="906948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атмосферу взаимопонимания между детьми, учителем и родителями в образовательной и воспитательной сре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емьи учащихся и условия воспитания ребёнка в сем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тесную и плодотворную связь с родителями, привлекать их к учебной деятельности детей и внеурочной, внеклассной раб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формированию доверительных и доброжелательных отношений между родителями и детьми, педагогом и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569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 тестирования и анкетир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меро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бесе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тематические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ые уроки и внеклассные меро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ска с родителями «Дневник.р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работе Совета шко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родительских собраний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547640"/>
            <a:ext cx="906948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я – диспу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рен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расширить, углубить, закрепить знания о воспитании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ют активное участие родителей. К ним готовим выставки работ , книги для родителей, концерты художественной само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всегда конкретны. «Почему дети лгут?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фликтные ситуации в сем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7:04:15Z</dcterms:created>
  <dc:creator/>
  <dc:description/>
  <dc:language>en-US</dc:language>
  <cp:lastModifiedBy>Макс</cp:lastModifiedBy>
  <dcterms:modified xsi:type="dcterms:W3CDTF">2013-04-02T18:17:42Z</dcterms:modified>
  <cp:revision>8</cp:revision>
  <dc:subject/>
  <dc:title>Формы и методы работы с родителями в начальной школе.</dc:title>
</cp:coreProperties>
</file>