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9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8.png" ContentType="image/pn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0211-C388-41D7-9611-8A602A9A3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4080-9556-4964-A48C-D09B050BA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5B6D-1864-43FC-AED1-6D12FB958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29AB-B8B2-4820-B9E8-6440B61F9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3D2B9-8810-48D1-96A0-4D23836CD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97BC4-A2F8-489A-A16D-687562E66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516C8-F6B7-40B1-86A0-DF646369B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F2DDB-726B-4E7B-A1E4-031735524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E0A2C-541B-46AC-98F2-44503A6AC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D3483-EC0B-4404-A833-512459C3E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80045-7F1B-4DBA-B075-3247CD46C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75A0-837D-4A52-8243-8297CC212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A5280-2E5E-4A38-8A97-12F64A77F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D994F-F959-4643-9F3C-37263232E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3B337-C12A-418C-AAB3-86EA1ECFF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AF944-7621-4B6D-95DC-E07572052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10F94-6072-4705-9019-9310697FC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9553A4-9F7B-4F00-BDD6-23F937833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DC25BF-0DB2-460B-8B76-2358576BD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4BE351-1BAA-476A-9BE6-A98350A15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967249-1386-4D98-9E74-8FFB2E73E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C7B69E-979C-4FEF-8EB1-E5BC18FB0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B90B-996E-4AC2-B094-DC59A449D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EB117F-BFDE-4598-953C-27FB5A546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D6B088-F946-4F72-BB60-83BB2E1C7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C76E6D-8105-40FD-BB70-FA1DA93DE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F8967B-CBF4-4338-BC48-2B3253AC0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DEDE54-DB08-488B-B738-B6CAF4C00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2B91D5-DFB9-42D2-83E7-DB975A479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B6E7D5-6C8D-44B5-B248-277E5AC9B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C71657-FEEE-4472-B019-6BE69C761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2CD7FE-DEA8-405C-A5D7-0ED111014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395691-84EA-4755-B603-17273270B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760C-C43D-460F-BE19-7FD5837FF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1FC7EC-7D1A-4DD5-B6B2-2FFEF7076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CCAC3E-94AE-496C-ABEA-04439E9AD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813C25-93A8-42A3-ADDA-86F0376E6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2C4BAA-04D5-4FF7-B881-14E202784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84F53A-66D3-43E9-A30C-3891C78ED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E81009-148A-43B7-BA6C-ECD6D6700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0B743F-64C4-45C2-B6CD-473EEFEEA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C6C46E-47D0-450F-8A0F-08C5EDFE1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862A89-F6D0-4F2A-9A03-AF82207B3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C860-BB0E-4410-B028-FC2738DD6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19DE-9FFC-419B-8541-A6DDABC8A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A049-39CB-4153-8B63-7F1C05A76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D467-177B-47D5-95DF-EA43DBE36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6102-87CC-4EC9-82BC-84A463571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10132-92D1-4A95-9725-6C96D7AF09C8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60053-0DA3-468E-AE56-DE24263C71FE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78CE3-8311-4477-8349-33D10DDC9F9C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1DF13-4CFE-4D91-B6FE-2E7D4F773F61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"/>
          <p:cNvPicPr/>
          <p:nvPr/>
        </p:nvPicPr>
        <p:blipFill>
          <a:blip r:embed="rId2"/>
          <a:stretch/>
        </p:blipFill>
        <p:spPr>
          <a:xfrm>
            <a:off x="326880" y="2286000"/>
            <a:ext cx="7317000" cy="258444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А 5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Заголовок 1" descr=""/>
          <p:cNvPicPr/>
          <p:nvPr/>
        </p:nvPicPr>
        <p:blipFill>
          <a:blip r:embed="rId2"/>
          <a:stretch/>
        </p:blipFill>
        <p:spPr>
          <a:xfrm>
            <a:off x="73080" y="701640"/>
            <a:ext cx="8699400" cy="1150920"/>
          </a:xfrm>
          <a:prstGeom prst="rect">
            <a:avLst/>
          </a:prstGeom>
          <a:ln w="0">
            <a:noFill/>
          </a:ln>
        </p:spPr>
      </p:pic>
      <p:sp>
        <p:nvSpPr>
          <p:cNvPr id="224" name="Прямая соединительная линия 4"/>
          <p:cNvSpPr/>
          <p:nvPr/>
        </p:nvSpPr>
        <p:spPr>
          <a:xfrm>
            <a:off x="3786120" y="4500720"/>
            <a:ext cx="1214640" cy="14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Прямая соединительная линия 6"/>
          <p:cNvSpPr/>
          <p:nvPr/>
        </p:nvSpPr>
        <p:spPr>
          <a:xfrm>
            <a:off x="3714840" y="4500720"/>
            <a:ext cx="1214280" cy="14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3" descr=""/>
          <p:cNvPicPr/>
          <p:nvPr/>
        </p:nvPicPr>
        <p:blipFill>
          <a:blip r:embed="rId3"/>
          <a:stretch/>
        </p:blipFill>
        <p:spPr>
          <a:xfrm>
            <a:off x="285840" y="2004840"/>
            <a:ext cx="8286840" cy="41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7425000" cy="250992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А 4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9"/>
          <p:cNvSpPr/>
          <p:nvPr/>
        </p:nvSpPr>
        <p:spPr>
          <a:xfrm>
            <a:off x="785880" y="653400"/>
            <a:ext cx="714384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№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8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Резистор с сопротивлением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подключен к источнику тока с внутренним сопротивлением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 Сила тока в цепи равна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 Чему равны ЭДС источника и напряжение на его выводах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Установите соответствие между физическими величинами  и формулами, по которым их можно рассчитать. К каждой позиции первого столбца подберите соответствующую позицию второго и запишите в таблицу выбранные цифры под соответствующими букв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2500200" y="4714920"/>
          <a:ext cx="2857680" cy="426960"/>
        </p:xfrm>
        <a:graphic>
          <a:graphicData uri="http://schemas.openxmlformats.org/drawingml/2006/table">
            <a:tbl>
              <a:tblPr/>
              <a:tblGrid>
                <a:gridCol w="1419480"/>
                <a:gridCol w="1438200"/>
              </a:tblGrid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1" name="Rectangle 23"/>
          <p:cNvSpPr/>
          <p:nvPr/>
        </p:nvSpPr>
        <p:spPr>
          <a:xfrm>
            <a:off x="928800" y="3072240"/>
            <a:ext cx="785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ФИЗИЧЕСКАЯ ВЕЛИЧИН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ФОРМУЛ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25"/>
          <p:cNvSpPr/>
          <p:nvPr/>
        </p:nvSpPr>
        <p:spPr>
          <a:xfrm>
            <a:off x="571680" y="3573720"/>
            <a:ext cx="757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А) ЭДС источни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1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Object 24"/>
              <p:cNvSpPr txBox="1"/>
              <p:nvPr/>
            </p:nvSpPr>
            <p:spPr>
              <a:xfrm>
                <a:off x="6286680" y="3643200"/>
                <a:ext cx="190440" cy="1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4" name="Rectangle 26"/>
          <p:cNvSpPr/>
          <p:nvPr/>
        </p:nvSpPr>
        <p:spPr>
          <a:xfrm>
            <a:off x="0" y="63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Object 29"/>
              <p:cNvSpPr txBox="1"/>
              <p:nvPr/>
            </p:nvSpPr>
            <p:spPr>
              <a:xfrm>
                <a:off x="6286680" y="3929040"/>
                <a:ext cx="228600" cy="1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Object 28"/>
              <p:cNvSpPr txBox="1"/>
              <p:nvPr/>
            </p:nvSpPr>
            <p:spPr>
              <a:xfrm>
                <a:off x="6286680" y="4143240"/>
                <a:ext cx="6188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Object 27"/>
              <p:cNvSpPr txBox="1"/>
              <p:nvPr/>
            </p:nvSpPr>
            <p:spPr>
              <a:xfrm>
                <a:off x="6286680" y="4286160"/>
                <a:ext cx="466560" cy="27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I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/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8" name="Rectangle 30"/>
          <p:cNvSpPr/>
          <p:nvPr/>
        </p:nvSpPr>
        <p:spPr>
          <a:xfrm>
            <a:off x="428760" y="3862800"/>
            <a:ext cx="60721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Б)Напряжение на выводах источни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31"/>
          <p:cNvSpPr/>
          <p:nvPr/>
        </p:nvSpPr>
        <p:spPr>
          <a:xfrm>
            <a:off x="5572080" y="641880"/>
            <a:ext cx="29224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32"/>
          <p:cNvSpPr/>
          <p:nvPr/>
        </p:nvSpPr>
        <p:spPr>
          <a:xfrm>
            <a:off x="42120" y="867240"/>
            <a:ext cx="841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7286760" cy="352908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А 5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"/>
          <p:cNvPicPr/>
          <p:nvPr/>
        </p:nvPicPr>
        <p:blipFill>
          <a:blip r:embed="rId2"/>
          <a:stretch/>
        </p:blipFill>
        <p:spPr>
          <a:xfrm>
            <a:off x="158760" y="2000160"/>
            <a:ext cx="7853400" cy="342900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А 5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2" descr=""/>
          <p:cNvPicPr/>
          <p:nvPr/>
        </p:nvPicPr>
        <p:blipFill>
          <a:blip r:embed="rId2"/>
          <a:stretch/>
        </p:blipFill>
        <p:spPr>
          <a:xfrm>
            <a:off x="428760" y="2143080"/>
            <a:ext cx="7858080" cy="291780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А 5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2" descr=""/>
          <p:cNvPicPr/>
          <p:nvPr/>
        </p:nvPicPr>
        <p:blipFill>
          <a:blip r:embed="rId2"/>
          <a:stretch/>
        </p:blipFill>
        <p:spPr>
          <a:xfrm>
            <a:off x="785880" y="2428920"/>
            <a:ext cx="7680240" cy="226224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А 4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"/>
          <p:cNvPicPr/>
          <p:nvPr/>
        </p:nvPicPr>
        <p:blipFill>
          <a:blip r:embed="rId2"/>
          <a:stretch/>
        </p:blipFill>
        <p:spPr>
          <a:xfrm>
            <a:off x="785880" y="2214720"/>
            <a:ext cx="8265960" cy="278604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А 5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2" descr=""/>
          <p:cNvPicPr/>
          <p:nvPr/>
        </p:nvPicPr>
        <p:blipFill>
          <a:blip r:embed="rId2"/>
          <a:stretch/>
        </p:blipFill>
        <p:spPr>
          <a:xfrm>
            <a:off x="500040" y="1916280"/>
            <a:ext cx="7750080" cy="294156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А5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XP GAME 2008</cp:lastModifiedBy>
  <dcterms:modified xsi:type="dcterms:W3CDTF">2012-03-11T14:42:16Z</dcterms:modified>
  <cp:revision>21</cp:revision>
  <dc:subject/>
  <dc:title>№3 </dc:title>
</cp:coreProperties>
</file>