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37E-22C2-488B-97CB-077D2B65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ACD-E953-4FD9-9A52-BD0FBCED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00E-BBAF-49A5-B866-4E8EBABF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DB2-573E-46B4-ABCE-0F299F88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A368-A983-4F5C-97D2-146232FB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85DC-D6BE-4C9F-9014-1C60B130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D20E-0C0A-4329-9489-FE371DF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71D9-1E86-462F-B070-E994D05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CABD-E600-4D3F-9138-B175BB19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589F-2AC6-490F-9453-668C937E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097-AEBA-4591-AF24-1FA91C7C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E19-EB9B-4DDA-B3F7-2BA937B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597-AD49-4B4E-84D2-40E99C7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658E-FCBE-4DA2-8193-1E63E8D8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47B-E0B7-4F00-8EA5-999C29C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F1E-7E2F-435D-A1A6-627A9BCD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FDF5-5135-420C-AA9F-8B97C8E1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C94A-182E-4153-ADE4-4F7DE322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3E93-19AB-4D61-A112-093C0CA7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4D24-0CA3-4D36-A10E-5FAD7825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5557-F278-4646-867F-9D6BF22E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251F-F764-47BE-9946-E77CF4F3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E2D-38C0-42A2-840C-9FC869B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21B0-3E4E-448E-8AF3-669C3A4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3AEF-5328-4FB6-A11C-BE2D68AA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0D903-D247-4538-990C-CEA3D430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7E3A-FF4A-48AE-88B3-BE55CFC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30E2-7C8B-48E3-BF23-4827F348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DA48-62E7-453E-931A-2963936F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A2187-590C-4E0D-ACC5-708BD523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4F2E-D70A-4C8B-93F1-9E8D1ABE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5DE7-211D-486A-B729-99EDCC93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CC34-1D13-4D7D-A9FE-41C7608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8A5-13C8-4603-B579-7DB52326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A9BF-BB54-4DF2-AC4E-00D299B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6F11-5E85-4D64-A5D8-C3631FAA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121D-B4E5-4E6A-9DFE-C98DEE81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907C-4C95-43CF-8327-216B1AA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8FE1-939E-480E-B5B4-7E3A30C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D3B2-4890-43E6-AABC-692323EE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D9F4-7BCC-4F56-B010-D4AD572A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89D4-661C-4E27-8155-17EBD190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92E7-3BAD-4E2E-A652-AFC8634E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9A2-5724-46B9-8B79-510B95A3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296-C65C-443F-BFC2-2208B4F5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17E-B5BA-4CD3-BF01-93671F67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629-8A4E-4E94-991E-F3356C4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FDF-C53B-4B99-9DFC-9F3492D2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06E4-2368-4508-84FC-F27A73BACB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85F1-1F45-408D-BB2F-1CF6846B9A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94F-EFC9-4E72-A031-A61AD75213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8BE6-7039-47D9-931E-CFC04BA454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326880" y="2286000"/>
            <a:ext cx="7317000" cy="2584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ая соединительная линия 4"/>
          <p:cNvSpPr/>
          <p:nvPr/>
        </p:nvSpPr>
        <p:spPr>
          <a:xfrm>
            <a:off x="3786120" y="4500720"/>
            <a:ext cx="12146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6"/>
          <p:cNvSpPr/>
          <p:nvPr/>
        </p:nvSpPr>
        <p:spPr>
          <a:xfrm>
            <a:off x="3714840" y="4500720"/>
            <a:ext cx="12142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285840" y="2004840"/>
            <a:ext cx="828684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7425000" cy="2509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785880" y="653400"/>
            <a:ext cx="7143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истор с сопротивлени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ключен к источнику тока с внутренним сопротивлени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ила тока в цепи равн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Чему равны ЭДС источника и напряжение на его вывод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ите соответствие между физическими величинами  и формулами, по которым их можно рассчитать. К каждой позиции первого столбца подберите соответствующую позицию второго и запишите в таблицу выбранные цифры под соответствующи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0200" y="4714920"/>
          <a:ext cx="2857680" cy="426960"/>
        </p:xfrm>
        <a:graphic>
          <a:graphicData uri="http://schemas.openxmlformats.org/drawingml/2006/table">
            <a:tbl>
              <a:tblPr/>
              <a:tblGrid>
                <a:gridCol w="1419480"/>
                <a:gridCol w="14382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3"/>
          <p:cNvSpPr/>
          <p:nvPr/>
        </p:nvSpPr>
        <p:spPr>
          <a:xfrm>
            <a:off x="928800" y="307224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ЧЕСКАЯ ВЕЛИЧИ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571680" y="3573720"/>
            <a:ext cx="757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ЭДС источн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4"/>
              <p:cNvSpPr txBox="1"/>
              <p:nvPr/>
            </p:nvSpPr>
            <p:spPr>
              <a:xfrm>
                <a:off x="6286680" y="3643200"/>
                <a:ext cx="190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2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9"/>
              <p:cNvSpPr txBox="1"/>
              <p:nvPr/>
            </p:nvSpPr>
            <p:spPr>
              <a:xfrm>
                <a:off x="6286680" y="3929040"/>
                <a:ext cx="2286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8"/>
              <p:cNvSpPr txBox="1"/>
              <p:nvPr/>
            </p:nvSpPr>
            <p:spPr>
              <a:xfrm>
                <a:off x="6286680" y="4143240"/>
                <a:ext cx="618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7"/>
              <p:cNvSpPr txBox="1"/>
              <p:nvPr/>
            </p:nvSpPr>
            <p:spPr>
              <a:xfrm>
                <a:off x="6286680" y="4286160"/>
                <a:ext cx="4665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0"/>
          <p:cNvSpPr/>
          <p:nvPr/>
        </p:nvSpPr>
        <p:spPr>
          <a:xfrm>
            <a:off x="428760" y="3862800"/>
            <a:ext cx="607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Напряжение на выводах источн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1"/>
          <p:cNvSpPr/>
          <p:nvPr/>
        </p:nvSpPr>
        <p:spPr>
          <a:xfrm>
            <a:off x="5572080" y="641880"/>
            <a:ext cx="292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42120" y="867240"/>
            <a:ext cx="84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728676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58760" y="2000160"/>
            <a:ext cx="7853400" cy="342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7858080" cy="2917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7680240" cy="2262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8265960" cy="2786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0040" y="1916280"/>
            <a:ext cx="7750080" cy="2941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12-03-11T14:42:16Z</dcterms:modified>
  <cp:revision>21</cp:revision>
  <dc:subject/>
  <dc:title>№3 </dc:title>
</cp:coreProperties>
</file>