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lick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98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520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6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98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520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757-5476-47B4-AC83-95A81E87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1CD-FA13-418D-8134-42F49D1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82D-A58E-4F8C-B98D-0224C484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156-BE7C-454C-B969-6E5523CF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D0B-0DBA-4594-9438-E38C9D8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720" y="44280"/>
            <a:ext cx="91803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181-78C1-46C9-A7CD-92BB472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FDB-66AC-4D66-A2DA-E0003B8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2C3-93A9-4AC8-98CE-DA51912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BF1-BB1B-4927-AA64-CE57149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380-66C0-4EAC-9DD2-56F54B7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202-FC26-427C-824D-6042A535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298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520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76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298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520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2B0-EC32-44BB-8F09-46E48028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720" y="44280"/>
            <a:ext cx="91803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BEF-CE56-4A34-8049-AA0BAC66A8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440" y="16765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Архитектура ПК</a:t>
            </a:r>
            <a:endParaRPr b="1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91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ХАРАКТЕРИСТИКИ ПРОЦЕССОРА</a:t>
            </a:r>
            <a:endParaRPr b="1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640" y="1268280"/>
            <a:ext cx="8937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Микропроцессоры различаются рядом важных характеристик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тактовой частотой обработки информации;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разрядностью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актовая частота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называют интервал времени между двумя последовательными импульсами электрического тока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Эти импульсы вырабатывает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вый генератор частоты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расположенный на системной плате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вая частота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– это количество тактов в секунду и измеряется в мегагерцах(1МГц= 1 млн тактов/сек).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азрядность процессора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азрядность процессора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- это число битов, обрабатываемых процессором одновременно. Процессор может быть 8-, 16-, 32- и 64-разрядным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месте с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ыстродействием 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разрядность характеризует объем информации, перерабатываемый процессором компьютера за единицу времени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Устройство памяти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Память компьютера построена из двоичных запоминающих элементов -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итов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объединенных в группы по 8 битов, которые называются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айтами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(Единицы измерения памяти совпадают с единицами измерения информации).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се байты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онумерованы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Номер байта называется его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адресом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Устройства памяти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Широко используются и более крупные производные единицы объема памяти: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Кило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Мег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Гиг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а также, в последнее время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Тер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ет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Различают два основных вида памяти -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внутреннюю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внешнюю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утрення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сновная память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внутренняя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располагается внутри системного блока. Она является обязательной составной частью любого компьютера, реализуется в виде электронных микросхем и в персональных компьютерах располагается на материнской плате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нутренняя память состоит из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остоянной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еративной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еративная память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ОЗУ, англ. RAM, Random Access Memory — память с произвольным доступом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то быстрое запоминающее устройство не очень большого объёма, непосредственно связанное с процессором и предназначенное для записи, считывания и хранения выполняемых программ и данных, обрабатываемых этими программами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перативная память используется </a:t>
            </a:r>
            <a:r>
              <a:rPr b="1" i="1" lang="ru-RU" sz="3400" spc="-1" strike="noStrike" u="sng">
                <a:solidFill>
                  <a:srgbClr val="ffffff"/>
                </a:solidFill>
                <a:uFillTx/>
                <a:latin typeface="Tahoma"/>
              </a:rPr>
              <a:t>только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для </a:t>
            </a:r>
            <a:r>
              <a:rPr b="1" i="1" lang="ru-RU" sz="3400" spc="-1" strike="noStrike" u="sng">
                <a:solidFill>
                  <a:srgbClr val="ffffff"/>
                </a:solidFill>
                <a:uFillTx/>
                <a:latin typeface="Tahoma"/>
              </a:rPr>
              <a:t>временного хранения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данных и программ, так как, когда машина выключается, все, что находилось в ОЗУ, пропадает. Доступ к элементам оперативной памяти прямой — это означает, что каждый байт памяти имеет свой индивидуальный адрес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бъем ОЗУ обычно составляет от 32 до 2 Гбайт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Модули памяти характеризуются такими параметрами, как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бъе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(16, 32, 64, 128, 256 или 512 Мбайт)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число микросхе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аспортная частота 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(100 или 133 МГц)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время доступа к данны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(6 или 7 наносекунд)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число контактов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(72, 168 или 184).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  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эш-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Кэш (англ. cache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ил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сверхоперативная память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очень быстрое ЗУ небольшого объёма, которое используется при обмене данными между микропроцессором и оперативной памятью для компенсации разницы в скорости обработки информации процессором и несколько менее быстродействующей оперативной памятью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Архитектура ПК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Tahoma"/>
              </a:rPr>
              <a:t>Под архитектурой компьютера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будем понимать функциональную организацию компьютера, т.е. описание устройств, принципы их работы, информационные связи и взаимное соединение основных логических узлов компьютера: </a:t>
            </a:r>
            <a:r>
              <a:rPr b="0" i="1" lang="ru-RU" sz="3600" spc="-1" strike="noStrike">
                <a:solidFill>
                  <a:srgbClr val="003366"/>
                </a:solidFill>
                <a:latin typeface="Tahoma"/>
              </a:rPr>
              <a:t>процессора, оперативной памяти и внешних устройств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ЗУ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англ. ROM, Read Only Memory — память только для чтения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нергонезависимая память, используется для хранения данных, которые никогда не потребуют изменения. Содержание памяти специальным образом "зашивается" в устройстве при его изготовлении для постоянного хранения. Из ПЗУ можно только читать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Прежде всего в постоянную память записывают программу управления работой самого процессора. В ПЗУ находятся программы управления дисплеем, клавиатурой, принтером, внешней памятью, программы запуска и остановки компьютера, тестирования устройств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К постоянному ЗУ относится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CMOS RAM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память с невысоким быстродействием и минимальным энергопотреблением от батарейки. Используется для хранения информации о конфигурации и составе оборудования компьютера, а также о режимах его работы.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Содержимое CMOS изменяется специальной программой Setup, находящейся в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BIOS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англ. Setup — устанавливать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Flash Memory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нергонезависимая память, допускающая многократ-ную перезапись своего содержимо-го с дискеты. Ее важнейшая микросхема —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BIOS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базовая система ввода-вывода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совокуп-ность программ, предназначенных для автоматического тестирования устройств после включения питания компьютера и загрузки операцион-ной системы в оперативную память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ео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8937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VRAM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разновидность оперативного ЗУ, в котором хранятся закодированные изображения. Это ЗУ организовано так, что его содержимое доступно сразу двум устройствам — процессору и дисплею. Поэтому изображение на экране меняется одновременно с обновлением видеоданных в памяти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Функциональная схема ПК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7" name="Group 44"/>
          <p:cNvGrpSpPr/>
          <p:nvPr/>
        </p:nvGrpSpPr>
        <p:grpSpPr>
          <a:xfrm>
            <a:off x="0" y="1557360"/>
            <a:ext cx="9144000" cy="4577400"/>
            <a:chOff x="0" y="1557360"/>
            <a:chExt cx="9144000" cy="4577400"/>
          </a:xfrm>
        </p:grpSpPr>
        <p:sp>
          <p:nvSpPr>
            <p:cNvPr id="128" name="Line 26"/>
            <p:cNvSpPr/>
            <p:nvPr/>
          </p:nvSpPr>
          <p:spPr>
            <a:xfrm>
              <a:off x="0" y="248904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0" y="29224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2987640" y="24177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МАГИСТРАЛЬ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V="1">
              <a:off x="1692360" y="198900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 flipV="1">
              <a:off x="126036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 flipV="1">
              <a:off x="342108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 flipV="1">
              <a:off x="558180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 flipV="1">
              <a:off x="774072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 flipV="1">
              <a:off x="7451640" y="198900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8"/>
            <p:cNvSpPr/>
            <p:nvPr/>
          </p:nvSpPr>
          <p:spPr>
            <a:xfrm>
              <a:off x="684360" y="1557360"/>
              <a:ext cx="2016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роцессо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6012000" y="1557360"/>
              <a:ext cx="2771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Внутренняя памя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40"/>
            <p:cNvSpPr/>
            <p:nvPr/>
          </p:nvSpPr>
          <p:spPr>
            <a:xfrm>
              <a:off x="179280" y="3429000"/>
              <a:ext cx="1656000" cy="2705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ввода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лавиатур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ышь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икрофон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кане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Цифровая камер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Джойст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195640" y="3429000"/>
              <a:ext cx="2376360" cy="1608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Внешняя память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ГМД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ЖМД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Tahoma"/>
                </a:rPr>
                <a:t>CD-ROM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Tahoma"/>
                </a:rPr>
                <a:t>DVD-ROM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5003640" y="3429000"/>
              <a:ext cx="1656000" cy="2157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вывода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онито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ринте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Акустические колонки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лотте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7308720" y="3429000"/>
              <a:ext cx="1656000" cy="1882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приема/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ередач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етевая плат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од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се, что накапливается за многолетнюю работу на компьютере (программы, данные, графика, документы и др.), хранится именно во внешней памяти. При отключении питания компьютера внешняя память, в отличие от оперативной, сохраняет помещенную в нее информацию сколь угодно долго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бмениваться информацией непосредственно с процессором ВЗУ не могут. Если возникает необходимость использования, то на время обработки нужная информация загружается в оперативную память, которая обменивается ею непосредственно с процессором. Из оперативной памяти информация для хранения снова записывается в ВЗУ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Внешняя память по сравнению с оперативной работает на несколько порядков медленнее, так как представляет собой не электронные, а электромеханические устройства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 зависимости от технологии записи, хранения и воспроизведения инфор-мации устройства внешней памяти бывают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магнитны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тически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смешанные -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магнитно-оптически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 По способу доступа к информации устройства внешней памяти делят на устройства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ямого доступа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дисковые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устройства последова-тельного доступа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ленточные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бщность архитектуры разных компьютеров обеспечивает их совместимость с точки зрения пользователя.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8" descr="tipy"/>
          <p:cNvPicPr/>
          <p:nvPr/>
        </p:nvPicPr>
        <p:blipFill>
          <a:blip r:embed="rId1"/>
          <a:srcRect l="0" t="0" r="32771" b="0"/>
          <a:stretch/>
        </p:blipFill>
        <p:spPr>
          <a:xfrm>
            <a:off x="3348000" y="4508640"/>
            <a:ext cx="280836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85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Для работы с внешней памятью необходимо наличие накопителя (устройства, обеспечивающего запись и считывание информации) и носителя (устройства хранения информации)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5ffff"/>
                </a:solidFill>
                <a:latin typeface="Tahoma"/>
              </a:rPr>
              <a:t>Основные характеристики ВЗУ</a:t>
            </a:r>
            <a:r>
              <a:rPr b="1" lang="ru-RU" sz="4200" spc="-1" strike="noStrike">
                <a:solidFill>
                  <a:srgbClr val="e5ffff"/>
                </a:solidFill>
                <a:latin typeface="Tahoma"/>
                <a:ea typeface="Times New Roman"/>
              </a:rPr>
              <a:t>:</a:t>
            </a:r>
            <a:endParaRPr b="1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295280"/>
          <a:ext cx="8763120" cy="4098960"/>
        </p:xfrm>
        <a:graphic>
          <a:graphicData uri="http://schemas.openxmlformats.org/drawingml/2006/table">
            <a:tbl>
              <a:tblPr/>
              <a:tblGrid>
                <a:gridCol w="2666880"/>
                <a:gridCol w="3886200"/>
                <a:gridCol w="2210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 нос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ормационнная ём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орость обм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к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4 Мбай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, 300 и 500 К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нчест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 10 Гбайт до 100 Гбай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60 Мбайт/сек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D-ROM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50 Мбай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7,5 Мбайт/сек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нчестер (НЖМД)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ani3.avi" descr=""/>
          <p:cNvPicPr/>
          <p:nvPr/>
        </p:nvPicPr>
        <p:blipFill>
          <a:blip r:embed="rId1"/>
          <a:stretch/>
        </p:blipFill>
        <p:spPr>
          <a:xfrm>
            <a:off x="934920" y="119700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Дисковод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ani2.avi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2">
                                  <p:stCondLst>
                                    <p:cond delay="50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D-ROM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ani4.avi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АССИЧЕСКАЯ АРХИТЕКТУРА ФОН НЕЙМАНА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есмотря на разнообразие существующих в настоящее время ЭВМ, в основу их построения и работы заложены общие функциональные принципы, которые впервые были сформулированы американским математиком </a:t>
            </a: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Джоном фон Нейманом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 представлены им еще в 1945 году в "Предварительном докладе о машине EDVAC"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1. Принцип общего устройства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Для того, чтобы устройство было универсальным средством обработки информации, оно должно состоять из следующих частей: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арифметико-логического устройства (АЛУ)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устройства управления (УУ)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оперативной памяти (ОП)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устройств ввода-вывода (УВВ).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А также быть электронным, а не механическим, и работать в двоичной системе счислен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2. Принцип произвольного доступа к основной памяти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амять</a:t>
            </a: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 - это совокупность ячеек с адресами, где хранится информация, закодированная двоичными числами. И каждому устройству в любой момент доступна любая ячейка основной памяти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3. Принцип хранимой программы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Каждая команда кодируется в двоичном коде в виде последовательности 0 и 1, и может быть помещена в память компьютера. Таким образом, программа, представляющая собой набор команд, хранится в памяти вместе с данными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4. Принцип программного управления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ЭВМ может выполнять последовательность команд, находящуюся в памяти машины, без участия человека, т.е. автоматически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РОЦЕССОР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937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Та часть процессора, которая выполняет команды, называетс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рифметико-логическим устройством (АЛУ)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а другая его часть, выполняющая функции управления устройствами, называетс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ройством управления (УУ)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. Обычно эти два устройства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выделяются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чисто условно, конструктивно они не разделены.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 составе процессора находится еще несколько устройств, называемых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ми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6:19:26Z</dcterms:created>
  <dc:creator>Anna</dc:creator>
  <dc:description/>
  <dc:language>en-US</dc:language>
  <cp:lastModifiedBy>Володя</cp:lastModifiedBy>
  <dcterms:modified xsi:type="dcterms:W3CDTF">2012-09-06T17:06:09Z</dcterms:modified>
  <cp:revision>16</cp:revision>
  <dc:subject/>
  <dc:title>Архитектура ПК</dc:title>
</cp:coreProperties>
</file>